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691813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-35892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Helvetic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20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000" y="4051800"/>
            <a:ext cx="98820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405180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41760" y="405180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9160" y="156168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60320" y="156168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8000" y="405180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9160" y="405180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60320" y="405180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8000" y="1561680"/>
            <a:ext cx="98820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20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9709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8000" y="405180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41760" y="405180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000" y="4051800"/>
            <a:ext cx="98820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0360" y="360360"/>
            <a:ext cx="9972720" cy="1109520"/>
          </a:xfrm>
          <a:prstGeom prst="roundRect">
            <a:avLst>
              <a:gd name="adj" fmla="val 139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Helvetic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78000" y="1561680"/>
            <a:ext cx="98820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2" marL="107964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3" marL="136692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4" marL="1655640" indent="-431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5" marL="1655640" indent="-431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6" marL="1655640" indent="-431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8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" name=""/>
          <p:cNvSpPr/>
          <p:nvPr/>
        </p:nvSpPr>
        <p:spPr>
          <a:xfrm>
            <a:off x="5087880" y="6691320"/>
            <a:ext cx="3079800" cy="4269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Helvetic"/>
              </a:rPr>
              <a:t>Department of Computing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Helvetic"/>
              </a:rPr>
              <a:t>Edmonton, Alberta, Canada T6G 2E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2360" y="6661080"/>
            <a:ext cx="4006800" cy="463680"/>
          </a:xfrm>
          <a:prstGeom prst="roundRect">
            <a:avLst>
              <a:gd name="adj" fmla="val 3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400" spc="-1" strike="noStrike">
                <a:solidFill>
                  <a:srgbClr val="800000"/>
                </a:solidFill>
                <a:latin typeface="Helvetic"/>
              </a:rPr>
              <a:t>FILE: TRA.odp  /  30/06/06  /  Page </a:t>
            </a:r>
            <a:fld id="{1C1D34FE-6BD0-456E-A05F-7F7333053704}" type="slidenum">
              <a:rPr b="1" lang="en-GB" sz="1400" spc="-1" strike="noStrike">
                <a:solidFill>
                  <a:srgbClr val="800000"/>
                </a:solidFill>
                <a:latin typeface="Helvet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400" spc="-1" strike="noStrike">
                <a:solidFill>
                  <a:srgbClr val="800000"/>
                </a:solidFill>
                <a:latin typeface="Helvetic"/>
              </a:rPr>
              <a:t>{demyen|mburo}@cs.ualberta.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9"/>
          <a:stretch/>
        </p:blipFill>
        <p:spPr>
          <a:xfrm>
            <a:off x="360360" y="6523200"/>
            <a:ext cx="9972720" cy="72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0"/>
          <a:stretch/>
        </p:blipFill>
        <p:spPr>
          <a:xfrm>
            <a:off x="8305920" y="6707160"/>
            <a:ext cx="190476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4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Efficient Traignaulation-Based Pathfinding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8000" y="1561680"/>
            <a:ext cx="98834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glas Demyen and Michael B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Constrained Triangulatio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55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where certain (constrained) edges are required to be in the triangul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n other (unconstrained) edges are added as befor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strained Delaunay Triangulations maximize the minimum angle as much as possible while keeping constrained edg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18" name=""/>
          <p:cNvSpPr/>
          <p:nvPr/>
        </p:nvSpPr>
        <p:spPr>
          <a:xfrm>
            <a:off x="5402160" y="1800360"/>
            <a:ext cx="4319640" cy="180000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54960" y="3784680"/>
            <a:ext cx="1440" cy="352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500960" y="2297160"/>
            <a:ext cx="1255680" cy="3920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24640" y="2909880"/>
            <a:ext cx="847800" cy="23508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830920" y="2232000"/>
            <a:ext cx="108000" cy="8222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90040" y="2779560"/>
            <a:ext cx="247680" cy="4176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02160" y="4321080"/>
            <a:ext cx="4319640" cy="180036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500960" y="4816440"/>
            <a:ext cx="1255680" cy="3920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4640" y="5429160"/>
            <a:ext cx="847800" cy="23508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830920" y="4751280"/>
            <a:ext cx="108000" cy="8226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690040" y="5299200"/>
            <a:ext cx="247680" cy="4172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02160" y="4319640"/>
            <a:ext cx="534960" cy="43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402160" y="5557680"/>
            <a:ext cx="430200" cy="563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412960" y="4316400"/>
            <a:ext cx="420840" cy="1230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845320" y="5425920"/>
            <a:ext cx="677880" cy="1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37120" y="4749840"/>
            <a:ext cx="561960" cy="677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510240" y="5203800"/>
            <a:ext cx="1005120" cy="22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359480" y="5203440"/>
            <a:ext cx="157320" cy="46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935320" y="4746240"/>
            <a:ext cx="1568520" cy="46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59480" y="5662440"/>
            <a:ext cx="1565280" cy="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402160" y="5425920"/>
            <a:ext cx="1122480" cy="6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02160" y="5660640"/>
            <a:ext cx="1944720" cy="46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358040" y="5284800"/>
            <a:ext cx="1333440" cy="37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02400" y="5205240"/>
            <a:ext cx="1187640" cy="6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8677440" y="4800240"/>
            <a:ext cx="91800" cy="485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37120" y="4749840"/>
            <a:ext cx="2818080" cy="6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767800" y="4317480"/>
            <a:ext cx="952560" cy="4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937120" y="4317840"/>
            <a:ext cx="3784680" cy="433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924760" y="5702400"/>
            <a:ext cx="795600" cy="417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59480" y="566244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690040" y="4317480"/>
            <a:ext cx="1030320" cy="95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937720" y="4317840"/>
            <a:ext cx="782640" cy="13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Dynamic Constrained Delaunay Triangulations (DCDT)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17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rcelo Kallmann's DCDT software can repair a triangulation dynamically when constraints chang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pairs can be made using local information allowing it to work in a real-time setting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06600" y="3419640"/>
            <a:ext cx="947232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-Based Pathfinding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5022720" cy="52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Using a constrained triangulation with barriers represented as constrai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ind which triangle the start (and goal) point is i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Search adjacent triangles across unconstrained edg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inds a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channel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of triangles inside which we can easily determine the shortest path 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55" name=""/>
          <p:cNvSpPr/>
          <p:nvPr/>
        </p:nvSpPr>
        <p:spPr>
          <a:xfrm>
            <a:off x="6419880" y="1903320"/>
            <a:ext cx="2570040" cy="4424400"/>
          </a:xfrm>
          <a:custGeom>
            <a:avLst/>
            <a:gdLst/>
            <a:ahLst/>
            <a:rect l="l" t="t" r="r" b="b"/>
            <a:pathLst>
              <a:path w="7141" h="12288">
                <a:moveTo>
                  <a:pt x="1450" y="0"/>
                </a:moveTo>
                <a:lnTo>
                  <a:pt x="0" y="2138"/>
                </a:lnTo>
                <a:lnTo>
                  <a:pt x="3190" y="3842"/>
                </a:lnTo>
                <a:lnTo>
                  <a:pt x="435" y="6741"/>
                </a:lnTo>
                <a:lnTo>
                  <a:pt x="761" y="10801"/>
                </a:lnTo>
                <a:lnTo>
                  <a:pt x="3190" y="12287"/>
                </a:lnTo>
                <a:lnTo>
                  <a:pt x="6488" y="11236"/>
                </a:lnTo>
                <a:lnTo>
                  <a:pt x="7140" y="9025"/>
                </a:lnTo>
                <a:lnTo>
                  <a:pt x="4422" y="7937"/>
                </a:lnTo>
                <a:lnTo>
                  <a:pt x="4567" y="6850"/>
                </a:lnTo>
                <a:lnTo>
                  <a:pt x="6560" y="4965"/>
                </a:lnTo>
                <a:lnTo>
                  <a:pt x="6959" y="3153"/>
                </a:lnTo>
                <a:lnTo>
                  <a:pt x="5437" y="942"/>
                </a:lnTo>
                <a:lnTo>
                  <a:pt x="3008" y="1015"/>
                </a:lnTo>
                <a:lnTo>
                  <a:pt x="2610" y="145"/>
                </a:lnTo>
                <a:lnTo>
                  <a:pt x="1522" y="36"/>
                </a:lnTo>
                <a:lnTo>
                  <a:pt x="1450" y="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566120" y="5153040"/>
            <a:ext cx="1425600" cy="11746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567560" y="4760640"/>
            <a:ext cx="442800" cy="1568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692760" y="4761000"/>
            <a:ext cx="1317600" cy="10332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75400" y="4330800"/>
            <a:ext cx="1434960" cy="4302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573960" y="4328640"/>
            <a:ext cx="1490400" cy="42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566120" y="3286080"/>
            <a:ext cx="498240" cy="1085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67560" y="3287880"/>
            <a:ext cx="1227240" cy="404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67560" y="3051000"/>
            <a:ext cx="1357200" cy="238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566120" y="2243160"/>
            <a:ext cx="812880" cy="10447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02400" y="2270160"/>
            <a:ext cx="77760" cy="1004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430680" y="2270160"/>
            <a:ext cx="1073160" cy="404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405120" y="1955880"/>
            <a:ext cx="955800" cy="7174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27840" y="1890720"/>
            <a:ext cx="1827360" cy="4071960"/>
          </a:xfrm>
          <a:custGeom>
            <a:avLst/>
            <a:gdLst/>
            <a:ahLst/>
            <a:rect l="l" t="t" r="r" b="b"/>
            <a:pathLst>
              <a:path w="5075" h="11309">
                <a:moveTo>
                  <a:pt x="0" y="0"/>
                </a:moveTo>
                <a:lnTo>
                  <a:pt x="2102" y="3697"/>
                </a:lnTo>
                <a:lnTo>
                  <a:pt x="2138" y="4059"/>
                </a:lnTo>
                <a:lnTo>
                  <a:pt x="2718" y="8010"/>
                </a:lnTo>
                <a:lnTo>
                  <a:pt x="2935" y="8372"/>
                </a:lnTo>
                <a:lnTo>
                  <a:pt x="5074" y="11308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19760" y="1681200"/>
            <a:ext cx="352440" cy="35244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85280" y="5792760"/>
            <a:ext cx="339480" cy="339840"/>
          </a:xfrm>
          <a:prstGeom prst="star5">
            <a:avLst/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-Based Pathfinding:</a:t>
            </a:r>
            <a:br>
              <a:rPr sz="3600"/>
            </a:b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dvantage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78000" y="156204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medies grid-based methods' deficiency with off-axis barrier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presenting detailed areas better doesn't complicate “open” area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have much fewer cells and are more accurate than grid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dvantages for multiple object pathfinding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73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9640" y="2911320"/>
            <a:ext cx="365400" cy="36540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-Based Pathfinding: Disadvantage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urved obstacle barriers must be approximated by straight segme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e do not know what path we will take through the triangles until after we have found the goa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Can lead to either suboptimal paths or multiple paths to node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07" name=""/>
          <p:cNvSpPr/>
          <p:nvPr/>
        </p:nvSpPr>
        <p:spPr>
          <a:xfrm>
            <a:off x="5727600" y="2192400"/>
            <a:ext cx="2857680" cy="3274920"/>
          </a:xfrm>
          <a:custGeom>
            <a:avLst/>
            <a:gdLst/>
            <a:ahLst/>
            <a:rect l="l" t="t" r="r" b="b"/>
            <a:pathLst>
              <a:path w="7939" h="9098">
                <a:moveTo>
                  <a:pt x="2320" y="0"/>
                </a:moveTo>
                <a:lnTo>
                  <a:pt x="0" y="2537"/>
                </a:lnTo>
                <a:lnTo>
                  <a:pt x="1704" y="5183"/>
                </a:lnTo>
                <a:lnTo>
                  <a:pt x="326" y="6995"/>
                </a:lnTo>
                <a:lnTo>
                  <a:pt x="616" y="9025"/>
                </a:lnTo>
                <a:lnTo>
                  <a:pt x="6270" y="9097"/>
                </a:lnTo>
                <a:lnTo>
                  <a:pt x="7938" y="6452"/>
                </a:lnTo>
                <a:lnTo>
                  <a:pt x="5944" y="4023"/>
                </a:lnTo>
                <a:lnTo>
                  <a:pt x="5509" y="2610"/>
                </a:lnTo>
                <a:lnTo>
                  <a:pt x="5836" y="1051"/>
                </a:lnTo>
                <a:lnTo>
                  <a:pt x="2356" y="36"/>
                </a:lnTo>
                <a:lnTo>
                  <a:pt x="2320" y="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830920" y="4708440"/>
            <a:ext cx="2155680" cy="760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830560" y="4527720"/>
            <a:ext cx="2755800" cy="209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7720" y="4044960"/>
            <a:ext cx="2257560" cy="48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338520" y="3639960"/>
            <a:ext cx="1530360" cy="4176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3117960"/>
            <a:ext cx="2152800" cy="52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726160" y="3117960"/>
            <a:ext cx="1985760" cy="15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725800" y="2570040"/>
            <a:ext cx="2090520" cy="547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0200" y="2192400"/>
            <a:ext cx="1292040" cy="327492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6548040" y="2190240"/>
            <a:ext cx="498600" cy="326556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07040" y="2205000"/>
            <a:ext cx="430200" cy="3237120"/>
          </a:xfrm>
          <a:custGeom>
            <a:avLst/>
            <a:gdLst/>
            <a:ahLst/>
            <a:rect l="l" t="t" r="r" b="b"/>
            <a:pathLst>
              <a:path w="1197" h="8990">
                <a:moveTo>
                  <a:pt x="1196" y="0"/>
                </a:moveTo>
                <a:lnTo>
                  <a:pt x="1124" y="5075"/>
                </a:lnTo>
                <a:lnTo>
                  <a:pt x="1051" y="5364"/>
                </a:lnTo>
                <a:lnTo>
                  <a:pt x="0" y="8989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67320" y="2035080"/>
            <a:ext cx="365400" cy="36540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75280" y="5545080"/>
            <a:ext cx="254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?</a:t>
            </a: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  ?</a:t>
            </a: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 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Funnel Algorithm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77640" y="1562040"/>
            <a:ext cx="5383080" cy="56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o find the exact path through a channel of triangles, we use the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funnel algorithm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inds the shortest path in this simple polygon in time linear in the number of triangles in it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intains a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funnel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which contains the shortest path to the end of the channel so far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unnel is updated for each new vertex in the chann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22" name=""/>
          <p:cNvSpPr/>
          <p:nvPr/>
        </p:nvSpPr>
        <p:spPr>
          <a:xfrm>
            <a:off x="5924520" y="1747800"/>
            <a:ext cx="3522600" cy="1879560"/>
          </a:xfrm>
          <a:custGeom>
            <a:avLst/>
            <a:gdLst/>
            <a:ahLst/>
            <a:rect l="l" t="t" r="r" b="b"/>
            <a:pathLst>
              <a:path w="9787" h="5220">
                <a:moveTo>
                  <a:pt x="906" y="5110"/>
                </a:moveTo>
                <a:lnTo>
                  <a:pt x="0" y="3769"/>
                </a:lnTo>
                <a:lnTo>
                  <a:pt x="978" y="1486"/>
                </a:lnTo>
                <a:lnTo>
                  <a:pt x="3588" y="942"/>
                </a:lnTo>
                <a:lnTo>
                  <a:pt x="4965" y="2211"/>
                </a:lnTo>
                <a:lnTo>
                  <a:pt x="5473" y="833"/>
                </a:lnTo>
                <a:lnTo>
                  <a:pt x="7067" y="253"/>
                </a:lnTo>
                <a:lnTo>
                  <a:pt x="7394" y="1015"/>
                </a:lnTo>
                <a:lnTo>
                  <a:pt x="8227" y="0"/>
                </a:lnTo>
                <a:lnTo>
                  <a:pt x="9605" y="0"/>
                </a:lnTo>
                <a:lnTo>
                  <a:pt x="9786" y="4893"/>
                </a:lnTo>
                <a:lnTo>
                  <a:pt x="8880" y="4929"/>
                </a:lnTo>
                <a:lnTo>
                  <a:pt x="8409" y="4132"/>
                </a:lnTo>
                <a:lnTo>
                  <a:pt x="7285" y="5219"/>
                </a:lnTo>
                <a:lnTo>
                  <a:pt x="6560" y="5146"/>
                </a:lnTo>
                <a:lnTo>
                  <a:pt x="5763" y="3262"/>
                </a:lnTo>
                <a:lnTo>
                  <a:pt x="4494" y="4530"/>
                </a:lnTo>
                <a:lnTo>
                  <a:pt x="2863" y="2827"/>
                </a:lnTo>
                <a:lnTo>
                  <a:pt x="2283" y="4313"/>
                </a:lnTo>
                <a:lnTo>
                  <a:pt x="906" y="511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5908320" y="3103200"/>
            <a:ext cx="825480" cy="21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923080" y="2766960"/>
            <a:ext cx="1033200" cy="339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75520" y="2282760"/>
            <a:ext cx="677880" cy="48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953400" y="2087640"/>
            <a:ext cx="250560" cy="67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954840" y="2542680"/>
            <a:ext cx="757080" cy="2257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554960" y="2542680"/>
            <a:ext cx="156960" cy="8254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7708680" y="2528640"/>
            <a:ext cx="277560" cy="40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07400" y="2048040"/>
            <a:ext cx="92160" cy="874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996320" y="1852560"/>
            <a:ext cx="473040" cy="1057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285040" y="1836720"/>
            <a:ext cx="182520" cy="1765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295840" y="2100240"/>
            <a:ext cx="290520" cy="1474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547120" y="2125800"/>
            <a:ext cx="25560" cy="1503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8569440" y="2098440"/>
            <a:ext cx="382320" cy="11379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872560" y="1747800"/>
            <a:ext cx="92160" cy="1487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8964720" y="1746360"/>
            <a:ext cx="392040" cy="14904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9120240" y="1760400"/>
            <a:ext cx="247680" cy="17510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249960" y="2738520"/>
            <a:ext cx="704880" cy="83808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2240" y="1747800"/>
            <a:ext cx="2504880" cy="1762200"/>
          </a:xfrm>
          <a:custGeom>
            <a:avLst/>
            <a:gdLst/>
            <a:ahLst/>
            <a:rect l="l" t="t" r="r" b="b"/>
            <a:pathLst>
              <a:path w="6960" h="4894">
                <a:moveTo>
                  <a:pt x="6959" y="4893"/>
                </a:moveTo>
                <a:lnTo>
                  <a:pt x="5582" y="4095"/>
                </a:lnTo>
                <a:lnTo>
                  <a:pt x="2936" y="3226"/>
                </a:lnTo>
                <a:lnTo>
                  <a:pt x="0" y="2827"/>
                </a:lnTo>
                <a:lnTo>
                  <a:pt x="2175" y="2247"/>
                </a:lnTo>
                <a:lnTo>
                  <a:pt x="4567" y="1015"/>
                </a:lnTo>
                <a:lnTo>
                  <a:pt x="6741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24520" y="4340160"/>
            <a:ext cx="3522600" cy="1879560"/>
          </a:xfrm>
          <a:custGeom>
            <a:avLst/>
            <a:gdLst/>
            <a:ahLst/>
            <a:rect l="l" t="t" r="r" b="b"/>
            <a:pathLst>
              <a:path w="9787" h="5220">
                <a:moveTo>
                  <a:pt x="906" y="5110"/>
                </a:moveTo>
                <a:lnTo>
                  <a:pt x="0" y="3769"/>
                </a:lnTo>
                <a:lnTo>
                  <a:pt x="978" y="1486"/>
                </a:lnTo>
                <a:lnTo>
                  <a:pt x="3588" y="942"/>
                </a:lnTo>
                <a:lnTo>
                  <a:pt x="4965" y="2211"/>
                </a:lnTo>
                <a:lnTo>
                  <a:pt x="5473" y="833"/>
                </a:lnTo>
                <a:lnTo>
                  <a:pt x="7067" y="253"/>
                </a:lnTo>
                <a:lnTo>
                  <a:pt x="7394" y="1015"/>
                </a:lnTo>
                <a:lnTo>
                  <a:pt x="8227" y="0"/>
                </a:lnTo>
                <a:lnTo>
                  <a:pt x="9605" y="0"/>
                </a:lnTo>
                <a:lnTo>
                  <a:pt x="9786" y="4893"/>
                </a:lnTo>
                <a:lnTo>
                  <a:pt x="8880" y="4929"/>
                </a:lnTo>
                <a:lnTo>
                  <a:pt x="8409" y="4132"/>
                </a:lnTo>
                <a:lnTo>
                  <a:pt x="7285" y="5219"/>
                </a:lnTo>
                <a:lnTo>
                  <a:pt x="6560" y="5146"/>
                </a:lnTo>
                <a:lnTo>
                  <a:pt x="5763" y="3262"/>
                </a:lnTo>
                <a:lnTo>
                  <a:pt x="4494" y="4530"/>
                </a:lnTo>
                <a:lnTo>
                  <a:pt x="2863" y="2827"/>
                </a:lnTo>
                <a:lnTo>
                  <a:pt x="2283" y="4313"/>
                </a:lnTo>
                <a:lnTo>
                  <a:pt x="906" y="511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5908320" y="5695560"/>
            <a:ext cx="825480" cy="21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923080" y="5357880"/>
            <a:ext cx="1033200" cy="3394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75520" y="4875120"/>
            <a:ext cx="677880" cy="48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953400" y="4680000"/>
            <a:ext cx="250560" cy="67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954840" y="5133960"/>
            <a:ext cx="757080" cy="225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554960" y="5135400"/>
            <a:ext cx="156960" cy="825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7708680" y="5121000"/>
            <a:ext cx="277560" cy="40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07400" y="4640400"/>
            <a:ext cx="92160" cy="874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996320" y="4444920"/>
            <a:ext cx="473040" cy="1057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8285040" y="4429080"/>
            <a:ext cx="182520" cy="1765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295840" y="4692600"/>
            <a:ext cx="290520" cy="1474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547120" y="4718160"/>
            <a:ext cx="25560" cy="1503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8569440" y="4691160"/>
            <a:ext cx="382320" cy="1138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872560" y="4340160"/>
            <a:ext cx="92160" cy="1487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964720" y="4338360"/>
            <a:ext cx="392040" cy="1490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9120240" y="4352760"/>
            <a:ext cx="247680" cy="17510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249960" y="5330880"/>
            <a:ext cx="704880" cy="83808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42240" y="4340160"/>
            <a:ext cx="2975040" cy="1530360"/>
          </a:xfrm>
          <a:custGeom>
            <a:avLst/>
            <a:gdLst/>
            <a:ahLst/>
            <a:rect l="l" t="t" r="r" b="b"/>
            <a:pathLst>
              <a:path w="8265" h="4253">
                <a:moveTo>
                  <a:pt x="8264" y="4252"/>
                </a:moveTo>
                <a:lnTo>
                  <a:pt x="8264" y="4252"/>
                </a:lnTo>
                <a:lnTo>
                  <a:pt x="2936" y="3226"/>
                </a:lnTo>
                <a:lnTo>
                  <a:pt x="0" y="2827"/>
                </a:lnTo>
                <a:lnTo>
                  <a:pt x="2175" y="2247"/>
                </a:lnTo>
                <a:lnTo>
                  <a:pt x="4567" y="1015"/>
                </a:lnTo>
                <a:lnTo>
                  <a:pt x="6741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20000" y="3784680"/>
            <a:ext cx="1800" cy="35244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97760" y="2909880"/>
            <a:ext cx="2333520" cy="2872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950320" y="3222720"/>
            <a:ext cx="1380960" cy="4172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434520" y="3510000"/>
            <a:ext cx="898560" cy="522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24880" y="1877760"/>
            <a:ext cx="2608200" cy="680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9354960" y="1473120"/>
            <a:ext cx="692280" cy="3031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394920" y="1747800"/>
            <a:ext cx="534960" cy="15400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9447120" y="3298320"/>
            <a:ext cx="482760" cy="212760"/>
          </a:xfrm>
          <a:prstGeom prst="line">
            <a:avLst/>
          </a:prstGeom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394920" y="4340160"/>
            <a:ext cx="534960" cy="15400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9447120" y="5890680"/>
            <a:ext cx="482760" cy="212760"/>
          </a:xfrm>
          <a:prstGeom prst="line">
            <a:avLst/>
          </a:prstGeom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Modified Funnel Algorithm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or circular units of nonzero radiu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ceptually attach circles of equal radius around each vertex of the chann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sider segments tangent to these circles and arcs along them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72" name=""/>
          <p:cNvSpPr/>
          <p:nvPr/>
        </p:nvSpPr>
        <p:spPr>
          <a:xfrm>
            <a:off x="5924520" y="2360520"/>
            <a:ext cx="3522600" cy="1879560"/>
          </a:xfrm>
          <a:custGeom>
            <a:avLst/>
            <a:gdLst/>
            <a:ahLst/>
            <a:rect l="l" t="t" r="r" b="b"/>
            <a:pathLst>
              <a:path w="9787" h="5220">
                <a:moveTo>
                  <a:pt x="906" y="5110"/>
                </a:moveTo>
                <a:lnTo>
                  <a:pt x="0" y="3769"/>
                </a:lnTo>
                <a:lnTo>
                  <a:pt x="978" y="1486"/>
                </a:lnTo>
                <a:lnTo>
                  <a:pt x="3588" y="942"/>
                </a:lnTo>
                <a:lnTo>
                  <a:pt x="4965" y="2211"/>
                </a:lnTo>
                <a:lnTo>
                  <a:pt x="5473" y="833"/>
                </a:lnTo>
                <a:lnTo>
                  <a:pt x="7067" y="253"/>
                </a:lnTo>
                <a:lnTo>
                  <a:pt x="7394" y="1015"/>
                </a:lnTo>
                <a:lnTo>
                  <a:pt x="8227" y="0"/>
                </a:lnTo>
                <a:lnTo>
                  <a:pt x="9605" y="0"/>
                </a:lnTo>
                <a:lnTo>
                  <a:pt x="9786" y="4893"/>
                </a:lnTo>
                <a:lnTo>
                  <a:pt x="8880" y="4929"/>
                </a:lnTo>
                <a:lnTo>
                  <a:pt x="8409" y="4132"/>
                </a:lnTo>
                <a:lnTo>
                  <a:pt x="7285" y="5219"/>
                </a:lnTo>
                <a:lnTo>
                  <a:pt x="6560" y="5146"/>
                </a:lnTo>
                <a:lnTo>
                  <a:pt x="5763" y="3262"/>
                </a:lnTo>
                <a:lnTo>
                  <a:pt x="4494" y="4530"/>
                </a:lnTo>
                <a:lnTo>
                  <a:pt x="2863" y="2827"/>
                </a:lnTo>
                <a:lnTo>
                  <a:pt x="2283" y="4313"/>
                </a:lnTo>
                <a:lnTo>
                  <a:pt x="906" y="511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5908320" y="3714480"/>
            <a:ext cx="825480" cy="21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923080" y="3378240"/>
            <a:ext cx="1033200" cy="339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75520" y="2895480"/>
            <a:ext cx="677880" cy="48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53400" y="2700360"/>
            <a:ext cx="250560" cy="67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954840" y="3154320"/>
            <a:ext cx="757080" cy="225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554960" y="3153960"/>
            <a:ext cx="156960" cy="8254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7708680" y="3141360"/>
            <a:ext cx="277560" cy="40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07400" y="2660760"/>
            <a:ext cx="92160" cy="874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996320" y="2465280"/>
            <a:ext cx="473040" cy="1057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8285040" y="2449440"/>
            <a:ext cx="182520" cy="1765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295840" y="2712960"/>
            <a:ext cx="290520" cy="1474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547120" y="2738520"/>
            <a:ext cx="25560" cy="1503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8569440" y="2711520"/>
            <a:ext cx="382320" cy="1138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872560" y="2360520"/>
            <a:ext cx="92160" cy="1487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8964720" y="2358720"/>
            <a:ext cx="392040" cy="1490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9120240" y="2373120"/>
            <a:ext cx="247680" cy="17506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80160" y="358776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08880" y="376704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40520" y="275904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24520" y="3227400"/>
            <a:ext cx="31464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0520" y="2543040"/>
            <a:ext cx="314280" cy="31464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400880" y="383868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301140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32880" y="337032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24880" y="250668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20160" y="4019400"/>
            <a:ext cx="314280" cy="31464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07440" y="4054320"/>
            <a:ext cx="314280" cy="31464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299440" y="232740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443800" y="257976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732880" y="221940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804160" y="369576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948880" y="398304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272520" y="394668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199440" y="221940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49960" y="3220920"/>
            <a:ext cx="3301920" cy="979560"/>
          </a:xfrm>
          <a:custGeom>
            <a:avLst/>
            <a:gdLst/>
            <a:ahLst/>
            <a:rect l="l" t="t" r="r" b="b"/>
            <a:pathLst>
              <a:path w="9171" h="2719">
                <a:moveTo>
                  <a:pt x="0" y="2718"/>
                </a:moveTo>
                <a:lnTo>
                  <a:pt x="1667" y="181"/>
                </a:lnTo>
                <a:lnTo>
                  <a:pt x="1885" y="72"/>
                </a:lnTo>
                <a:lnTo>
                  <a:pt x="2102" y="0"/>
                </a:lnTo>
                <a:lnTo>
                  <a:pt x="2356" y="36"/>
                </a:lnTo>
                <a:lnTo>
                  <a:pt x="4857" y="471"/>
                </a:lnTo>
                <a:lnTo>
                  <a:pt x="5110" y="507"/>
                </a:lnTo>
                <a:lnTo>
                  <a:pt x="5183" y="544"/>
                </a:lnTo>
                <a:lnTo>
                  <a:pt x="7611" y="1305"/>
                </a:lnTo>
                <a:lnTo>
                  <a:pt x="7756" y="1413"/>
                </a:lnTo>
                <a:lnTo>
                  <a:pt x="9170" y="2102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45200" y="2503440"/>
            <a:ext cx="2414880" cy="822240"/>
          </a:xfrm>
          <a:custGeom>
            <a:avLst/>
            <a:gdLst/>
            <a:ahLst/>
            <a:rect l="l" t="t" r="r" b="b"/>
            <a:pathLst>
              <a:path w="6706" h="2284">
                <a:moveTo>
                  <a:pt x="6705" y="0"/>
                </a:moveTo>
                <a:lnTo>
                  <a:pt x="4530" y="1014"/>
                </a:lnTo>
                <a:lnTo>
                  <a:pt x="1993" y="2247"/>
                </a:lnTo>
                <a:lnTo>
                  <a:pt x="1812" y="2283"/>
                </a:lnTo>
                <a:lnTo>
                  <a:pt x="0" y="2029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le “Width”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502272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How do we know when an object of some radius can go through a channel?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easure the triangle widt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 distance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to the closest obstacle to vertex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betwee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edges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is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the diameter of the largest object that can fit through between those two edg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11" name=""/>
          <p:cNvSpPr/>
          <p:nvPr/>
        </p:nvSpPr>
        <p:spPr>
          <a:xfrm>
            <a:off x="5857920" y="1957320"/>
            <a:ext cx="2335320" cy="1069920"/>
          </a:xfrm>
          <a:custGeom>
            <a:avLst/>
            <a:gdLst/>
            <a:ahLst/>
            <a:rect l="l" t="t" r="r" b="b"/>
            <a:pathLst>
              <a:path w="6488" h="2973">
                <a:moveTo>
                  <a:pt x="0" y="0"/>
                </a:moveTo>
                <a:lnTo>
                  <a:pt x="1196" y="2972"/>
                </a:lnTo>
                <a:lnTo>
                  <a:pt x="6487" y="2066"/>
                </a:lnTo>
                <a:lnTo>
                  <a:pt x="0" y="72"/>
                </a:ln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45440" y="2573280"/>
            <a:ext cx="1735200" cy="1617840"/>
          </a:xfrm>
          <a:custGeom>
            <a:avLst/>
            <a:gdLst/>
            <a:ahLst/>
            <a:rect l="l" t="t" r="r" b="b"/>
            <a:pathLst>
              <a:path w="4822" h="4495">
                <a:moveTo>
                  <a:pt x="2574" y="0"/>
                </a:moveTo>
                <a:lnTo>
                  <a:pt x="0" y="2790"/>
                </a:lnTo>
                <a:lnTo>
                  <a:pt x="4821" y="4494"/>
                </a:lnTo>
                <a:lnTo>
                  <a:pt x="2610" y="0"/>
                </a:lnTo>
                <a:lnTo>
                  <a:pt x="2574" y="0"/>
                </a:lnTo>
              </a:path>
            </a:pathLst>
          </a:cu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32840" y="3564000"/>
            <a:ext cx="1735200" cy="1187280"/>
          </a:xfrm>
          <a:custGeom>
            <a:avLst/>
            <a:gdLst/>
            <a:ahLst/>
            <a:rect l="l" t="t" r="r" b="b"/>
            <a:pathLst>
              <a:path w="4822" h="3299">
                <a:moveTo>
                  <a:pt x="4821" y="1776"/>
                </a:moveTo>
                <a:lnTo>
                  <a:pt x="1450" y="3298"/>
                </a:ln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7920" y="4775040"/>
            <a:ext cx="2452680" cy="887400"/>
          </a:xfrm>
          <a:custGeom>
            <a:avLst/>
            <a:gdLst/>
            <a:ahLst/>
            <a:rect l="l" t="t" r="r" b="b"/>
            <a:pathLst>
              <a:path w="6815" h="2466">
                <a:moveTo>
                  <a:pt x="73" y="2465"/>
                </a:moveTo>
                <a:lnTo>
                  <a:pt x="2936" y="0"/>
                </a:lnTo>
                <a:lnTo>
                  <a:pt x="6814" y="2320"/>
                </a:lnTo>
                <a:lnTo>
                  <a:pt x="0" y="2465"/>
                </a:lnTo>
                <a:lnTo>
                  <a:pt x="73" y="2465"/>
                </a:lnTo>
              </a:path>
            </a:pathLst>
          </a:cu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97520" y="5610240"/>
            <a:ext cx="2374920" cy="522360"/>
          </a:xfrm>
          <a:custGeom>
            <a:avLst/>
            <a:gdLst/>
            <a:ahLst/>
            <a:rect l="l" t="t" r="r" b="b"/>
            <a:pathLst>
              <a:path w="6598" h="1451">
                <a:moveTo>
                  <a:pt x="6597" y="0"/>
                </a:moveTo>
                <a:lnTo>
                  <a:pt x="798" y="1450"/>
                </a:lnTo>
                <a:lnTo>
                  <a:pt x="0" y="109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0400" y="5427720"/>
            <a:ext cx="1904760" cy="1017360"/>
          </a:xfrm>
          <a:custGeom>
            <a:avLst/>
            <a:gdLst/>
            <a:ahLst/>
            <a:rect l="l" t="t" r="r" b="b"/>
            <a:pathLst>
              <a:path w="5292" h="2828">
                <a:moveTo>
                  <a:pt x="5291" y="0"/>
                </a:moveTo>
                <a:cubicBezTo>
                  <a:pt x="2537" y="2827"/>
                  <a:pt x="0" y="145"/>
                  <a:pt x="0" y="145"/>
                </a:cubicBez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59840" y="3575160"/>
            <a:ext cx="1644480" cy="1017360"/>
          </a:xfrm>
          <a:custGeom>
            <a:avLst/>
            <a:gdLst/>
            <a:ahLst/>
            <a:rect l="l" t="t" r="r" b="b"/>
            <a:pathLst>
              <a:path w="4567" h="2828">
                <a:moveTo>
                  <a:pt x="0" y="0"/>
                </a:moveTo>
                <a:cubicBezTo>
                  <a:pt x="1812" y="2827"/>
                  <a:pt x="4566" y="1305"/>
                  <a:pt x="4566" y="1305"/>
                </a:cubicBez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89560" y="2414520"/>
            <a:ext cx="965160" cy="614520"/>
          </a:xfrm>
          <a:custGeom>
            <a:avLst/>
            <a:gdLst/>
            <a:ahLst/>
            <a:rect l="l" t="t" r="r" b="b"/>
            <a:pathLst>
              <a:path w="2683" h="1705">
                <a:moveTo>
                  <a:pt x="0" y="1704"/>
                </a:moveTo>
                <a:cubicBezTo>
                  <a:pt x="2501" y="1305"/>
                  <a:pt x="2682" y="0"/>
                  <a:pt x="2682" y="0"/>
                </a:cubicBez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72320" y="2009880"/>
            <a:ext cx="1199880" cy="677880"/>
          </a:xfrm>
          <a:prstGeom prst="line">
            <a:avLst/>
          </a:prstGeom>
          <a:ln w="18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59840" y="2597040"/>
            <a:ext cx="222120" cy="1592280"/>
          </a:xfrm>
          <a:prstGeom prst="line">
            <a:avLst/>
          </a:prstGeom>
          <a:ln w="18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02640" y="4789440"/>
            <a:ext cx="652320" cy="965160"/>
          </a:xfrm>
          <a:prstGeom prst="line">
            <a:avLst/>
          </a:prstGeom>
          <a:ln w="18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50200" y="160488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3360" y="310500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59840" y="2492280"/>
            <a:ext cx="238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80520" y="241452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333200" y="290988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59600" y="195732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72680" y="438300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20240" y="551988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290160" y="5427720"/>
            <a:ext cx="238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59960" y="489276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702640" y="493236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67920" y="529740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095040" y="217980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920360" y="339264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093320" y="3992400"/>
            <a:ext cx="238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938080" y="351000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77560" y="292248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667800" y="310500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85040" y="244008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042480" y="311796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67800" y="504972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75280" y="3679920"/>
            <a:ext cx="1084320" cy="1084320"/>
          </a:xfrm>
          <a:prstGeom prst="ellipse">
            <a:avLst/>
          </a:prstGeom>
          <a:noFill/>
          <a:ln w="18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21400" y="3666960"/>
            <a:ext cx="3240" cy="1108080"/>
          </a:xfrm>
          <a:prstGeom prst="line">
            <a:avLst/>
          </a:prstGeom>
          <a:ln w="18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59960" y="4032360"/>
            <a:ext cx="338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Delaunay Property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 Delaunay property allows us to eliminate paths going through a triangle multiple tim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n optimal path will never traverse a triangle more than onc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48" name=""/>
          <p:cNvSpPr/>
          <p:nvPr/>
        </p:nvSpPr>
        <p:spPr>
          <a:xfrm>
            <a:off x="5637240" y="1628640"/>
            <a:ext cx="1122480" cy="112248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24520" y="2584440"/>
            <a:ext cx="3772080" cy="874800"/>
          </a:xfrm>
          <a:custGeom>
            <a:avLst/>
            <a:gdLst/>
            <a:ahLst/>
            <a:rect l="l" t="t" r="r" b="b"/>
            <a:pathLst>
              <a:path w="10476" h="2429">
                <a:moveTo>
                  <a:pt x="0" y="1486"/>
                </a:moveTo>
                <a:lnTo>
                  <a:pt x="5473" y="0"/>
                </a:lnTo>
                <a:lnTo>
                  <a:pt x="10475" y="1377"/>
                </a:lnTo>
                <a:lnTo>
                  <a:pt x="5111" y="2428"/>
                </a:lnTo>
                <a:lnTo>
                  <a:pt x="37" y="1450"/>
                </a:lnTo>
                <a:lnTo>
                  <a:pt x="0" y="1486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24520" y="4851360"/>
            <a:ext cx="3772080" cy="874800"/>
          </a:xfrm>
          <a:custGeom>
            <a:avLst/>
            <a:gdLst/>
            <a:ahLst/>
            <a:rect l="l" t="t" r="r" b="b"/>
            <a:pathLst>
              <a:path w="10476" h="2429">
                <a:moveTo>
                  <a:pt x="0" y="1486"/>
                </a:moveTo>
                <a:lnTo>
                  <a:pt x="5473" y="0"/>
                </a:lnTo>
                <a:lnTo>
                  <a:pt x="10475" y="1377"/>
                </a:lnTo>
                <a:lnTo>
                  <a:pt x="5111" y="2428"/>
                </a:lnTo>
                <a:lnTo>
                  <a:pt x="37" y="1450"/>
                </a:lnTo>
                <a:lnTo>
                  <a:pt x="0" y="1486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950080" y="3076560"/>
            <a:ext cx="371952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762680" y="4854600"/>
            <a:ext cx="145800" cy="874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77080" y="2674800"/>
            <a:ext cx="65160" cy="83520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650440" y="2634840"/>
            <a:ext cx="156960" cy="86364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4943520"/>
            <a:ext cx="65160" cy="83484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8651880" y="4866840"/>
            <a:ext cx="157320" cy="86364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“</a:t>
            </a: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Na</a:t>
            </a:r>
            <a:r>
              <a:rPr b="1" i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ï</a:t>
            </a: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ve” Search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ssume, while searching, that we know the exact path through the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Use this to prune nod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or example, assume straight-segment paths between edge midpoi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y result in suboptimal paths but finds the solution quickly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59" name=""/>
          <p:cNvSpPr/>
          <p:nvPr/>
        </p:nvSpPr>
        <p:spPr>
          <a:xfrm>
            <a:off x="5519880" y="2962440"/>
            <a:ext cx="4306680" cy="2387520"/>
          </a:xfrm>
          <a:custGeom>
            <a:avLst/>
            <a:gdLst/>
            <a:ahLst/>
            <a:rect l="l" t="t" r="r" b="b"/>
            <a:pathLst>
              <a:path w="11962" h="6634">
                <a:moveTo>
                  <a:pt x="870" y="1124"/>
                </a:moveTo>
                <a:lnTo>
                  <a:pt x="0" y="3552"/>
                </a:lnTo>
                <a:lnTo>
                  <a:pt x="4060" y="3878"/>
                </a:lnTo>
                <a:lnTo>
                  <a:pt x="834" y="1160"/>
                </a:lnTo>
                <a:lnTo>
                  <a:pt x="4458" y="254"/>
                </a:lnTo>
                <a:lnTo>
                  <a:pt x="4060" y="3878"/>
                </a:lnTo>
                <a:lnTo>
                  <a:pt x="1559" y="5691"/>
                </a:lnTo>
                <a:lnTo>
                  <a:pt x="8300" y="6633"/>
                </a:lnTo>
                <a:lnTo>
                  <a:pt x="4023" y="3951"/>
                </a:lnTo>
                <a:lnTo>
                  <a:pt x="9533" y="3335"/>
                </a:lnTo>
                <a:lnTo>
                  <a:pt x="8300" y="6633"/>
                </a:lnTo>
                <a:lnTo>
                  <a:pt x="11961" y="5437"/>
                </a:lnTo>
                <a:lnTo>
                  <a:pt x="9496" y="3299"/>
                </a:lnTo>
                <a:lnTo>
                  <a:pt x="11925" y="2320"/>
                </a:lnTo>
                <a:lnTo>
                  <a:pt x="8373" y="0"/>
                </a:lnTo>
                <a:lnTo>
                  <a:pt x="9533" y="3335"/>
                </a:lnTo>
                <a:lnTo>
                  <a:pt x="7104" y="979"/>
                </a:lnTo>
                <a:lnTo>
                  <a:pt x="4060" y="3878"/>
                </a:lnTo>
              </a:path>
            </a:pathLst>
          </a:cu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19880" y="2217600"/>
            <a:ext cx="4514760" cy="3549960"/>
          </a:xfrm>
          <a:custGeom>
            <a:avLst/>
            <a:gdLst/>
            <a:ahLst/>
            <a:rect l="l" t="t" r="r" b="b"/>
            <a:pathLst>
              <a:path w="12542" h="9860">
                <a:moveTo>
                  <a:pt x="0" y="5618"/>
                </a:moveTo>
                <a:lnTo>
                  <a:pt x="1559" y="7793"/>
                </a:lnTo>
                <a:lnTo>
                  <a:pt x="1885" y="9750"/>
                </a:lnTo>
                <a:lnTo>
                  <a:pt x="8373" y="8699"/>
                </a:lnTo>
                <a:lnTo>
                  <a:pt x="10221" y="9859"/>
                </a:lnTo>
                <a:lnTo>
                  <a:pt x="11961" y="7503"/>
                </a:lnTo>
                <a:lnTo>
                  <a:pt x="11925" y="4386"/>
                </a:lnTo>
                <a:lnTo>
                  <a:pt x="12541" y="2719"/>
                </a:lnTo>
                <a:lnTo>
                  <a:pt x="8373" y="2066"/>
                </a:lnTo>
                <a:lnTo>
                  <a:pt x="7140" y="3081"/>
                </a:lnTo>
                <a:lnTo>
                  <a:pt x="4458" y="2356"/>
                </a:lnTo>
                <a:lnTo>
                  <a:pt x="8409" y="2066"/>
                </a:lnTo>
                <a:lnTo>
                  <a:pt x="7068" y="0"/>
                </a:lnTo>
                <a:lnTo>
                  <a:pt x="4458" y="2320"/>
                </a:lnTo>
              </a:path>
            </a:pathLst>
          </a:cu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62440" y="3679920"/>
            <a:ext cx="3745080" cy="1109520"/>
          </a:xfrm>
          <a:custGeom>
            <a:avLst/>
            <a:gdLst/>
            <a:ahLst/>
            <a:rect l="l" t="t" r="r" b="b"/>
            <a:pathLst>
              <a:path w="10403" h="3082">
                <a:moveTo>
                  <a:pt x="0" y="435"/>
                </a:moveTo>
                <a:lnTo>
                  <a:pt x="1993" y="507"/>
                </a:lnTo>
                <a:lnTo>
                  <a:pt x="3878" y="0"/>
                </a:lnTo>
                <a:lnTo>
                  <a:pt x="5328" y="362"/>
                </a:lnTo>
                <a:lnTo>
                  <a:pt x="6596" y="1631"/>
                </a:lnTo>
                <a:lnTo>
                  <a:pt x="8517" y="3081"/>
                </a:lnTo>
                <a:lnTo>
                  <a:pt x="10402" y="2428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62440" y="3822840"/>
            <a:ext cx="1592280" cy="1357200"/>
          </a:xfrm>
          <a:custGeom>
            <a:avLst/>
            <a:gdLst/>
            <a:ahLst/>
            <a:rect l="l" t="t" r="r" b="b"/>
            <a:pathLst>
              <a:path w="4423" h="3771">
                <a:moveTo>
                  <a:pt x="0" y="0"/>
                </a:moveTo>
                <a:lnTo>
                  <a:pt x="1558" y="1305"/>
                </a:lnTo>
                <a:lnTo>
                  <a:pt x="2465" y="2393"/>
                </a:lnTo>
                <a:lnTo>
                  <a:pt x="4422" y="377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59600" y="3000240"/>
            <a:ext cx="822240" cy="679680"/>
          </a:xfrm>
          <a:custGeom>
            <a:avLst/>
            <a:gdLst/>
            <a:ahLst/>
            <a:rect l="l" t="t" r="r" b="b"/>
            <a:pathLst>
              <a:path w="2284" h="1886">
                <a:moveTo>
                  <a:pt x="0" y="1885"/>
                </a:moveTo>
                <a:lnTo>
                  <a:pt x="1522" y="580"/>
                </a:lnTo>
                <a:lnTo>
                  <a:pt x="2283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67560" y="3405240"/>
            <a:ext cx="1644840" cy="404640"/>
          </a:xfrm>
          <a:custGeom>
            <a:avLst/>
            <a:gdLst/>
            <a:ahLst/>
            <a:rect l="l" t="t" r="r" b="b"/>
            <a:pathLst>
              <a:path w="4567" h="1124">
                <a:moveTo>
                  <a:pt x="0" y="1123"/>
                </a:moveTo>
                <a:lnTo>
                  <a:pt x="2609" y="869"/>
                </a:lnTo>
                <a:lnTo>
                  <a:pt x="3262" y="362"/>
                </a:lnTo>
                <a:lnTo>
                  <a:pt x="4566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607160" y="3142800"/>
            <a:ext cx="717840" cy="558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29640" y="4775040"/>
            <a:ext cx="482760" cy="3398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50200" y="4684680"/>
            <a:ext cx="1160280" cy="15732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729640" y="3522600"/>
            <a:ext cx="665280" cy="4428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9407520" y="4316040"/>
            <a:ext cx="417600" cy="23796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54720" y="3614760"/>
            <a:ext cx="417600" cy="41760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590040" y="4057560"/>
            <a:ext cx="522360" cy="522360"/>
          </a:xfrm>
          <a:prstGeom prst="star5">
            <a:avLst/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Overview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Pathfinding Introduc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Grid-Based Approach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unnel Algorithm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le “Width”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Naïve” Searc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Optimality Concern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39960" y="1561680"/>
            <a:ext cx="482292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A* (Base-Level) Searc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 Abstrac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A* (Abstraction) Searc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Optimality Concer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hat do we have to do to find an optimal path?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(Under)estimate the distance travelled so far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llow multiple paths to any nod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hen a channel is found to the goal, calculate the length of the shortest path in this chann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f it is the shortest path found so far, keep it, otherwise, reject it (anytime algorithm)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hen the distance travelled so far for the paths yet to be searched exceeds the length of the shortest path, the algorithm ends and we have an optimal pat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A* (TA*)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* running on the base triangul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Using a triangle for a node and generating the adjacent triangles across unconstrained edges as its children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Using anytime algorithm and considering multiple paths to a triangle as described earlier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or a heuristic (h-value), take the Euclidean distance between the goal and any point on the triangle's entry edg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o make sure at least one path is found quickly, don't expand a node from a triangle that's already been expanded, until the first solution is foun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A* (TA*)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alculate an underestimate for the distance-travelled-so-far (g-value) as the maximum of the underestimates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euclidean distance from the start to a point on the entry edge (the edge by which this node's triangle was entered)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euclidean distance between the start and goal minus the node's heuristic (h-value)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parent node's g-value plus the difference between its h-value and that of this nod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parent node's g-value plus the least distance between its entry edge and that of the current triangl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Abstraction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502416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ant to abstract the triangulation without losing its topographic structur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Determine triangles as being decision points, on corridors, or in dead end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Define a degree-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triangle as one with exactly 3-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triangles adjacent across unconstrained edges that are not degree-1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80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42440" y="3367080"/>
            <a:ext cx="56628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helvet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Algorithm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bstract triangles with 3 constrained edges as degree-0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bstract triangles with 2 constrained edges as degree-1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Put the triangle adjacent the unconstrained edge on a queu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14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84680" y="621036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210520" y="257508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290160" y="3186000"/>
            <a:ext cx="15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67680" y="524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463320" y="3625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47320" y="236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Algorithm,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51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Go through the queu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 triangle is now degree-1, abstract it as on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And put the unabstracted face across the unconstrained edge onto the end of the queu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Otherwise, just remove it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Sometimes a connected component is “collapsed” into all degree-1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53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84680" y="621036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210520" y="257508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290160" y="3186000"/>
            <a:ext cx="15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67680" y="524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463320" y="3625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47320" y="236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872680" y="43704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Algorithm,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Go through the other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Determine which ones have neither constrained edges nor adjacent degree-1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bstract these as degree-3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re are 2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– 2 for a component with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obstac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93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4680" y="621036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10520" y="257508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290160" y="3186000"/>
            <a:ext cx="15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67680" y="524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72680" y="43704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225280" y="43322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772920" y="26398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Algorithm,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rom degree-3 triangles, move through the corridors of unabstracted triangles to the next degree-3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bstract these triangles as degree-2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f there are still any unabstracted nodes, abstract them into one or more “rings” of degree-2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633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4680" y="621036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10520" y="257508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290160" y="3186000"/>
            <a:ext cx="15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67680" y="524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72680" y="43704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225280" y="43322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72920" y="26398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68040" y="22320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64760" y="1727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41120" y="1474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573120" y="1511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788760" y="1727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860400" y="44276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573120" y="5975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465120" y="36720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28040" y="33116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960040" y="392256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096760" y="5183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125120" y="55436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160040" y="60120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312400" y="6046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357120" y="435456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752400" y="5614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Information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51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8240" indent="-42768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 triangle's abstraction contains information about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82640" indent="-42732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Adjacent structure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82640" indent="-42732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Choke points (the narrowest point between this triangle and the adjacent structure)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82640" indent="-42732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A lower bound on the distance to each adjacent structur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82640" indent="-42732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triangle “widths”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689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72320" y="1577880"/>
            <a:ext cx="3197160" cy="4684680"/>
          </a:xfrm>
          <a:custGeom>
            <a:avLst/>
            <a:gdLst/>
            <a:ahLst/>
            <a:rect l="l" t="t" r="r" b="b"/>
            <a:pathLst>
              <a:path w="8881" h="13013">
                <a:moveTo>
                  <a:pt x="36" y="5002"/>
                </a:moveTo>
                <a:lnTo>
                  <a:pt x="1522" y="2175"/>
                </a:lnTo>
                <a:lnTo>
                  <a:pt x="1884" y="653"/>
                </a:lnTo>
                <a:lnTo>
                  <a:pt x="3950" y="0"/>
                </a:lnTo>
                <a:lnTo>
                  <a:pt x="7756" y="363"/>
                </a:lnTo>
                <a:lnTo>
                  <a:pt x="8590" y="870"/>
                </a:lnTo>
                <a:lnTo>
                  <a:pt x="8553" y="3806"/>
                </a:lnTo>
                <a:lnTo>
                  <a:pt x="8880" y="8699"/>
                </a:lnTo>
                <a:lnTo>
                  <a:pt x="8590" y="11852"/>
                </a:lnTo>
                <a:lnTo>
                  <a:pt x="7539" y="12650"/>
                </a:lnTo>
                <a:lnTo>
                  <a:pt x="4530" y="13012"/>
                </a:lnTo>
                <a:lnTo>
                  <a:pt x="1486" y="12686"/>
                </a:lnTo>
                <a:lnTo>
                  <a:pt x="1051" y="11562"/>
                </a:lnTo>
                <a:lnTo>
                  <a:pt x="3842" y="10258"/>
                </a:lnTo>
                <a:lnTo>
                  <a:pt x="3914" y="8264"/>
                </a:lnTo>
                <a:lnTo>
                  <a:pt x="0" y="5038"/>
                </a:lnTo>
                <a:lnTo>
                  <a:pt x="36" y="5002"/>
                </a:lnTo>
              </a:path>
            </a:pathLst>
          </a:custGeom>
          <a:noFill/>
          <a:ln w="36720">
            <a:solidFill>
              <a:srgbClr val="33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167680" y="3052800"/>
            <a:ext cx="1682640" cy="1500120"/>
          </a:xfrm>
          <a:custGeom>
            <a:avLst/>
            <a:gdLst/>
            <a:ahLst/>
            <a:rect l="l" t="t" r="r" b="b"/>
            <a:pathLst>
              <a:path w="4676" h="4169">
                <a:moveTo>
                  <a:pt x="0" y="4168"/>
                </a:moveTo>
                <a:lnTo>
                  <a:pt x="2392" y="3045"/>
                </a:lnTo>
                <a:lnTo>
                  <a:pt x="3588" y="4132"/>
                </a:lnTo>
                <a:lnTo>
                  <a:pt x="3914" y="2066"/>
                </a:lnTo>
                <a:lnTo>
                  <a:pt x="4675" y="0"/>
                </a:lnTo>
              </a:path>
            </a:pathLst>
          </a:custGeom>
          <a:noFill/>
          <a:ln w="36720">
            <a:solidFill>
              <a:srgbClr val="33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32480" y="3405240"/>
            <a:ext cx="1227240" cy="2975040"/>
          </a:xfrm>
          <a:custGeom>
            <a:avLst/>
            <a:gdLst/>
            <a:ahLst/>
            <a:rect l="l" t="t" r="r" b="b"/>
            <a:pathLst>
              <a:path w="3407" h="8264">
                <a:moveTo>
                  <a:pt x="253" y="8263"/>
                </a:moveTo>
                <a:lnTo>
                  <a:pt x="0" y="4675"/>
                </a:lnTo>
                <a:lnTo>
                  <a:pt x="906" y="2102"/>
                </a:lnTo>
                <a:lnTo>
                  <a:pt x="3406" y="0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7345440" y="2335320"/>
            <a:ext cx="968400" cy="433440"/>
          </a:xfrm>
          <a:prstGeom prst="line">
            <a:avLst/>
          </a:prstGeom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394920" y="3262320"/>
            <a:ext cx="156960" cy="547560"/>
          </a:xfrm>
          <a:prstGeom prst="line">
            <a:avLst/>
          </a:prstGeom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29520" y="4502160"/>
            <a:ext cx="117720" cy="117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785520" y="3060720"/>
            <a:ext cx="117360" cy="117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Reduction A* (TRA*)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55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* running on the abstraction described befor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Using degree-3 triangles as nodesand generating their children as the degree-3 nodes adjacent across corridor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 goal is on a degree-3 triangle, we stop at the goal's triangle, if not, we use the degree-3 triangles at the ends of the corridor the goal (or the root of the tree containing it) is on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Similarly the search queue is initialized with the starting point's triangle if it is degree-3 or the adjacent degree-3 triangles otherwis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s with TA*, use the same anytime algorithm, allow multiple paths to a node, and use the same g- and h-valu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Pathfinding Introduction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ant to get some object from one point to another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obotics: needs to avoid obstacles (by some margin)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Games: needs to be very fast and use little resourc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3" name=""/>
          <p:cNvSpPr/>
          <p:nvPr/>
        </p:nvSpPr>
        <p:spPr>
          <a:xfrm>
            <a:off x="6407280" y="2517840"/>
            <a:ext cx="639720" cy="63972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15360" y="4357800"/>
            <a:ext cx="824040" cy="82368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37360" y="3197160"/>
            <a:ext cx="1409760" cy="123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Reduction A* (TRA*)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78000" y="1562040"/>
            <a:ext cx="9883440" cy="60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re are a number of cases for which no search occurs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 start or goal is the root of a tree containing the other, we can “walk” to the root for the only path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y are on the same degree-2 ring or “loop”, we walk both ways around and pick the shortest path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y are in the same degree-1 tree, we can do a simple search (eliminating suplicates) in that tree to find the only path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y are on the same degree-2 corridor, we take one path by walking through the corridor and start searching from the endpoints to see if we can find a shorter on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f none of these hold we perform actual degree-3 searc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Conclusio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can accurately and efficiently represent polygonal environme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offer unique possibilities for pathfinding for a non-point (especially circular) object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-based pathfinding finds paths very quickly and can also find optimal paths given a bit more tim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Our abstraction technique identifies useful structures in the environment: dead-ends, corridors, and decision poi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is abstraction can be used to find paths even more quickly, only depending on the number of obstac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Future Work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urther abstraction is possible by collapsing doubly-connected components of the abstract graph into single nodes of an even more abstract graph, forming trees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Would identify “rooms” in the environment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Pathfinding in the tree is trivial, and paths between entry points of the components could even be cached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hannels resulting from triangulation pathfinding are useful in pathfinding involving multiple objec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errain analysis is possible with the abstraction inform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Some enhancements for grids could work on triangulation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Questions?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378000" y="1561680"/>
            <a:ext cx="98834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202520" y="4684680"/>
            <a:ext cx="717480" cy="1434960"/>
          </a:xfrm>
          <a:custGeom>
            <a:avLst/>
            <a:gdLst>
              <a:gd name="textAreaLeft" fmla="*/ 360 w 717480"/>
              <a:gd name="textAreaRight" fmla="*/ 717120 w 717480"/>
              <a:gd name="textAreaTop" fmla="*/ 360 h 1434960"/>
              <a:gd name="textAreaBottom" fmla="*/ 1434600 h 1434960"/>
            </a:gdLst>
            <a:ahLst/>
            <a:rect l="textAreaLeft" t="textAreaTop" r="textAreaRight" b="textAreaBottom"/>
            <a:pathLst>
              <a:path w="21600" h="43189">
                <a:moveTo>
                  <a:pt x="47" y="0"/>
                </a:moveTo>
                <a:arcTo wR="47" hR="47" stAng="16200000" swAng="-5400000"/>
                <a:lnTo>
                  <a:pt x="0" y="43142"/>
                </a:lnTo>
                <a:arcTo wR="47" hR="47" stAng="10800000" swAng="-5400000"/>
                <a:lnTo>
                  <a:pt x="21553" y="43189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5040" y="3952800"/>
            <a:ext cx="717480" cy="1449360"/>
          </a:xfrm>
          <a:custGeom>
            <a:avLst/>
            <a:gdLst>
              <a:gd name="textAreaLeft" fmla="*/ 360 w 717480"/>
              <a:gd name="textAreaRight" fmla="*/ 717120 w 717480"/>
              <a:gd name="textAreaTop" fmla="*/ 360 h 1449360"/>
              <a:gd name="textAreaBottom" fmla="*/ 1449000 h 1449360"/>
            </a:gdLst>
            <a:ahLst/>
            <a:rect l="textAreaLeft" t="textAreaTop" r="textAreaRight" b="textAreaBottom"/>
            <a:pathLst>
              <a:path w="21600" h="43622">
                <a:moveTo>
                  <a:pt x="47" y="0"/>
                </a:moveTo>
                <a:arcTo wR="47" hR="47" stAng="16200000" swAng="-5400000"/>
                <a:lnTo>
                  <a:pt x="0" y="43575"/>
                </a:lnTo>
                <a:arcTo wR="47" hR="47" stAng="10800000" swAng="-5400000"/>
                <a:lnTo>
                  <a:pt x="21553" y="43622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0000" y="1800360"/>
            <a:ext cx="1434960" cy="2152440"/>
          </a:xfrm>
          <a:custGeom>
            <a:avLst/>
            <a:gdLst>
              <a:gd name="textAreaLeft" fmla="*/ 360 w 1434960"/>
              <a:gd name="textAreaRight" fmla="*/ 1434600 w 1434960"/>
              <a:gd name="textAreaTop" fmla="*/ 360 h 2152440"/>
              <a:gd name="textAreaBottom" fmla="*/ 2152080 h 2152440"/>
            </a:gdLst>
            <a:ahLst/>
            <a:rect l="textAreaLeft" t="textAreaTop" r="textAreaRight" b="textAreaBottom"/>
            <a:pathLst>
              <a:path w="21600" h="32397">
                <a:moveTo>
                  <a:pt x="23" y="0"/>
                </a:moveTo>
                <a:arcTo wR="23" hR="23" stAng="16200000" swAng="-5400000"/>
                <a:lnTo>
                  <a:pt x="0" y="32374"/>
                </a:lnTo>
                <a:arcTo wR="23" hR="23" stAng="10800000" swAng="-5400000"/>
                <a:lnTo>
                  <a:pt x="21577" y="3239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Grid-Based Method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present the environment by a grid of (usually square) cell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Each cell is either traversible or obstructe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Object (on a traversible cell) can move to any adjacent traversible cell each mov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0108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4072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614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6108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54600" y="180036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54600" y="2516040"/>
            <a:ext cx="3600360" cy="6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754600" y="3233880"/>
            <a:ext cx="3600360" cy="7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67560" y="3952800"/>
            <a:ext cx="35874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54600" y="4680000"/>
            <a:ext cx="3600360" cy="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54600" y="54007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54600" y="6117840"/>
            <a:ext cx="3600360" cy="4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02520" y="3235320"/>
            <a:ext cx="717480" cy="71748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54960" y="3952800"/>
            <a:ext cx="1440" cy="365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35320" y="3600360"/>
            <a:ext cx="368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554960" y="2881080"/>
            <a:ext cx="1440" cy="355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48640" y="2881440"/>
            <a:ext cx="460080" cy="460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Grid-Based Methods: Advantage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ceptually simple represent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ny existing algorithm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Perfectly represents tile-based environme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Exact paths easy to determine for cell-sized objec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81" name=""/>
          <p:cNvSpPr/>
          <p:nvPr/>
        </p:nvSpPr>
        <p:spPr>
          <a:xfrm>
            <a:off x="7202520" y="5754600"/>
            <a:ext cx="352440" cy="365040"/>
          </a:xfrm>
          <a:custGeom>
            <a:avLst/>
            <a:gdLst>
              <a:gd name="textAreaLeft" fmla="*/ 360 w 352440"/>
              <a:gd name="textAreaRight" fmla="*/ 352080 w 352440"/>
              <a:gd name="textAreaTop" fmla="*/ 360 h 365040"/>
              <a:gd name="textAreaBottom" fmla="*/ 364680 h 365040"/>
            </a:gdLst>
            <a:ahLst/>
            <a:rect l="textAreaLeft" t="textAreaTop" r="textAreaRight" b="textAreaBottom"/>
            <a:pathLst>
              <a:path w="21600" h="22371">
                <a:moveTo>
                  <a:pt x="97" y="0"/>
                </a:moveTo>
                <a:arcTo wR="97" hR="97" stAng="16200000" swAng="-5400000"/>
                <a:lnTo>
                  <a:pt x="0" y="22274"/>
                </a:lnTo>
                <a:arcTo wR="97" hR="97" stAng="10800000" swAng="-5400000"/>
                <a:lnTo>
                  <a:pt x="21503" y="22371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54600" y="5402160"/>
            <a:ext cx="1800360" cy="352440"/>
          </a:xfrm>
          <a:prstGeom prst="roundRect">
            <a:avLst>
              <a:gd name="adj" fmla="val 4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2520" y="2165400"/>
            <a:ext cx="717480" cy="1069920"/>
          </a:xfrm>
          <a:custGeom>
            <a:avLst/>
            <a:gdLst>
              <a:gd name="textAreaLeft" fmla="*/ 360 w 717480"/>
              <a:gd name="textAreaRight" fmla="*/ 717120 w 717480"/>
              <a:gd name="textAreaTop" fmla="*/ 360 h 1069920"/>
              <a:gd name="textAreaBottom" fmla="*/ 1069560 h 1069920"/>
            </a:gdLst>
            <a:ahLst/>
            <a:rect l="textAreaLeft" t="textAreaTop" r="textAreaRight" b="textAreaBottom"/>
            <a:pathLst>
              <a:path w="21600" h="32205">
                <a:moveTo>
                  <a:pt x="47" y="0"/>
                </a:moveTo>
                <a:arcTo wR="47" hR="47" stAng="16200000" swAng="-5400000"/>
                <a:lnTo>
                  <a:pt x="0" y="32158"/>
                </a:lnTo>
                <a:arcTo wR="47" hR="47" stAng="10800000" swAng="-5400000"/>
                <a:lnTo>
                  <a:pt x="21553" y="32205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0000" y="4319640"/>
            <a:ext cx="717480" cy="365040"/>
          </a:xfrm>
          <a:prstGeom prst="roundRect">
            <a:avLst>
              <a:gd name="adj" fmla="val 4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37480" y="1800360"/>
            <a:ext cx="365400" cy="2884320"/>
          </a:xfrm>
          <a:custGeom>
            <a:avLst/>
            <a:gdLst>
              <a:gd name="textAreaLeft" fmla="*/ 360 w 365400"/>
              <a:gd name="textAreaRight" fmla="*/ 365040 w 365400"/>
              <a:gd name="textAreaTop" fmla="*/ 360 h 2884320"/>
              <a:gd name="textAreaBottom" fmla="*/ 2883960 h 2884320"/>
            </a:gdLst>
            <a:ahLst/>
            <a:rect l="textAreaLeft" t="textAreaTop" r="textAreaRight" b="textAreaBottom"/>
            <a:pathLst>
              <a:path w="21600" h="170355">
                <a:moveTo>
                  <a:pt x="93" y="0"/>
                </a:moveTo>
                <a:arcTo wR="93" hR="93" stAng="16200000" swAng="-5400000"/>
                <a:lnTo>
                  <a:pt x="0" y="170262"/>
                </a:lnTo>
                <a:arcTo wR="93" hR="93" stAng="10800000" swAng="-5400000"/>
                <a:lnTo>
                  <a:pt x="21507" y="170355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96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036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9928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96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8036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4072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99964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36000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5928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2036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54600" y="180036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54600" y="216072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54600" y="252108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4600" y="288144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54600" y="324000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54600" y="360036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54600" y="396072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4600" y="432108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4600" y="468000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54600" y="504036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54600" y="540072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7560" y="5748480"/>
            <a:ext cx="39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54600" y="612144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9640" y="2882880"/>
            <a:ext cx="365400" cy="35244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54960" y="3967200"/>
            <a:ext cx="365400" cy="35244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19880" y="3182760"/>
            <a:ext cx="1317600" cy="1317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37480" y="4502160"/>
            <a:ext cx="1440" cy="365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37480" y="485460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186840" y="4500360"/>
            <a:ext cx="352440" cy="355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9539280" y="4240080"/>
            <a:ext cx="1440" cy="26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302520" y="4135320"/>
            <a:ext cx="717480" cy="71784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37480" y="2165400"/>
            <a:ext cx="365400" cy="352440"/>
          </a:xfrm>
          <a:prstGeom prst="roundRect">
            <a:avLst>
              <a:gd name="adj" fmla="val 4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54960" y="2882880"/>
            <a:ext cx="365400" cy="717480"/>
          </a:xfrm>
          <a:custGeom>
            <a:avLst/>
            <a:gdLst>
              <a:gd name="textAreaLeft" fmla="*/ 360 w 365400"/>
              <a:gd name="textAreaRight" fmla="*/ 365040 w 365400"/>
              <a:gd name="textAreaTop" fmla="*/ 360 h 717480"/>
              <a:gd name="textAreaBottom" fmla="*/ 717120 h 717480"/>
            </a:gdLst>
            <a:ahLst/>
            <a:rect l="textAreaLeft" t="textAreaTop" r="textAreaRight" b="textAreaBottom"/>
            <a:pathLst>
              <a:path w="21600" h="42392">
                <a:moveTo>
                  <a:pt x="93" y="0"/>
                </a:moveTo>
                <a:arcTo wR="93" hR="93" stAng="16200000" swAng="-5400000"/>
                <a:lnTo>
                  <a:pt x="0" y="42299"/>
                </a:lnTo>
                <a:arcTo wR="93" hR="93" stAng="10800000" swAng="-5400000"/>
                <a:lnTo>
                  <a:pt x="21507" y="42392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0000" y="2882880"/>
            <a:ext cx="365040" cy="1082520"/>
          </a:xfrm>
          <a:custGeom>
            <a:avLst/>
            <a:gdLst>
              <a:gd name="textAreaLeft" fmla="*/ 360 w 365040"/>
              <a:gd name="textAreaRight" fmla="*/ 364680 w 365040"/>
              <a:gd name="textAreaTop" fmla="*/ 360 h 1082520"/>
              <a:gd name="textAreaBottom" fmla="*/ 1082160 h 1082520"/>
            </a:gdLst>
            <a:ahLst/>
            <a:rect l="textAreaLeft" t="textAreaTop" r="textAreaRight" b="textAreaBottom"/>
            <a:pathLst>
              <a:path w="21600" h="64013">
                <a:moveTo>
                  <a:pt x="93" y="0"/>
                </a:moveTo>
                <a:arcTo wR="93" hR="93" stAng="16200000" swAng="-5400000"/>
                <a:lnTo>
                  <a:pt x="0" y="63920"/>
                </a:lnTo>
                <a:arcTo wR="93" hR="93" stAng="10800000" swAng="-5400000"/>
                <a:lnTo>
                  <a:pt x="21507" y="64013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85040" y="2517840"/>
            <a:ext cx="1069920" cy="1801800"/>
          </a:xfrm>
          <a:custGeom>
            <a:avLst/>
            <a:gdLst>
              <a:gd name="textAreaLeft" fmla="*/ 360 w 1069920"/>
              <a:gd name="textAreaRight" fmla="*/ 1069560 w 1069920"/>
              <a:gd name="textAreaTop" fmla="*/ 360 h 1801800"/>
              <a:gd name="textAreaBottom" fmla="*/ 1801440 h 1801800"/>
            </a:gdLst>
            <a:ahLst/>
            <a:rect l="textAreaLeft" t="textAreaTop" r="textAreaRight" b="textAreaBottom"/>
            <a:pathLst>
              <a:path w="21600" h="36371">
                <a:moveTo>
                  <a:pt x="32" y="0"/>
                </a:moveTo>
                <a:arcTo wR="32" hR="32" stAng="16200000" swAng="-5400000"/>
                <a:lnTo>
                  <a:pt x="0" y="36339"/>
                </a:lnTo>
                <a:arcTo wR="32" hR="32" stAng="10800000" swAng="-5400000"/>
                <a:lnTo>
                  <a:pt x="21568" y="36371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Grid-Based Methods: Disadvantage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8000" y="156204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mprecise representation of arbitrary barrier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ncreased precision in one area increases complexity everywher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wkward for objects that are not tile-sized and shape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Does not represent the structure of the environment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25" name=""/>
          <p:cNvSpPr/>
          <p:nvPr/>
        </p:nvSpPr>
        <p:spPr>
          <a:xfrm>
            <a:off x="61196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036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108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96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02520" y="2440080"/>
            <a:ext cx="1344600" cy="1762200"/>
          </a:xfrm>
          <a:prstGeom prst="pentagon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8036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4072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108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36000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6108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2036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54600" y="180036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4600" y="216072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54600" y="252108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4600" y="288144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324000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54600" y="360036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54600" y="396072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54600" y="432108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54600" y="468000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4600" y="504036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4600" y="540072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69000" y="574848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54600" y="612144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Motivation: ORT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" y="2103480"/>
            <a:ext cx="5203800" cy="3902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-click to ad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39960" y="1561680"/>
            <a:ext cx="4822920" cy="50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Open Real-Time Strategy engine needed a fast pathfinder to deal with its unique requirements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Straight segment obstacle barriers both axis-aligned and on diagonal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Objects with circular footprints of various siz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Considerations for multiple object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Introduction to Triangulatio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8000" y="156204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nother way to represent the environment is with a triangul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Starting with an area (like a rectangle) and a collection of poi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dd edges between the points without such edges crossing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tinue until no more such edges can be adde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56" name=""/>
          <p:cNvSpPr/>
          <p:nvPr/>
        </p:nvSpPr>
        <p:spPr>
          <a:xfrm>
            <a:off x="5402160" y="1800360"/>
            <a:ext cx="4319640" cy="180000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4960" y="3784680"/>
            <a:ext cx="1440" cy="352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9640" y="2165400"/>
            <a:ext cx="10512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91280" y="238140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0" y="306540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70920" y="213048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23280" y="3209760"/>
            <a:ext cx="104760" cy="1051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04360" y="198612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64360" y="263376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2160" y="4321080"/>
            <a:ext cx="4319640" cy="180036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9640" y="4686480"/>
            <a:ext cx="10512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1280" y="490212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04000" y="558648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72720" y="464976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573084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04360" y="450684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64360" y="515448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02160" y="4319640"/>
            <a:ext cx="717480" cy="37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402160" y="5688000"/>
            <a:ext cx="509760" cy="433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2160" y="4319640"/>
            <a:ext cx="874800" cy="84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02160" y="4319640"/>
            <a:ext cx="509760" cy="1265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700840" y="4319640"/>
            <a:ext cx="1020600" cy="19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222960" y="4603320"/>
            <a:ext cx="2387520" cy="95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400360" y="4316040"/>
            <a:ext cx="3213000" cy="212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702640" y="4592520"/>
            <a:ext cx="378000" cy="77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172440" y="4317480"/>
            <a:ext cx="547920" cy="3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999040" y="5257800"/>
            <a:ext cx="277920" cy="325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720" y="5792760"/>
            <a:ext cx="2087640" cy="325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7240" y="4749840"/>
            <a:ext cx="574560" cy="1369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7188120" y="4995360"/>
            <a:ext cx="2533680" cy="1125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189920" y="4747680"/>
            <a:ext cx="189216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22960" y="4788000"/>
            <a:ext cx="874800" cy="14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222960" y="4708440"/>
            <a:ext cx="2857680" cy="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84800" y="4788000"/>
            <a:ext cx="130320" cy="365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02280" y="5675400"/>
            <a:ext cx="1527120" cy="92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00720" y="5832360"/>
            <a:ext cx="2168640" cy="28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75520" y="5010120"/>
            <a:ext cx="352440" cy="71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67320" y="5205240"/>
            <a:ext cx="1162080" cy="5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7760" y="4788000"/>
            <a:ext cx="1330200" cy="95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Delaunay Triangulatio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where the minimum interior angle of all triangles is maximize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kes “nice” triangulation, tends to avoid thin, sliver-like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an be done locally by “edge flipping” diagonals across quadrilateral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97" name=""/>
          <p:cNvSpPr/>
          <p:nvPr/>
        </p:nvSpPr>
        <p:spPr>
          <a:xfrm>
            <a:off x="7091280" y="223848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78920" y="248904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5280" y="284940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31280" y="342576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02400" y="2333520"/>
            <a:ext cx="495360" cy="5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15000" y="2948040"/>
            <a:ext cx="1017720" cy="482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02520" y="2297160"/>
            <a:ext cx="1982880" cy="19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737480" y="25956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1280" y="454176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78920" y="479412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15280" y="515304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1280" y="572940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602400" y="4636800"/>
            <a:ext cx="495360" cy="52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15000" y="5253120"/>
            <a:ext cx="1017720" cy="482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02520" y="4600440"/>
            <a:ext cx="1982880" cy="1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737480" y="48985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4645080"/>
            <a:ext cx="509400" cy="1082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615000" y="2543040"/>
            <a:ext cx="2570400" cy="35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15320" y="3784680"/>
            <a:ext cx="1440" cy="53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