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10691813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1312560" y="1026720"/>
            <a:ext cx="493236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-358920" algn="ctr"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Helvetic"/>
              </a:rPr>
              <a:t>Click to move the slide</a:t>
            </a:r>
            <a:endParaRPr b="1" i="1" lang="en-US" sz="3600" spc="-1" strike="noStrike">
              <a:solidFill>
                <a:srgbClr val="ffffff"/>
              </a:solidFill>
              <a:latin typeface="Helveti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432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970920" cy="112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3600" spc="-1" strike="noStrike">
              <a:solidFill>
                <a:srgbClr val="ffffff"/>
              </a:solidFill>
              <a:latin typeface="Helvet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78000" y="1561680"/>
            <a:ext cx="9882000" cy="22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800" spc="-1" strike="noStrike">
              <a:solidFill>
                <a:srgbClr val="000000"/>
              </a:solidFill>
              <a:latin typeface="Helvet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78000" y="4051800"/>
            <a:ext cx="9882000" cy="22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800" spc="-1" strike="noStrike">
              <a:solidFill>
                <a:srgbClr val="000000"/>
              </a:solidFill>
              <a:latin typeface="Helvetic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970920" cy="112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3600" spc="-1" strike="noStrike">
              <a:solidFill>
                <a:srgbClr val="ffffff"/>
              </a:solidFill>
              <a:latin typeface="Helvet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78000" y="1561680"/>
            <a:ext cx="4822200" cy="22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800" spc="-1" strike="noStrike">
              <a:solidFill>
                <a:srgbClr val="000000"/>
              </a:solidFill>
              <a:latin typeface="Helvet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441760" y="1561680"/>
            <a:ext cx="4822200" cy="22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800" spc="-1" strike="noStrike">
              <a:solidFill>
                <a:srgbClr val="000000"/>
              </a:solidFill>
              <a:latin typeface="Helvet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78000" y="4051800"/>
            <a:ext cx="4822200" cy="22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800" spc="-1" strike="noStrike">
              <a:solidFill>
                <a:srgbClr val="000000"/>
              </a:solidFill>
              <a:latin typeface="Helvet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441760" y="4051800"/>
            <a:ext cx="4822200" cy="22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800" spc="-1" strike="noStrike">
              <a:solidFill>
                <a:srgbClr val="000000"/>
              </a:solidFill>
              <a:latin typeface="Helvetic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970920" cy="112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3600" spc="-1" strike="noStrike">
              <a:solidFill>
                <a:srgbClr val="ffffff"/>
              </a:solidFill>
              <a:latin typeface="Helvet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78000" y="1561680"/>
            <a:ext cx="3181680" cy="22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800" spc="-1" strike="noStrike">
              <a:solidFill>
                <a:srgbClr val="000000"/>
              </a:solidFill>
              <a:latin typeface="Helvet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9160" y="1561680"/>
            <a:ext cx="3181680" cy="22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800" spc="-1" strike="noStrike">
              <a:solidFill>
                <a:srgbClr val="000000"/>
              </a:solidFill>
              <a:latin typeface="Helvet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7060320" y="1561680"/>
            <a:ext cx="3181680" cy="22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800" spc="-1" strike="noStrike">
              <a:solidFill>
                <a:srgbClr val="000000"/>
              </a:solidFill>
              <a:latin typeface="Helvet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78000" y="4051800"/>
            <a:ext cx="3181680" cy="22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800" spc="-1" strike="noStrike">
              <a:solidFill>
                <a:srgbClr val="000000"/>
              </a:solidFill>
              <a:latin typeface="Helvet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9160" y="4051800"/>
            <a:ext cx="3181680" cy="22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800" spc="-1" strike="noStrike">
              <a:solidFill>
                <a:srgbClr val="000000"/>
              </a:solidFill>
              <a:latin typeface="Helvet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7060320" y="4051800"/>
            <a:ext cx="3181680" cy="22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800" spc="-1" strike="noStrike">
              <a:solidFill>
                <a:srgbClr val="000000"/>
              </a:solidFill>
              <a:latin typeface="Helvet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970920" cy="112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3600" spc="-1" strike="noStrike">
              <a:solidFill>
                <a:srgbClr val="ffffff"/>
              </a:solidFill>
              <a:latin typeface="Helvet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78000" y="1561680"/>
            <a:ext cx="9882000" cy="476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970920" cy="112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3600" spc="-1" strike="noStrike">
              <a:solidFill>
                <a:srgbClr val="ffffff"/>
              </a:solidFill>
              <a:latin typeface="Helvet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78000" y="1561680"/>
            <a:ext cx="9882000" cy="476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800" spc="-1" strike="noStrike">
              <a:solidFill>
                <a:srgbClr val="000000"/>
              </a:solidFill>
              <a:latin typeface="Helvetic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970920" cy="112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3600" spc="-1" strike="noStrike">
              <a:solidFill>
                <a:srgbClr val="ffffff"/>
              </a:solidFill>
              <a:latin typeface="Helvet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78000" y="1561680"/>
            <a:ext cx="4822200" cy="476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800" spc="-1" strike="noStrike">
              <a:solidFill>
                <a:srgbClr val="000000"/>
              </a:solidFill>
              <a:latin typeface="Helvet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441760" y="1561680"/>
            <a:ext cx="4822200" cy="476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800" spc="-1" strike="noStrike">
              <a:solidFill>
                <a:srgbClr val="000000"/>
              </a:solidFill>
              <a:latin typeface="Helvetic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970920" cy="112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3600" spc="-1" strike="noStrike">
              <a:solidFill>
                <a:srgbClr val="ffffff"/>
              </a:solidFill>
              <a:latin typeface="Helvetic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60000" y="360360"/>
            <a:ext cx="9970920" cy="520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-216000" algn="ctr"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970920" cy="112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3600" spc="-1" strike="noStrike">
              <a:solidFill>
                <a:srgbClr val="ffffff"/>
              </a:solidFill>
              <a:latin typeface="Helvet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78000" y="1561680"/>
            <a:ext cx="4822200" cy="22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800" spc="-1" strike="noStrike">
              <a:solidFill>
                <a:srgbClr val="000000"/>
              </a:solidFill>
              <a:latin typeface="Helvet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441760" y="1561680"/>
            <a:ext cx="4822200" cy="476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800" spc="-1" strike="noStrike">
              <a:solidFill>
                <a:srgbClr val="000000"/>
              </a:solidFill>
              <a:latin typeface="Helvet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78000" y="4051800"/>
            <a:ext cx="4822200" cy="22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800" spc="-1" strike="noStrike">
              <a:solidFill>
                <a:srgbClr val="000000"/>
              </a:solidFill>
              <a:latin typeface="Helvetic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970920" cy="112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3600" spc="-1" strike="noStrike">
              <a:solidFill>
                <a:srgbClr val="ffffff"/>
              </a:solidFill>
              <a:latin typeface="Helvet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78000" y="1561680"/>
            <a:ext cx="4822200" cy="476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800" spc="-1" strike="noStrike">
              <a:solidFill>
                <a:srgbClr val="000000"/>
              </a:solidFill>
              <a:latin typeface="Helvet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441760" y="1561680"/>
            <a:ext cx="4822200" cy="22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800" spc="-1" strike="noStrike">
              <a:solidFill>
                <a:srgbClr val="000000"/>
              </a:solidFill>
              <a:latin typeface="Helvet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441760" y="4051800"/>
            <a:ext cx="4822200" cy="22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800" spc="-1" strike="noStrike">
              <a:solidFill>
                <a:srgbClr val="000000"/>
              </a:solidFill>
              <a:latin typeface="Helvetic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970920" cy="112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3600" spc="-1" strike="noStrike">
              <a:solidFill>
                <a:srgbClr val="ffffff"/>
              </a:solidFill>
              <a:latin typeface="Helvet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78000" y="1561680"/>
            <a:ext cx="4822200" cy="22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800" spc="-1" strike="noStrike">
              <a:solidFill>
                <a:srgbClr val="000000"/>
              </a:solidFill>
              <a:latin typeface="Helvet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441760" y="1561680"/>
            <a:ext cx="4822200" cy="22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800" spc="-1" strike="noStrike">
              <a:solidFill>
                <a:srgbClr val="000000"/>
              </a:solidFill>
              <a:latin typeface="Helvet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78000" y="4051800"/>
            <a:ext cx="9882000" cy="22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800" spc="-1" strike="noStrike">
              <a:solidFill>
                <a:srgbClr val="000000"/>
              </a:solidFill>
              <a:latin typeface="Helvetic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4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60360" y="360360"/>
            <a:ext cx="9972720" cy="1109520"/>
          </a:xfrm>
          <a:prstGeom prst="roundRect">
            <a:avLst>
              <a:gd name="adj" fmla="val 139"/>
            </a:avLst>
          </a:prstGeom>
          <a:gradFill rotWithShape="0">
            <a:gsLst>
              <a:gs pos="0">
                <a:srgbClr val="000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970920" cy="112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Helvetic"/>
              </a:rPr>
              <a:t>Click to edit the title text format</a:t>
            </a:r>
            <a:endParaRPr b="1" i="1" lang="en-US" sz="3600" spc="-1" strike="noStrike">
              <a:solidFill>
                <a:srgbClr val="ffffff"/>
              </a:solidFill>
              <a:latin typeface="Helvet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78000" y="1561680"/>
            <a:ext cx="9882000" cy="476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3280" indent="-432000">
              <a:lnSpc>
                <a:spcPct val="93000"/>
              </a:lnSpc>
              <a:spcAft>
                <a:spcPts val="1412"/>
              </a:spcAft>
              <a:buSzPct val="100000"/>
              <a:buBlip>
                <a:blip r:embed="rId2"/>
              </a:buBlip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Helvetic"/>
            </a:endParaRPr>
          </a:p>
          <a:p>
            <a:pPr lvl="1" marL="790560" indent="-431640">
              <a:lnSpc>
                <a:spcPct val="93000"/>
              </a:lnSpc>
              <a:spcAft>
                <a:spcPts val="1412"/>
              </a:spcAft>
              <a:buSzPct val="100000"/>
              <a:buBlip>
                <a:blip r:embed="rId3"/>
              </a:buBlip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Helvetic"/>
            </a:endParaRPr>
          </a:p>
          <a:p>
            <a:pPr lvl="2" marL="1079640" indent="-432000">
              <a:lnSpc>
                <a:spcPct val="93000"/>
              </a:lnSpc>
              <a:spcAft>
                <a:spcPts val="1412"/>
              </a:spcAft>
              <a:buSzPct val="100000"/>
              <a:buBlip>
                <a:blip r:embed="rId4"/>
              </a:buBlip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Helvetic"/>
            </a:endParaRPr>
          </a:p>
          <a:p>
            <a:pPr lvl="3" marL="1366920" indent="-432000">
              <a:lnSpc>
                <a:spcPct val="93000"/>
              </a:lnSpc>
              <a:spcAft>
                <a:spcPts val="1412"/>
              </a:spcAft>
              <a:buSzPct val="100000"/>
              <a:buBlip>
                <a:blip r:embed="rId5"/>
              </a:buBlip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Helvetic"/>
            </a:endParaRPr>
          </a:p>
          <a:p>
            <a:pPr lvl="4" marL="1655640" indent="-431640">
              <a:lnSpc>
                <a:spcPct val="93000"/>
              </a:lnSpc>
              <a:spcAft>
                <a:spcPts val="1412"/>
              </a:spcAft>
              <a:buSzPct val="100000"/>
              <a:buBlip>
                <a:blip r:embed="rId6"/>
              </a:buBlip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Helvetic"/>
            </a:endParaRPr>
          </a:p>
          <a:p>
            <a:pPr lvl="5" marL="1655640" indent="-431640">
              <a:lnSpc>
                <a:spcPct val="93000"/>
              </a:lnSpc>
              <a:spcAft>
                <a:spcPts val="1412"/>
              </a:spcAft>
              <a:buSzPct val="100000"/>
              <a:buBlip>
                <a:blip r:embed="rId7"/>
              </a:buBlip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Helvetic"/>
            </a:endParaRPr>
          </a:p>
          <a:p>
            <a:pPr lvl="6" marL="1655640" indent="-431640">
              <a:lnSpc>
                <a:spcPct val="93000"/>
              </a:lnSpc>
              <a:spcAft>
                <a:spcPts val="1412"/>
              </a:spcAft>
              <a:buSzPct val="100000"/>
              <a:buBlip>
                <a:blip r:embed="rId8"/>
              </a:buBlip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Helvetic"/>
            </a:endParaRPr>
          </a:p>
        </p:txBody>
      </p:sp>
      <p:sp>
        <p:nvSpPr>
          <p:cNvPr id="3" name=""/>
          <p:cNvSpPr/>
          <p:nvPr/>
        </p:nvSpPr>
        <p:spPr>
          <a:xfrm>
            <a:off x="5087880" y="6691320"/>
            <a:ext cx="3079800" cy="426960"/>
          </a:xfrm>
          <a:prstGeom prst="roundRect">
            <a:avLst>
              <a:gd name="adj" fmla="val 3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1400" spc="-1" strike="noStrike">
                <a:solidFill>
                  <a:srgbClr val="800000"/>
                </a:solidFill>
                <a:latin typeface="Helvetic"/>
              </a:rPr>
              <a:t>Department of Computing Scie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1400" spc="-1" strike="noStrike">
                <a:solidFill>
                  <a:srgbClr val="800000"/>
                </a:solidFill>
                <a:latin typeface="Helvetic"/>
              </a:rPr>
              <a:t>Edmonton, Alberta, Canada T6G 2E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22360" y="6661080"/>
            <a:ext cx="4006800" cy="463680"/>
          </a:xfrm>
          <a:prstGeom prst="roundRect">
            <a:avLst>
              <a:gd name="adj" fmla="val 33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GB" sz="1400" spc="-1" strike="noStrike">
                <a:solidFill>
                  <a:srgbClr val="800000"/>
                </a:solidFill>
                <a:latin typeface="Helvetic"/>
              </a:rPr>
              <a:t>FILE: TRA.odp  /  30/06/06  /  Page </a:t>
            </a:r>
            <a:fld id="{995048DF-9976-4680-BEB6-C3175DEAB78A}" type="slidenum">
              <a:rPr b="1" lang="en-GB" sz="1400" spc="-1" strike="noStrike">
                <a:solidFill>
                  <a:srgbClr val="800000"/>
                </a:solidFill>
                <a:latin typeface="Helvet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GB" sz="1400" spc="-1" strike="noStrike">
                <a:solidFill>
                  <a:srgbClr val="800000"/>
                </a:solidFill>
                <a:latin typeface="Helvetic"/>
              </a:rPr>
              <a:t>{demyen|mburo}@cs.ualberta.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9"/>
          <a:stretch/>
        </p:blipFill>
        <p:spPr>
          <a:xfrm>
            <a:off x="360360" y="6523200"/>
            <a:ext cx="9972720" cy="7272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10"/>
          <a:stretch/>
        </p:blipFill>
        <p:spPr>
          <a:xfrm>
            <a:off x="8305920" y="6707160"/>
            <a:ext cx="1904760" cy="476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slideLayout" Target="../slideLayouts/slideLayout4.xml"/><Relationship Id="rId1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60360" y="360360"/>
            <a:ext cx="997272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1" i="1" lang="en-GB" sz="3600" spc="-1" strike="noStrike">
                <a:solidFill>
                  <a:srgbClr val="800000"/>
                </a:solidFill>
                <a:latin typeface="Helvetic"/>
              </a:rPr>
              <a:t>Efficient Traignaulation-Based Pathfinding</a:t>
            </a:r>
            <a:endParaRPr b="1" i="1" lang="en-US" sz="3600" spc="-1" strike="noStrike">
              <a:solidFill>
                <a:srgbClr val="ffffff"/>
              </a:solidFill>
              <a:latin typeface="Helvet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78000" y="1561680"/>
            <a:ext cx="988344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ouglas Demyen and Michael B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60360" y="360360"/>
            <a:ext cx="997272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1" i="1" lang="en-GB" sz="3600" spc="-1" strike="noStrike">
                <a:solidFill>
                  <a:srgbClr val="800000"/>
                </a:solidFill>
                <a:latin typeface="Helvetic"/>
              </a:rPr>
              <a:t>Constrained Triangulations</a:t>
            </a:r>
            <a:endParaRPr b="1" i="1" lang="en-US" sz="3600" spc="-1" strike="noStrike">
              <a:solidFill>
                <a:srgbClr val="ffffff"/>
              </a:solidFill>
              <a:latin typeface="Helvetic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78000" y="1561680"/>
            <a:ext cx="4822560" cy="551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3280" indent="-432000">
              <a:lnSpc>
                <a:spcPct val="93000"/>
              </a:lnSpc>
              <a:spcAft>
                <a:spcPts val="1412"/>
              </a:spcAft>
              <a:buSzPct val="100000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Helvetic"/>
              </a:rPr>
              <a:t>Triangulations where certain (constrained) edges are required to be in the triangulation</a:t>
            </a:r>
            <a:endParaRPr b="0" lang="en-US" sz="2800" spc="-1" strike="noStrike">
              <a:solidFill>
                <a:srgbClr val="000000"/>
              </a:solidFill>
              <a:latin typeface="Helvetic"/>
            </a:endParaRPr>
          </a:p>
          <a:p>
            <a:pPr marL="503280" indent="-432000">
              <a:lnSpc>
                <a:spcPct val="93000"/>
              </a:lnSpc>
              <a:spcAft>
                <a:spcPts val="1412"/>
              </a:spcAft>
              <a:buSzPct val="100000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Helvetic"/>
              </a:rPr>
              <a:t>Then other (unconstrained) edges are added as before</a:t>
            </a:r>
            <a:endParaRPr b="0" lang="en-US" sz="2800" spc="-1" strike="noStrike">
              <a:solidFill>
                <a:srgbClr val="000000"/>
              </a:solidFill>
              <a:latin typeface="Helvetic"/>
            </a:endParaRPr>
          </a:p>
          <a:p>
            <a:pPr marL="503280" indent="-432000">
              <a:lnSpc>
                <a:spcPct val="93000"/>
              </a:lnSpc>
              <a:spcAft>
                <a:spcPts val="1412"/>
              </a:spcAft>
              <a:buSzPct val="100000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Helvetic"/>
              </a:rPr>
              <a:t>Constrained Delaunay Triangulations maximize the minimum angle as much as possible while keeping constrained edges</a:t>
            </a:r>
            <a:endParaRPr b="0" lang="en-US" sz="2800" spc="-1" strike="noStrike">
              <a:solidFill>
                <a:srgbClr val="000000"/>
              </a:solidFill>
              <a:latin typeface="Helvetic"/>
            </a:endParaRPr>
          </a:p>
        </p:txBody>
      </p:sp>
      <p:sp>
        <p:nvSpPr>
          <p:cNvPr id="218" name=""/>
          <p:cNvSpPr/>
          <p:nvPr/>
        </p:nvSpPr>
        <p:spPr>
          <a:xfrm>
            <a:off x="5402160" y="1800360"/>
            <a:ext cx="4319640" cy="1800000"/>
          </a:xfrm>
          <a:prstGeom prst="roundRect">
            <a:avLst>
              <a:gd name="adj" fmla="val 88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554960" y="3784680"/>
            <a:ext cx="1440" cy="352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7500960" y="2297160"/>
            <a:ext cx="1255680" cy="392040"/>
          </a:xfrm>
          <a:prstGeom prst="line">
            <a:avLst/>
          </a:prstGeom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524640" y="2909880"/>
            <a:ext cx="847800" cy="235080"/>
          </a:xfrm>
          <a:prstGeom prst="line">
            <a:avLst/>
          </a:prstGeom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5830920" y="2232000"/>
            <a:ext cx="108000" cy="822240"/>
          </a:xfrm>
          <a:prstGeom prst="line">
            <a:avLst/>
          </a:prstGeom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690040" y="2779560"/>
            <a:ext cx="247680" cy="417600"/>
          </a:xfrm>
          <a:prstGeom prst="line">
            <a:avLst/>
          </a:prstGeom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402160" y="4321080"/>
            <a:ext cx="4319640" cy="1800360"/>
          </a:xfrm>
          <a:prstGeom prst="roundRect">
            <a:avLst>
              <a:gd name="adj" fmla="val 88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7500960" y="4816440"/>
            <a:ext cx="1255680" cy="392040"/>
          </a:xfrm>
          <a:prstGeom prst="line">
            <a:avLst/>
          </a:prstGeom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524640" y="5429160"/>
            <a:ext cx="847800" cy="235080"/>
          </a:xfrm>
          <a:prstGeom prst="line">
            <a:avLst/>
          </a:prstGeom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5830920" y="4751280"/>
            <a:ext cx="108000" cy="822600"/>
          </a:xfrm>
          <a:prstGeom prst="line">
            <a:avLst/>
          </a:prstGeom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690040" y="5299200"/>
            <a:ext cx="247680" cy="417240"/>
          </a:xfrm>
          <a:prstGeom prst="line">
            <a:avLst/>
          </a:prstGeom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402160" y="4319640"/>
            <a:ext cx="534960" cy="430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5402160" y="5557680"/>
            <a:ext cx="430200" cy="5637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5412960" y="4316400"/>
            <a:ext cx="420840" cy="1230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5845320" y="5425920"/>
            <a:ext cx="677880" cy="1209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937120" y="4749840"/>
            <a:ext cx="561960" cy="677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6510240" y="5203800"/>
            <a:ext cx="1005120" cy="225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7359480" y="5203440"/>
            <a:ext cx="157320" cy="4604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 flipV="1">
            <a:off x="5935320" y="4746240"/>
            <a:ext cx="1568520" cy="4604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359480" y="5662440"/>
            <a:ext cx="1565280" cy="399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5402160" y="5425920"/>
            <a:ext cx="1122480" cy="6955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5402160" y="5660640"/>
            <a:ext cx="1944720" cy="4604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7358040" y="5284800"/>
            <a:ext cx="1333440" cy="377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502400" y="5205240"/>
            <a:ext cx="1187640" cy="65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8677440" y="4800240"/>
            <a:ext cx="91800" cy="485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937120" y="4749840"/>
            <a:ext cx="2818080" cy="65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8767800" y="4317480"/>
            <a:ext cx="952560" cy="49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937120" y="4317840"/>
            <a:ext cx="3784680" cy="4334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924760" y="5702400"/>
            <a:ext cx="795600" cy="4172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359480" y="5662440"/>
            <a:ext cx="23623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8690040" y="4317480"/>
            <a:ext cx="1030320" cy="955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8937720" y="4317840"/>
            <a:ext cx="782640" cy="1386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60360" y="360360"/>
            <a:ext cx="997272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1" i="1" lang="en-GB" sz="3600" spc="-1" strike="noStrike">
                <a:solidFill>
                  <a:srgbClr val="800000"/>
                </a:solidFill>
                <a:latin typeface="Helvetic"/>
              </a:rPr>
              <a:t>Dynamic Constrained Delaunay Triangulations (DCDT)</a:t>
            </a:r>
            <a:endParaRPr b="1" i="1" lang="en-US" sz="3600" spc="-1" strike="noStrike">
              <a:solidFill>
                <a:srgbClr val="ffffff"/>
              </a:solidFill>
              <a:latin typeface="Helvetic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0" y="1561680"/>
            <a:ext cx="9883440" cy="176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3280" indent="-432000">
              <a:lnSpc>
                <a:spcPct val="93000"/>
              </a:lnSpc>
              <a:spcAft>
                <a:spcPts val="1412"/>
              </a:spcAft>
              <a:buSzPct val="100000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Helvetic"/>
              </a:rPr>
              <a:t>Marcelo Kallmann's DCDT software can repair a triangulation dynamically when constraints change</a:t>
            </a:r>
            <a:endParaRPr b="0" lang="en-US" sz="2800" spc="-1" strike="noStrike">
              <a:solidFill>
                <a:srgbClr val="000000"/>
              </a:solidFill>
              <a:latin typeface="Helvetic"/>
            </a:endParaRPr>
          </a:p>
          <a:p>
            <a:pPr marL="503280" indent="-432000">
              <a:lnSpc>
                <a:spcPct val="93000"/>
              </a:lnSpc>
              <a:spcAft>
                <a:spcPts val="1412"/>
              </a:spcAft>
              <a:buSzPct val="100000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Helvetic"/>
              </a:rPr>
              <a:t>Repairs can be made using local information allowing it to work in a real-time setting</a:t>
            </a:r>
            <a:endParaRPr b="0" lang="en-US" sz="2800" spc="-1" strike="noStrike">
              <a:solidFill>
                <a:srgbClr val="000000"/>
              </a:solidFill>
              <a:latin typeface="Helvetic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606600" y="3419640"/>
            <a:ext cx="9472320" cy="252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60360" y="360360"/>
            <a:ext cx="997272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1" i="1" lang="en-GB" sz="3600" spc="-1" strike="noStrike">
                <a:solidFill>
                  <a:srgbClr val="800000"/>
                </a:solidFill>
                <a:latin typeface="Helvetic"/>
              </a:rPr>
              <a:t>Triangulation-Based Pathfinding</a:t>
            </a:r>
            <a:endParaRPr b="1" i="1" lang="en-US" sz="3600" spc="-1" strike="noStrike">
              <a:solidFill>
                <a:srgbClr val="ffffff"/>
              </a:solidFill>
              <a:latin typeface="Helvet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78000" y="1561680"/>
            <a:ext cx="5022720" cy="52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3280" indent="-432000">
              <a:lnSpc>
                <a:spcPct val="93000"/>
              </a:lnSpc>
              <a:spcAft>
                <a:spcPts val="1412"/>
              </a:spcAft>
              <a:buSzPct val="100000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Helvetic"/>
              </a:rPr>
              <a:t>Using a constrained triangulation with barriers represented as constraints</a:t>
            </a:r>
            <a:endParaRPr b="0" lang="en-US" sz="2800" spc="-1" strike="noStrike">
              <a:solidFill>
                <a:srgbClr val="000000"/>
              </a:solidFill>
              <a:latin typeface="Helvetic"/>
            </a:endParaRPr>
          </a:p>
          <a:p>
            <a:pPr marL="503280" indent="-432000">
              <a:lnSpc>
                <a:spcPct val="93000"/>
              </a:lnSpc>
              <a:spcAft>
                <a:spcPts val="1412"/>
              </a:spcAft>
              <a:buSzPct val="100000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Helvetic"/>
              </a:rPr>
              <a:t>Find which triangle the start (and goal) point is in</a:t>
            </a:r>
            <a:endParaRPr b="0" lang="en-US" sz="2800" spc="-1" strike="noStrike">
              <a:solidFill>
                <a:srgbClr val="000000"/>
              </a:solidFill>
              <a:latin typeface="Helvetic"/>
            </a:endParaRPr>
          </a:p>
          <a:p>
            <a:pPr marL="503280" indent="-432000">
              <a:lnSpc>
                <a:spcPct val="93000"/>
              </a:lnSpc>
              <a:spcAft>
                <a:spcPts val="1412"/>
              </a:spcAft>
              <a:buSzPct val="100000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Helvetic"/>
              </a:rPr>
              <a:t>Search adjacent triangles across unconstrained edges</a:t>
            </a:r>
            <a:endParaRPr b="0" lang="en-US" sz="2800" spc="-1" strike="noStrike">
              <a:solidFill>
                <a:srgbClr val="000000"/>
              </a:solidFill>
              <a:latin typeface="Helvetic"/>
            </a:endParaRPr>
          </a:p>
          <a:p>
            <a:pPr marL="503280" indent="-432000">
              <a:lnSpc>
                <a:spcPct val="93000"/>
              </a:lnSpc>
              <a:spcAft>
                <a:spcPts val="1412"/>
              </a:spcAft>
              <a:buSzPct val="100000"/>
              <a:buBlip>
                <a:blip r:embed="rId4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Helvetic"/>
              </a:rPr>
              <a:t>Finds a </a:t>
            </a:r>
            <a:r>
              <a:rPr b="0" i="1" lang="en-GB" sz="2800" spc="-1" strike="noStrike">
                <a:solidFill>
                  <a:srgbClr val="000000"/>
                </a:solidFill>
                <a:latin typeface="Helvetic"/>
              </a:rPr>
              <a:t>channel</a:t>
            </a:r>
            <a:r>
              <a:rPr b="0" lang="en-GB" sz="2800" spc="-1" strike="noStrike">
                <a:solidFill>
                  <a:srgbClr val="000000"/>
                </a:solidFill>
                <a:latin typeface="Helvetic"/>
              </a:rPr>
              <a:t> of triangles inside which we can easily determine the shortest path </a:t>
            </a:r>
            <a:endParaRPr b="0" lang="en-US" sz="2800" spc="-1" strike="noStrike">
              <a:solidFill>
                <a:srgbClr val="000000"/>
              </a:solidFill>
              <a:latin typeface="Helvetic"/>
            </a:endParaRPr>
          </a:p>
        </p:txBody>
      </p:sp>
      <p:sp>
        <p:nvSpPr>
          <p:cNvPr id="255" name=""/>
          <p:cNvSpPr/>
          <p:nvPr/>
        </p:nvSpPr>
        <p:spPr>
          <a:xfrm>
            <a:off x="6419880" y="1903320"/>
            <a:ext cx="2570040" cy="4424400"/>
          </a:xfrm>
          <a:custGeom>
            <a:avLst/>
            <a:gdLst/>
            <a:ahLst/>
            <a:rect l="l" t="t" r="r" b="b"/>
            <a:pathLst>
              <a:path w="7141" h="12288">
                <a:moveTo>
                  <a:pt x="1450" y="0"/>
                </a:moveTo>
                <a:lnTo>
                  <a:pt x="0" y="2138"/>
                </a:lnTo>
                <a:lnTo>
                  <a:pt x="3190" y="3842"/>
                </a:lnTo>
                <a:lnTo>
                  <a:pt x="435" y="6741"/>
                </a:lnTo>
                <a:lnTo>
                  <a:pt x="761" y="10801"/>
                </a:lnTo>
                <a:lnTo>
                  <a:pt x="3190" y="12287"/>
                </a:lnTo>
                <a:lnTo>
                  <a:pt x="6488" y="11236"/>
                </a:lnTo>
                <a:lnTo>
                  <a:pt x="7140" y="9025"/>
                </a:lnTo>
                <a:lnTo>
                  <a:pt x="4422" y="7937"/>
                </a:lnTo>
                <a:lnTo>
                  <a:pt x="4567" y="6850"/>
                </a:lnTo>
                <a:lnTo>
                  <a:pt x="6560" y="4965"/>
                </a:lnTo>
                <a:lnTo>
                  <a:pt x="6959" y="3153"/>
                </a:lnTo>
                <a:lnTo>
                  <a:pt x="5437" y="942"/>
                </a:lnTo>
                <a:lnTo>
                  <a:pt x="3008" y="1015"/>
                </a:lnTo>
                <a:lnTo>
                  <a:pt x="2610" y="145"/>
                </a:lnTo>
                <a:lnTo>
                  <a:pt x="1522" y="36"/>
                </a:lnTo>
                <a:lnTo>
                  <a:pt x="1450" y="0"/>
                </a:lnTo>
              </a:path>
            </a:pathLst>
          </a:custGeom>
          <a:solidFill>
            <a:srgbClr val="00b8ff"/>
          </a:solidFill>
          <a:ln w="18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7566120" y="5153040"/>
            <a:ext cx="1425600" cy="117468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7567560" y="4760640"/>
            <a:ext cx="442800" cy="15685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6692760" y="4761000"/>
            <a:ext cx="1317600" cy="103320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575400" y="4330800"/>
            <a:ext cx="1434960" cy="43020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 flipV="1">
            <a:off x="6573960" y="4328640"/>
            <a:ext cx="1490400" cy="4284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 flipV="1">
            <a:off x="7566120" y="3286080"/>
            <a:ext cx="498240" cy="108576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567560" y="3287880"/>
            <a:ext cx="1227240" cy="40464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7567560" y="3051000"/>
            <a:ext cx="1357200" cy="2383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7566120" y="2243160"/>
            <a:ext cx="812880" cy="10447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502400" y="2270160"/>
            <a:ext cx="77760" cy="100476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6430680" y="2270160"/>
            <a:ext cx="1073160" cy="40464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6405120" y="1955880"/>
            <a:ext cx="955800" cy="71748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927840" y="1890720"/>
            <a:ext cx="1827360" cy="4071960"/>
          </a:xfrm>
          <a:custGeom>
            <a:avLst/>
            <a:gdLst/>
            <a:ahLst/>
            <a:rect l="l" t="t" r="r" b="b"/>
            <a:pathLst>
              <a:path w="5075" h="11309">
                <a:moveTo>
                  <a:pt x="0" y="0"/>
                </a:moveTo>
                <a:lnTo>
                  <a:pt x="2102" y="3697"/>
                </a:lnTo>
                <a:lnTo>
                  <a:pt x="2138" y="4059"/>
                </a:lnTo>
                <a:lnTo>
                  <a:pt x="2718" y="8010"/>
                </a:lnTo>
                <a:lnTo>
                  <a:pt x="2935" y="8372"/>
                </a:lnTo>
                <a:lnTo>
                  <a:pt x="5074" y="11308"/>
                </a:lnTo>
              </a:path>
            </a:pathLst>
          </a:cu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719760" y="1681200"/>
            <a:ext cx="352440" cy="352440"/>
          </a:xfrm>
          <a:prstGeom prst="smileyFace">
            <a:avLst>
              <a:gd name="adj" fmla="val 4653"/>
            </a:avLst>
          </a:prstGeom>
          <a:solidFill>
            <a:srgbClr val="00b8ff"/>
          </a:solidFill>
          <a:ln w="18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8585280" y="5792760"/>
            <a:ext cx="339480" cy="339840"/>
          </a:xfrm>
          <a:prstGeom prst="star5">
            <a:avLst/>
          </a:prstGeom>
          <a:solidFill>
            <a:srgbClr val="00b8ff"/>
          </a:solidFill>
          <a:ln w="18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60360" y="360360"/>
            <a:ext cx="997272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1" i="1" lang="en-GB" sz="3600" spc="-1" strike="noStrike">
                <a:solidFill>
                  <a:srgbClr val="800000"/>
                </a:solidFill>
                <a:latin typeface="Helvetic"/>
              </a:rPr>
              <a:t>Triangulation-Based Pathfinding:</a:t>
            </a:r>
            <a:br>
              <a:rPr sz="3600"/>
            </a:br>
            <a:r>
              <a:rPr b="1" i="1" lang="en-GB" sz="3600" spc="-1" strike="noStrike">
                <a:solidFill>
                  <a:srgbClr val="800000"/>
                </a:solidFill>
                <a:latin typeface="Helvetic"/>
              </a:rPr>
              <a:t>Advantages</a:t>
            </a:r>
            <a:endParaRPr b="1" i="1" lang="en-US" sz="3600" spc="-1" strike="noStrike">
              <a:solidFill>
                <a:srgbClr val="ffffff"/>
              </a:solidFill>
              <a:latin typeface="Helvetic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78000" y="1562040"/>
            <a:ext cx="4822560" cy="49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3280" indent="-432000">
              <a:lnSpc>
                <a:spcPct val="93000"/>
              </a:lnSpc>
              <a:spcAft>
                <a:spcPts val="1412"/>
              </a:spcAft>
              <a:buSzPct val="100000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Helvetic"/>
              </a:rPr>
              <a:t>Remedies grid-based methods' deficiency with off-axis barriers</a:t>
            </a:r>
            <a:endParaRPr b="0" lang="en-US" sz="2800" spc="-1" strike="noStrike">
              <a:solidFill>
                <a:srgbClr val="000000"/>
              </a:solidFill>
              <a:latin typeface="Helvetic"/>
            </a:endParaRPr>
          </a:p>
          <a:p>
            <a:pPr marL="503280" indent="-432000">
              <a:lnSpc>
                <a:spcPct val="93000"/>
              </a:lnSpc>
              <a:spcAft>
                <a:spcPts val="1412"/>
              </a:spcAft>
              <a:buSzPct val="100000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Helvetic"/>
              </a:rPr>
              <a:t>Representing detailed areas better doesn't complicate “open” areas</a:t>
            </a:r>
            <a:endParaRPr b="0" lang="en-US" sz="2800" spc="-1" strike="noStrike">
              <a:solidFill>
                <a:srgbClr val="000000"/>
              </a:solidFill>
              <a:latin typeface="Helvetic"/>
            </a:endParaRPr>
          </a:p>
          <a:p>
            <a:pPr marL="503280" indent="-432000">
              <a:lnSpc>
                <a:spcPct val="93000"/>
              </a:lnSpc>
              <a:spcAft>
                <a:spcPts val="1412"/>
              </a:spcAft>
              <a:buSzPct val="100000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Helvetic"/>
              </a:rPr>
              <a:t>Triangulations have much fewer cells and are more accurate than grids</a:t>
            </a:r>
            <a:endParaRPr b="0" lang="en-US" sz="2800" spc="-1" strike="noStrike">
              <a:solidFill>
                <a:srgbClr val="000000"/>
              </a:solidFill>
              <a:latin typeface="Helvetic"/>
            </a:endParaRPr>
          </a:p>
          <a:p>
            <a:pPr marL="503280" indent="-432000">
              <a:lnSpc>
                <a:spcPct val="93000"/>
              </a:lnSpc>
              <a:spcAft>
                <a:spcPts val="1412"/>
              </a:spcAft>
              <a:buSzPct val="100000"/>
              <a:buBlip>
                <a:blip r:embed="rId4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Helvetic"/>
              </a:rPr>
              <a:t>Advantages for multiple object pathfinding</a:t>
            </a:r>
            <a:endParaRPr b="0" lang="en-US" sz="2800" spc="-1" strike="noStrike">
              <a:solidFill>
                <a:srgbClr val="000000"/>
              </a:solidFill>
              <a:latin typeface="Helvetic"/>
            </a:endParaRPr>
          </a:p>
        </p:txBody>
      </p:sp>
      <p:sp>
        <p:nvSpPr>
          <p:cNvPr id="273" name=""/>
          <p:cNvSpPr/>
          <p:nvPr/>
        </p:nvSpPr>
        <p:spPr>
          <a:xfrm>
            <a:off x="5402160" y="1476360"/>
            <a:ext cx="1800" cy="50371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0082160" y="1476360"/>
            <a:ext cx="1800" cy="50371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402160" y="1476360"/>
            <a:ext cx="468468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402160" y="6516720"/>
            <a:ext cx="468468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985160" y="1828800"/>
            <a:ext cx="1735200" cy="1969920"/>
          </a:xfrm>
          <a:custGeom>
            <a:avLst/>
            <a:gdLst/>
            <a:ahLst/>
            <a:rect l="l" t="t" r="r" b="b"/>
            <a:pathLst>
              <a:path w="4821" h="5473">
                <a:moveTo>
                  <a:pt x="4820" y="35"/>
                </a:moveTo>
                <a:lnTo>
                  <a:pt x="4820" y="2717"/>
                </a:lnTo>
                <a:lnTo>
                  <a:pt x="3515" y="4022"/>
                </a:lnTo>
                <a:lnTo>
                  <a:pt x="3515" y="5472"/>
                </a:lnTo>
                <a:lnTo>
                  <a:pt x="1232" y="5472"/>
                </a:lnTo>
                <a:lnTo>
                  <a:pt x="1232" y="1956"/>
                </a:lnTo>
                <a:lnTo>
                  <a:pt x="0" y="724"/>
                </a:lnTo>
                <a:lnTo>
                  <a:pt x="724" y="0"/>
                </a:lnTo>
                <a:lnTo>
                  <a:pt x="4820" y="0"/>
                </a:lnTo>
                <a:lnTo>
                  <a:pt x="4820" y="35"/>
                </a:lnTo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754600" y="5195880"/>
            <a:ext cx="1279440" cy="1317600"/>
          </a:xfrm>
          <a:custGeom>
            <a:avLst/>
            <a:gdLst/>
            <a:ahLst/>
            <a:rect l="l" t="t" r="r" b="b"/>
            <a:pathLst>
              <a:path w="3553" h="3662">
                <a:moveTo>
                  <a:pt x="3515" y="3661"/>
                </a:moveTo>
                <a:lnTo>
                  <a:pt x="2283" y="2429"/>
                </a:lnTo>
                <a:lnTo>
                  <a:pt x="2283" y="0"/>
                </a:lnTo>
                <a:lnTo>
                  <a:pt x="0" y="2283"/>
                </a:lnTo>
                <a:lnTo>
                  <a:pt x="0" y="3661"/>
                </a:lnTo>
                <a:lnTo>
                  <a:pt x="3552" y="3661"/>
                </a:lnTo>
                <a:lnTo>
                  <a:pt x="3515" y="3661"/>
                </a:lnTo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8285040" y="4869000"/>
            <a:ext cx="1435320" cy="1030320"/>
          </a:xfrm>
          <a:custGeom>
            <a:avLst/>
            <a:gdLst/>
            <a:ahLst/>
            <a:rect l="l" t="t" r="r" b="b"/>
            <a:pathLst>
              <a:path w="3988" h="2864">
                <a:moveTo>
                  <a:pt x="2827" y="36"/>
                </a:moveTo>
                <a:lnTo>
                  <a:pt x="0" y="2863"/>
                </a:lnTo>
                <a:lnTo>
                  <a:pt x="3987" y="2863"/>
                </a:lnTo>
                <a:lnTo>
                  <a:pt x="3987" y="0"/>
                </a:lnTo>
                <a:lnTo>
                  <a:pt x="2900" y="0"/>
                </a:lnTo>
                <a:lnTo>
                  <a:pt x="2827" y="36"/>
                </a:lnTo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9720360" y="1474560"/>
            <a:ext cx="365040" cy="3553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9720360" y="5899320"/>
            <a:ext cx="365040" cy="612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7018200" y="5913360"/>
            <a:ext cx="1255680" cy="600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8285040" y="5899320"/>
            <a:ext cx="1800360" cy="612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5402160" y="6029280"/>
            <a:ext cx="352440" cy="486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6575400" y="5897160"/>
            <a:ext cx="1709640" cy="173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575400" y="5195880"/>
            <a:ext cx="1709640" cy="704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 flipV="1">
            <a:off x="5400720" y="1474920"/>
            <a:ext cx="355680" cy="4543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8232840" y="1474560"/>
            <a:ext cx="1852560" cy="3553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H="1" flipV="1">
            <a:off x="5398920" y="1474560"/>
            <a:ext cx="2848320" cy="3553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6575400" y="4869000"/>
            <a:ext cx="2739960" cy="3283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8426520" y="3796920"/>
            <a:ext cx="877680" cy="1073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 flipV="1">
            <a:off x="9248760" y="3796920"/>
            <a:ext cx="55440" cy="1073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9720360" y="4869000"/>
            <a:ext cx="365040" cy="1644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H="1" flipV="1">
            <a:off x="9248760" y="3796920"/>
            <a:ext cx="473040" cy="1073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9250200" y="2819160"/>
            <a:ext cx="470160" cy="981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720360" y="2819160"/>
            <a:ext cx="1440" cy="2050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9720360" y="1474560"/>
            <a:ext cx="365040" cy="1347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9720360" y="1474920"/>
            <a:ext cx="365040" cy="33955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5398920" y="1476360"/>
            <a:ext cx="1177920" cy="37209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6575400" y="3798360"/>
            <a:ext cx="1852560" cy="139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83360" y="2087640"/>
            <a:ext cx="447840" cy="1712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 flipV="1">
            <a:off x="5400360" y="1476360"/>
            <a:ext cx="2585880" cy="6285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H="1" flipV="1">
            <a:off x="5400720" y="1474920"/>
            <a:ext cx="3030480" cy="2325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119640" y="2911320"/>
            <a:ext cx="365400" cy="365400"/>
          </a:xfrm>
          <a:prstGeom prst="smileyFace">
            <a:avLst>
              <a:gd name="adj" fmla="val 4653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60360" y="360360"/>
            <a:ext cx="997272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1" i="1" lang="en-GB" sz="3600" spc="-1" strike="noStrike">
                <a:solidFill>
                  <a:srgbClr val="800000"/>
                </a:solidFill>
                <a:latin typeface="Helvetic"/>
              </a:rPr>
              <a:t>Triangulation-Based Pathfinding: Disadvantages</a:t>
            </a:r>
            <a:endParaRPr b="1" i="1" lang="en-US" sz="3600" spc="-1" strike="noStrike">
              <a:solidFill>
                <a:srgbClr val="ffffff"/>
              </a:solidFill>
              <a:latin typeface="Helvetic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78000" y="1561680"/>
            <a:ext cx="482256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3280" indent="-432000">
              <a:lnSpc>
                <a:spcPct val="93000"/>
              </a:lnSpc>
              <a:spcAft>
                <a:spcPts val="1412"/>
              </a:spcAft>
              <a:buSzPct val="100000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Helvetic"/>
              </a:rPr>
              <a:t>Curved obstacle barriers must be approximated by straight segments</a:t>
            </a:r>
            <a:endParaRPr b="0" lang="en-US" sz="2800" spc="-1" strike="noStrike">
              <a:solidFill>
                <a:srgbClr val="000000"/>
              </a:solidFill>
              <a:latin typeface="Helvetic"/>
            </a:endParaRPr>
          </a:p>
          <a:p>
            <a:pPr marL="503280" indent="-432000">
              <a:lnSpc>
                <a:spcPct val="93000"/>
              </a:lnSpc>
              <a:spcAft>
                <a:spcPts val="1412"/>
              </a:spcAft>
              <a:buSzPct val="100000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Helvetic"/>
              </a:rPr>
              <a:t>We do not know what path we will take through the triangles until after we have found the goal</a:t>
            </a:r>
            <a:endParaRPr b="0" lang="en-US" sz="2800" spc="-1" strike="noStrike">
              <a:solidFill>
                <a:srgbClr val="000000"/>
              </a:solidFill>
              <a:latin typeface="Helvetic"/>
            </a:endParaRPr>
          </a:p>
          <a:p>
            <a:pPr lvl="1" marL="790560" indent="-431640">
              <a:lnSpc>
                <a:spcPct val="93000"/>
              </a:lnSpc>
              <a:spcAft>
                <a:spcPts val="1137"/>
              </a:spcAft>
              <a:buSzPct val="100000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Helvetic"/>
              </a:rPr>
              <a:t>Can lead to either suboptimal paths or multiple paths to nodes</a:t>
            </a:r>
            <a:endParaRPr b="0" lang="en-US" sz="2600" spc="-1" strike="noStrike">
              <a:solidFill>
                <a:srgbClr val="000000"/>
              </a:solidFill>
              <a:latin typeface="Helvetic"/>
            </a:endParaRPr>
          </a:p>
        </p:txBody>
      </p:sp>
      <p:sp>
        <p:nvSpPr>
          <p:cNvPr id="307" name=""/>
          <p:cNvSpPr/>
          <p:nvPr/>
        </p:nvSpPr>
        <p:spPr>
          <a:xfrm>
            <a:off x="5727600" y="2192400"/>
            <a:ext cx="2857680" cy="3274920"/>
          </a:xfrm>
          <a:custGeom>
            <a:avLst/>
            <a:gdLst/>
            <a:ahLst/>
            <a:rect l="l" t="t" r="r" b="b"/>
            <a:pathLst>
              <a:path w="7939" h="9098">
                <a:moveTo>
                  <a:pt x="2320" y="0"/>
                </a:moveTo>
                <a:lnTo>
                  <a:pt x="0" y="2537"/>
                </a:lnTo>
                <a:lnTo>
                  <a:pt x="1704" y="5183"/>
                </a:lnTo>
                <a:lnTo>
                  <a:pt x="326" y="6995"/>
                </a:lnTo>
                <a:lnTo>
                  <a:pt x="616" y="9025"/>
                </a:lnTo>
                <a:lnTo>
                  <a:pt x="6270" y="9097"/>
                </a:lnTo>
                <a:lnTo>
                  <a:pt x="7938" y="6452"/>
                </a:lnTo>
                <a:lnTo>
                  <a:pt x="5944" y="4023"/>
                </a:lnTo>
                <a:lnTo>
                  <a:pt x="5509" y="2610"/>
                </a:lnTo>
                <a:lnTo>
                  <a:pt x="5836" y="1051"/>
                </a:lnTo>
                <a:lnTo>
                  <a:pt x="2356" y="36"/>
                </a:lnTo>
                <a:lnTo>
                  <a:pt x="2320" y="0"/>
                </a:lnTo>
              </a:path>
            </a:pathLst>
          </a:custGeom>
          <a:solidFill>
            <a:srgbClr val="00b8ff"/>
          </a:solidFill>
          <a:ln w="18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H="1" flipV="1">
            <a:off x="5830920" y="4708440"/>
            <a:ext cx="2155680" cy="7603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5830560" y="4527720"/>
            <a:ext cx="2755800" cy="2095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327720" y="4044960"/>
            <a:ext cx="2257560" cy="48276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6338520" y="3639960"/>
            <a:ext cx="1530360" cy="41760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715000" y="3117960"/>
            <a:ext cx="2152800" cy="52200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H="1" flipV="1">
            <a:off x="5726160" y="3117960"/>
            <a:ext cx="1985760" cy="1584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H="1">
            <a:off x="5725800" y="2570040"/>
            <a:ext cx="2090520" cy="547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550200" y="2192400"/>
            <a:ext cx="1292040" cy="3274920"/>
          </a:xfrm>
          <a:prstGeom prst="line">
            <a:avLst/>
          </a:prstGeom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H="1" flipV="1">
            <a:off x="6548040" y="2190240"/>
            <a:ext cx="498600" cy="3265560"/>
          </a:xfrm>
          <a:prstGeom prst="line">
            <a:avLst/>
          </a:prstGeom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107040" y="2205000"/>
            <a:ext cx="430200" cy="3237120"/>
          </a:xfrm>
          <a:custGeom>
            <a:avLst/>
            <a:gdLst/>
            <a:ahLst/>
            <a:rect l="l" t="t" r="r" b="b"/>
            <a:pathLst>
              <a:path w="1197" h="8990">
                <a:moveTo>
                  <a:pt x="1196" y="0"/>
                </a:moveTo>
                <a:lnTo>
                  <a:pt x="1124" y="5075"/>
                </a:lnTo>
                <a:lnTo>
                  <a:pt x="1051" y="5364"/>
                </a:lnTo>
                <a:lnTo>
                  <a:pt x="0" y="8989"/>
                </a:lnTo>
              </a:path>
            </a:pathLst>
          </a:cu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367320" y="2035080"/>
            <a:ext cx="365400" cy="365400"/>
          </a:xfrm>
          <a:prstGeom prst="smileyFace">
            <a:avLst>
              <a:gd name="adj" fmla="val 4653"/>
            </a:avLst>
          </a:prstGeom>
          <a:solidFill>
            <a:srgbClr val="00b8ff"/>
          </a:solidFill>
          <a:ln w="18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975280" y="5545080"/>
            <a:ext cx="254484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Helvet"/>
              </a:rPr>
              <a:t>?</a:t>
            </a:r>
            <a:r>
              <a:rPr b="0" lang="en-GB" sz="3600" spc="-1" strike="noStrike">
                <a:solidFill>
                  <a:srgbClr val="000000"/>
                </a:solidFill>
                <a:latin typeface="Helvet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Helvet"/>
              </a:rPr>
              <a:t>  ?</a:t>
            </a:r>
            <a:r>
              <a:rPr b="0" lang="en-GB" sz="3600" spc="-1" strike="noStrike">
                <a:solidFill>
                  <a:srgbClr val="000000"/>
                </a:solidFill>
                <a:latin typeface="Helvet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Helvet"/>
              </a:rPr>
              <a:t>  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60360" y="360360"/>
            <a:ext cx="997272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1" i="1" lang="en-GB" sz="3600" spc="-1" strike="noStrike">
                <a:solidFill>
                  <a:srgbClr val="800000"/>
                </a:solidFill>
                <a:latin typeface="Helvetic"/>
              </a:rPr>
              <a:t>Funnel Algorithm</a:t>
            </a:r>
            <a:endParaRPr b="1" i="1" lang="en-US" sz="3600" spc="-1" strike="noStrike">
              <a:solidFill>
                <a:srgbClr val="ffffff"/>
              </a:solidFill>
              <a:latin typeface="Helvet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77640" y="1562040"/>
            <a:ext cx="5383080" cy="569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3280" indent="-432000">
              <a:lnSpc>
                <a:spcPct val="93000"/>
              </a:lnSpc>
              <a:spcAft>
                <a:spcPts val="1412"/>
              </a:spcAft>
              <a:buSzPct val="100000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Helvetic"/>
              </a:rPr>
              <a:t>To find the exact path through a channel of triangles, we use the </a:t>
            </a:r>
            <a:r>
              <a:rPr b="0" i="1" lang="en-GB" sz="2800" spc="-1" strike="noStrike">
                <a:solidFill>
                  <a:srgbClr val="000000"/>
                </a:solidFill>
                <a:latin typeface="Helvetic"/>
              </a:rPr>
              <a:t>funnel algorithm</a:t>
            </a:r>
            <a:endParaRPr b="0" lang="en-US" sz="2800" spc="-1" strike="noStrike">
              <a:solidFill>
                <a:srgbClr val="000000"/>
              </a:solidFill>
              <a:latin typeface="Helvetic"/>
            </a:endParaRPr>
          </a:p>
          <a:p>
            <a:pPr marL="503280" indent="-432000">
              <a:lnSpc>
                <a:spcPct val="93000"/>
              </a:lnSpc>
              <a:spcAft>
                <a:spcPts val="1412"/>
              </a:spcAft>
              <a:buSzPct val="100000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Helvetic"/>
              </a:rPr>
              <a:t>Finds the shortest path in this simple polygon in time linear in the number of triangles in it</a:t>
            </a:r>
            <a:endParaRPr b="0" lang="en-US" sz="2800" spc="-1" strike="noStrike">
              <a:solidFill>
                <a:srgbClr val="000000"/>
              </a:solidFill>
              <a:latin typeface="Helvetic"/>
            </a:endParaRPr>
          </a:p>
          <a:p>
            <a:pPr marL="503280" indent="-432000">
              <a:lnSpc>
                <a:spcPct val="93000"/>
              </a:lnSpc>
              <a:spcAft>
                <a:spcPts val="1412"/>
              </a:spcAft>
              <a:buSzPct val="100000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Helvetic"/>
              </a:rPr>
              <a:t>Maintains a </a:t>
            </a:r>
            <a:r>
              <a:rPr b="0" i="1" lang="en-GB" sz="2800" spc="-1" strike="noStrike">
                <a:solidFill>
                  <a:srgbClr val="000000"/>
                </a:solidFill>
                <a:latin typeface="Helvetic"/>
              </a:rPr>
              <a:t>funnel</a:t>
            </a:r>
            <a:r>
              <a:rPr b="0" lang="en-GB" sz="2800" spc="-1" strike="noStrike">
                <a:solidFill>
                  <a:srgbClr val="000000"/>
                </a:solidFill>
                <a:latin typeface="Helvetic"/>
              </a:rPr>
              <a:t> which contains the shortest path to the end of the channel so far</a:t>
            </a:r>
            <a:endParaRPr b="0" lang="en-US" sz="2800" spc="-1" strike="noStrike">
              <a:solidFill>
                <a:srgbClr val="000000"/>
              </a:solidFill>
              <a:latin typeface="Helvetic"/>
            </a:endParaRPr>
          </a:p>
          <a:p>
            <a:pPr marL="503280" indent="-432000">
              <a:lnSpc>
                <a:spcPct val="93000"/>
              </a:lnSpc>
              <a:spcAft>
                <a:spcPts val="1412"/>
              </a:spcAft>
              <a:buSzPct val="100000"/>
              <a:buBlip>
                <a:blip r:embed="rId4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Helvetic"/>
              </a:rPr>
              <a:t>Funnel is updated for each new vertex in the channel</a:t>
            </a:r>
            <a:endParaRPr b="0" lang="en-US" sz="2800" spc="-1" strike="noStrike">
              <a:solidFill>
                <a:srgbClr val="000000"/>
              </a:solidFill>
              <a:latin typeface="Helvetic"/>
            </a:endParaRPr>
          </a:p>
        </p:txBody>
      </p:sp>
      <p:sp>
        <p:nvSpPr>
          <p:cNvPr id="322" name=""/>
          <p:cNvSpPr/>
          <p:nvPr/>
        </p:nvSpPr>
        <p:spPr>
          <a:xfrm>
            <a:off x="5924520" y="1747800"/>
            <a:ext cx="3522600" cy="1879560"/>
          </a:xfrm>
          <a:custGeom>
            <a:avLst/>
            <a:gdLst/>
            <a:ahLst/>
            <a:rect l="l" t="t" r="r" b="b"/>
            <a:pathLst>
              <a:path w="9787" h="5220">
                <a:moveTo>
                  <a:pt x="906" y="5110"/>
                </a:moveTo>
                <a:lnTo>
                  <a:pt x="0" y="3769"/>
                </a:lnTo>
                <a:lnTo>
                  <a:pt x="978" y="1486"/>
                </a:lnTo>
                <a:lnTo>
                  <a:pt x="3588" y="942"/>
                </a:lnTo>
                <a:lnTo>
                  <a:pt x="4965" y="2211"/>
                </a:lnTo>
                <a:lnTo>
                  <a:pt x="5473" y="833"/>
                </a:lnTo>
                <a:lnTo>
                  <a:pt x="7067" y="253"/>
                </a:lnTo>
                <a:lnTo>
                  <a:pt x="7394" y="1015"/>
                </a:lnTo>
                <a:lnTo>
                  <a:pt x="8227" y="0"/>
                </a:lnTo>
                <a:lnTo>
                  <a:pt x="9605" y="0"/>
                </a:lnTo>
                <a:lnTo>
                  <a:pt x="9786" y="4893"/>
                </a:lnTo>
                <a:lnTo>
                  <a:pt x="8880" y="4929"/>
                </a:lnTo>
                <a:lnTo>
                  <a:pt x="8409" y="4132"/>
                </a:lnTo>
                <a:lnTo>
                  <a:pt x="7285" y="5219"/>
                </a:lnTo>
                <a:lnTo>
                  <a:pt x="6560" y="5146"/>
                </a:lnTo>
                <a:lnTo>
                  <a:pt x="5763" y="3262"/>
                </a:lnTo>
                <a:lnTo>
                  <a:pt x="4494" y="4530"/>
                </a:lnTo>
                <a:lnTo>
                  <a:pt x="2863" y="2827"/>
                </a:lnTo>
                <a:lnTo>
                  <a:pt x="2283" y="4313"/>
                </a:lnTo>
                <a:lnTo>
                  <a:pt x="906" y="5110"/>
                </a:lnTo>
              </a:path>
            </a:pathLst>
          </a:custGeom>
          <a:solidFill>
            <a:srgbClr val="00b8ff"/>
          </a:solidFill>
          <a:ln w="18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H="1" flipV="1">
            <a:off x="5908320" y="3103200"/>
            <a:ext cx="825480" cy="21276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H="1">
            <a:off x="5923080" y="2766960"/>
            <a:ext cx="1033200" cy="33984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275520" y="2282760"/>
            <a:ext cx="677880" cy="48276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6953400" y="2087640"/>
            <a:ext cx="250560" cy="67788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6954840" y="2542680"/>
            <a:ext cx="757080" cy="2257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7554960" y="2542680"/>
            <a:ext cx="156960" cy="82548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 flipV="1">
            <a:off x="7708680" y="2528640"/>
            <a:ext cx="277560" cy="40788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907400" y="2048040"/>
            <a:ext cx="92160" cy="87444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7996320" y="1852560"/>
            <a:ext cx="473040" cy="10573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8285040" y="1836720"/>
            <a:ext cx="182520" cy="176544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8295840" y="2100240"/>
            <a:ext cx="290520" cy="1474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V="1">
            <a:off x="8547120" y="2125800"/>
            <a:ext cx="25560" cy="150336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H="1" flipV="1">
            <a:off x="8569440" y="2098440"/>
            <a:ext cx="382320" cy="113796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8872560" y="1747800"/>
            <a:ext cx="92160" cy="14875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8964720" y="1746360"/>
            <a:ext cx="392040" cy="149040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9120240" y="1760400"/>
            <a:ext cx="247680" cy="175104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6249960" y="2738520"/>
            <a:ext cx="704880" cy="838080"/>
          </a:xfrm>
          <a:prstGeom prst="line">
            <a:avLst/>
          </a:prstGeom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942240" y="1747800"/>
            <a:ext cx="2504880" cy="1762200"/>
          </a:xfrm>
          <a:custGeom>
            <a:avLst/>
            <a:gdLst/>
            <a:ahLst/>
            <a:rect l="l" t="t" r="r" b="b"/>
            <a:pathLst>
              <a:path w="6960" h="4894">
                <a:moveTo>
                  <a:pt x="6959" y="4893"/>
                </a:moveTo>
                <a:lnTo>
                  <a:pt x="5582" y="4095"/>
                </a:lnTo>
                <a:lnTo>
                  <a:pt x="2936" y="3226"/>
                </a:lnTo>
                <a:lnTo>
                  <a:pt x="0" y="2827"/>
                </a:lnTo>
                <a:lnTo>
                  <a:pt x="2175" y="2247"/>
                </a:lnTo>
                <a:lnTo>
                  <a:pt x="4567" y="1015"/>
                </a:lnTo>
                <a:lnTo>
                  <a:pt x="6741" y="0"/>
                </a:lnTo>
              </a:path>
            </a:pathLst>
          </a:cu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924520" y="4340160"/>
            <a:ext cx="3522600" cy="1879560"/>
          </a:xfrm>
          <a:custGeom>
            <a:avLst/>
            <a:gdLst/>
            <a:ahLst/>
            <a:rect l="l" t="t" r="r" b="b"/>
            <a:pathLst>
              <a:path w="9787" h="5220">
                <a:moveTo>
                  <a:pt x="906" y="5110"/>
                </a:moveTo>
                <a:lnTo>
                  <a:pt x="0" y="3769"/>
                </a:lnTo>
                <a:lnTo>
                  <a:pt x="978" y="1486"/>
                </a:lnTo>
                <a:lnTo>
                  <a:pt x="3588" y="942"/>
                </a:lnTo>
                <a:lnTo>
                  <a:pt x="4965" y="2211"/>
                </a:lnTo>
                <a:lnTo>
                  <a:pt x="5473" y="833"/>
                </a:lnTo>
                <a:lnTo>
                  <a:pt x="7067" y="253"/>
                </a:lnTo>
                <a:lnTo>
                  <a:pt x="7394" y="1015"/>
                </a:lnTo>
                <a:lnTo>
                  <a:pt x="8227" y="0"/>
                </a:lnTo>
                <a:lnTo>
                  <a:pt x="9605" y="0"/>
                </a:lnTo>
                <a:lnTo>
                  <a:pt x="9786" y="4893"/>
                </a:lnTo>
                <a:lnTo>
                  <a:pt x="8880" y="4929"/>
                </a:lnTo>
                <a:lnTo>
                  <a:pt x="8409" y="4132"/>
                </a:lnTo>
                <a:lnTo>
                  <a:pt x="7285" y="5219"/>
                </a:lnTo>
                <a:lnTo>
                  <a:pt x="6560" y="5146"/>
                </a:lnTo>
                <a:lnTo>
                  <a:pt x="5763" y="3262"/>
                </a:lnTo>
                <a:lnTo>
                  <a:pt x="4494" y="4530"/>
                </a:lnTo>
                <a:lnTo>
                  <a:pt x="2863" y="2827"/>
                </a:lnTo>
                <a:lnTo>
                  <a:pt x="2283" y="4313"/>
                </a:lnTo>
                <a:lnTo>
                  <a:pt x="906" y="5110"/>
                </a:lnTo>
              </a:path>
            </a:pathLst>
          </a:custGeom>
          <a:solidFill>
            <a:srgbClr val="00b8ff"/>
          </a:solidFill>
          <a:ln w="18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H="1" flipV="1">
            <a:off x="5908320" y="5695560"/>
            <a:ext cx="825480" cy="21276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5923080" y="5357880"/>
            <a:ext cx="1033200" cy="33948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275520" y="4875120"/>
            <a:ext cx="677880" cy="48276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H="1">
            <a:off x="6953400" y="4680000"/>
            <a:ext cx="250560" cy="67788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6954840" y="5133960"/>
            <a:ext cx="757080" cy="22536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7554960" y="5135400"/>
            <a:ext cx="156960" cy="82584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H="1" flipV="1">
            <a:off x="7708680" y="5121000"/>
            <a:ext cx="277560" cy="40788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907400" y="4640400"/>
            <a:ext cx="92160" cy="87444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7996320" y="4444920"/>
            <a:ext cx="473040" cy="10573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V="1">
            <a:off x="8285040" y="4429080"/>
            <a:ext cx="182520" cy="176544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8295840" y="4692600"/>
            <a:ext cx="290520" cy="1474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V="1">
            <a:off x="8547120" y="4718160"/>
            <a:ext cx="25560" cy="150336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H="1" flipV="1">
            <a:off x="8569440" y="4691160"/>
            <a:ext cx="382320" cy="11383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8872560" y="4340160"/>
            <a:ext cx="92160" cy="14875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8964720" y="4338360"/>
            <a:ext cx="392040" cy="149076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V="1">
            <a:off x="9120240" y="4352760"/>
            <a:ext cx="247680" cy="175104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V="1">
            <a:off x="6249960" y="5330880"/>
            <a:ext cx="704880" cy="838080"/>
          </a:xfrm>
          <a:prstGeom prst="line">
            <a:avLst/>
          </a:prstGeom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942240" y="4340160"/>
            <a:ext cx="2975040" cy="1530360"/>
          </a:xfrm>
          <a:custGeom>
            <a:avLst/>
            <a:gdLst/>
            <a:ahLst/>
            <a:rect l="l" t="t" r="r" b="b"/>
            <a:pathLst>
              <a:path w="8265" h="4253">
                <a:moveTo>
                  <a:pt x="8264" y="4252"/>
                </a:moveTo>
                <a:lnTo>
                  <a:pt x="8264" y="4252"/>
                </a:lnTo>
                <a:lnTo>
                  <a:pt x="2936" y="3226"/>
                </a:lnTo>
                <a:lnTo>
                  <a:pt x="0" y="2827"/>
                </a:lnTo>
                <a:lnTo>
                  <a:pt x="2175" y="2247"/>
                </a:lnTo>
                <a:lnTo>
                  <a:pt x="4567" y="1015"/>
                </a:lnTo>
                <a:lnTo>
                  <a:pt x="6741" y="0"/>
                </a:lnTo>
              </a:path>
            </a:pathLst>
          </a:cu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920000" y="3784680"/>
            <a:ext cx="1800" cy="352440"/>
          </a:xfrm>
          <a:prstGeom prst="line">
            <a:avLst/>
          </a:prstGeom>
          <a:ln w="3672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7997760" y="2909880"/>
            <a:ext cx="2333520" cy="28728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8950320" y="3222720"/>
            <a:ext cx="1380960" cy="41724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9434520" y="3510000"/>
            <a:ext cx="898560" cy="52236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V="1">
            <a:off x="7724880" y="1877760"/>
            <a:ext cx="2608200" cy="68076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V="1">
            <a:off x="9354960" y="1473120"/>
            <a:ext cx="692280" cy="3031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9394920" y="1747800"/>
            <a:ext cx="534960" cy="154008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V="1">
            <a:off x="9447120" y="3298320"/>
            <a:ext cx="482760" cy="212760"/>
          </a:xfrm>
          <a:prstGeom prst="line">
            <a:avLst/>
          </a:prstGeom>
          <a:ln w="18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9394920" y="4340160"/>
            <a:ext cx="534960" cy="154008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9447120" y="5890680"/>
            <a:ext cx="482760" cy="212760"/>
          </a:xfrm>
          <a:prstGeom prst="line">
            <a:avLst/>
          </a:prstGeom>
          <a:ln w="18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60360" y="360360"/>
            <a:ext cx="997272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1" i="1" lang="en-GB" sz="3600" spc="-1" strike="noStrike">
                <a:solidFill>
                  <a:srgbClr val="800000"/>
                </a:solidFill>
                <a:latin typeface="Helvetic"/>
              </a:rPr>
              <a:t>Modified Funnel Algorithm</a:t>
            </a:r>
            <a:endParaRPr b="1" i="1" lang="en-US" sz="3600" spc="-1" strike="noStrike">
              <a:solidFill>
                <a:srgbClr val="ffffff"/>
              </a:solidFill>
              <a:latin typeface="Helvetic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78000" y="1561680"/>
            <a:ext cx="482256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3280" indent="-432000">
              <a:lnSpc>
                <a:spcPct val="93000"/>
              </a:lnSpc>
              <a:spcAft>
                <a:spcPts val="1412"/>
              </a:spcAft>
              <a:buSzPct val="100000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Helvetic"/>
              </a:rPr>
              <a:t>For circular units of nonzero radius</a:t>
            </a:r>
            <a:endParaRPr b="0" lang="en-US" sz="2800" spc="-1" strike="noStrike">
              <a:solidFill>
                <a:srgbClr val="000000"/>
              </a:solidFill>
              <a:latin typeface="Helvetic"/>
            </a:endParaRPr>
          </a:p>
          <a:p>
            <a:pPr marL="503280" indent="-432000">
              <a:lnSpc>
                <a:spcPct val="93000"/>
              </a:lnSpc>
              <a:spcAft>
                <a:spcPts val="1412"/>
              </a:spcAft>
              <a:buSzPct val="100000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Helvetic"/>
              </a:rPr>
              <a:t>Conceptually attach circles of equal radius around each vertex of the channel</a:t>
            </a:r>
            <a:endParaRPr b="0" lang="en-US" sz="2800" spc="-1" strike="noStrike">
              <a:solidFill>
                <a:srgbClr val="000000"/>
              </a:solidFill>
              <a:latin typeface="Helvetic"/>
            </a:endParaRPr>
          </a:p>
          <a:p>
            <a:pPr marL="503280" indent="-432000">
              <a:lnSpc>
                <a:spcPct val="93000"/>
              </a:lnSpc>
              <a:spcAft>
                <a:spcPts val="1412"/>
              </a:spcAft>
              <a:buSzPct val="100000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Helvetic"/>
              </a:rPr>
              <a:t>Consider segments tangent to these circles and arcs along them</a:t>
            </a:r>
            <a:endParaRPr b="0" lang="en-US" sz="2800" spc="-1" strike="noStrike">
              <a:solidFill>
                <a:srgbClr val="000000"/>
              </a:solidFill>
              <a:latin typeface="Helvetic"/>
            </a:endParaRPr>
          </a:p>
        </p:txBody>
      </p:sp>
      <p:sp>
        <p:nvSpPr>
          <p:cNvPr id="372" name=""/>
          <p:cNvSpPr/>
          <p:nvPr/>
        </p:nvSpPr>
        <p:spPr>
          <a:xfrm>
            <a:off x="5924520" y="2360520"/>
            <a:ext cx="3522600" cy="1879560"/>
          </a:xfrm>
          <a:custGeom>
            <a:avLst/>
            <a:gdLst/>
            <a:ahLst/>
            <a:rect l="l" t="t" r="r" b="b"/>
            <a:pathLst>
              <a:path w="9787" h="5220">
                <a:moveTo>
                  <a:pt x="906" y="5110"/>
                </a:moveTo>
                <a:lnTo>
                  <a:pt x="0" y="3769"/>
                </a:lnTo>
                <a:lnTo>
                  <a:pt x="978" y="1486"/>
                </a:lnTo>
                <a:lnTo>
                  <a:pt x="3588" y="942"/>
                </a:lnTo>
                <a:lnTo>
                  <a:pt x="4965" y="2211"/>
                </a:lnTo>
                <a:lnTo>
                  <a:pt x="5473" y="833"/>
                </a:lnTo>
                <a:lnTo>
                  <a:pt x="7067" y="253"/>
                </a:lnTo>
                <a:lnTo>
                  <a:pt x="7394" y="1015"/>
                </a:lnTo>
                <a:lnTo>
                  <a:pt x="8227" y="0"/>
                </a:lnTo>
                <a:lnTo>
                  <a:pt x="9605" y="0"/>
                </a:lnTo>
                <a:lnTo>
                  <a:pt x="9786" y="4893"/>
                </a:lnTo>
                <a:lnTo>
                  <a:pt x="8880" y="4929"/>
                </a:lnTo>
                <a:lnTo>
                  <a:pt x="8409" y="4132"/>
                </a:lnTo>
                <a:lnTo>
                  <a:pt x="7285" y="5219"/>
                </a:lnTo>
                <a:lnTo>
                  <a:pt x="6560" y="5146"/>
                </a:lnTo>
                <a:lnTo>
                  <a:pt x="5763" y="3262"/>
                </a:lnTo>
                <a:lnTo>
                  <a:pt x="4494" y="4530"/>
                </a:lnTo>
                <a:lnTo>
                  <a:pt x="2863" y="2827"/>
                </a:lnTo>
                <a:lnTo>
                  <a:pt x="2283" y="4313"/>
                </a:lnTo>
                <a:lnTo>
                  <a:pt x="906" y="5110"/>
                </a:lnTo>
              </a:path>
            </a:pathLst>
          </a:custGeom>
          <a:solidFill>
            <a:srgbClr val="00b8ff"/>
          </a:solidFill>
          <a:ln w="18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 flipV="1">
            <a:off x="5908320" y="3714480"/>
            <a:ext cx="825480" cy="21276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5923080" y="3378240"/>
            <a:ext cx="1033200" cy="33984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275520" y="2895480"/>
            <a:ext cx="677880" cy="48276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H="1">
            <a:off x="6953400" y="2700360"/>
            <a:ext cx="250560" cy="67788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V="1">
            <a:off x="6954840" y="3154320"/>
            <a:ext cx="757080" cy="22536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7554960" y="3153960"/>
            <a:ext cx="156960" cy="82548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H="1" flipV="1">
            <a:off x="7708680" y="3141360"/>
            <a:ext cx="277560" cy="40788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907400" y="2660760"/>
            <a:ext cx="92160" cy="87444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7996320" y="2465280"/>
            <a:ext cx="473040" cy="10573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V="1">
            <a:off x="8285040" y="2449440"/>
            <a:ext cx="182520" cy="176544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8295840" y="2712960"/>
            <a:ext cx="290520" cy="1474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V="1">
            <a:off x="8547120" y="2738520"/>
            <a:ext cx="25560" cy="150336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H="1" flipV="1">
            <a:off x="8569440" y="2711520"/>
            <a:ext cx="382320" cy="11383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8872560" y="2360520"/>
            <a:ext cx="92160" cy="14875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flipV="1">
            <a:off x="8964720" y="2358720"/>
            <a:ext cx="392040" cy="149076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V="1">
            <a:off x="9120240" y="2373120"/>
            <a:ext cx="247680" cy="175068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780160" y="3587760"/>
            <a:ext cx="314280" cy="314280"/>
          </a:xfrm>
          <a:prstGeom prst="ellipse">
            <a:avLst/>
          </a:prstGeom>
          <a:noFill/>
          <a:ln w="18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608880" y="3767040"/>
            <a:ext cx="314280" cy="314280"/>
          </a:xfrm>
          <a:prstGeom prst="ellipse">
            <a:avLst/>
          </a:prstGeom>
          <a:noFill/>
          <a:ln w="18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140520" y="2759040"/>
            <a:ext cx="314280" cy="314280"/>
          </a:xfrm>
          <a:prstGeom prst="ellipse">
            <a:avLst/>
          </a:prstGeom>
          <a:noFill/>
          <a:ln w="18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824520" y="3227400"/>
            <a:ext cx="314640" cy="314280"/>
          </a:xfrm>
          <a:prstGeom prst="ellipse">
            <a:avLst/>
          </a:prstGeom>
          <a:noFill/>
          <a:ln w="18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7040520" y="2543040"/>
            <a:ext cx="314280" cy="314640"/>
          </a:xfrm>
          <a:prstGeom prst="ellipse">
            <a:avLst/>
          </a:prstGeom>
          <a:noFill/>
          <a:ln w="18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7400880" y="3838680"/>
            <a:ext cx="314280" cy="314280"/>
          </a:xfrm>
          <a:prstGeom prst="ellipse">
            <a:avLst/>
          </a:prstGeom>
          <a:noFill/>
          <a:ln w="18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543800" y="3011400"/>
            <a:ext cx="314280" cy="314280"/>
          </a:xfrm>
          <a:prstGeom prst="ellipse">
            <a:avLst/>
          </a:prstGeom>
          <a:noFill/>
          <a:ln w="18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832880" y="3370320"/>
            <a:ext cx="314280" cy="314280"/>
          </a:xfrm>
          <a:prstGeom prst="ellipse">
            <a:avLst/>
          </a:prstGeom>
          <a:noFill/>
          <a:ln w="18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724880" y="2506680"/>
            <a:ext cx="314280" cy="314280"/>
          </a:xfrm>
          <a:prstGeom prst="ellipse">
            <a:avLst/>
          </a:prstGeom>
          <a:noFill/>
          <a:ln w="18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8120160" y="4019400"/>
            <a:ext cx="314280" cy="314640"/>
          </a:xfrm>
          <a:prstGeom prst="ellipse">
            <a:avLst/>
          </a:prstGeom>
          <a:noFill/>
          <a:ln w="18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8407440" y="4054320"/>
            <a:ext cx="314280" cy="314640"/>
          </a:xfrm>
          <a:prstGeom prst="ellipse">
            <a:avLst/>
          </a:prstGeom>
          <a:noFill/>
          <a:ln w="18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8299440" y="2327400"/>
            <a:ext cx="314280" cy="314280"/>
          </a:xfrm>
          <a:prstGeom prst="ellipse">
            <a:avLst/>
          </a:prstGeom>
          <a:noFill/>
          <a:ln w="18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8443800" y="2579760"/>
            <a:ext cx="314280" cy="314280"/>
          </a:xfrm>
          <a:prstGeom prst="ellipse">
            <a:avLst/>
          </a:prstGeom>
          <a:noFill/>
          <a:ln w="18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8732880" y="2219400"/>
            <a:ext cx="314280" cy="314280"/>
          </a:xfrm>
          <a:prstGeom prst="ellipse">
            <a:avLst/>
          </a:prstGeom>
          <a:noFill/>
          <a:ln w="18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8804160" y="3695760"/>
            <a:ext cx="314280" cy="314280"/>
          </a:xfrm>
          <a:prstGeom prst="ellipse">
            <a:avLst/>
          </a:prstGeom>
          <a:noFill/>
          <a:ln w="18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8948880" y="3983040"/>
            <a:ext cx="314280" cy="314280"/>
          </a:xfrm>
          <a:prstGeom prst="ellipse">
            <a:avLst/>
          </a:prstGeom>
          <a:noFill/>
          <a:ln w="18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9272520" y="3946680"/>
            <a:ext cx="314280" cy="314280"/>
          </a:xfrm>
          <a:prstGeom prst="ellipse">
            <a:avLst/>
          </a:prstGeom>
          <a:noFill/>
          <a:ln w="18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9199440" y="2219400"/>
            <a:ext cx="314280" cy="314280"/>
          </a:xfrm>
          <a:prstGeom prst="ellipse">
            <a:avLst/>
          </a:prstGeom>
          <a:noFill/>
          <a:ln w="18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249960" y="3220920"/>
            <a:ext cx="3301920" cy="979560"/>
          </a:xfrm>
          <a:custGeom>
            <a:avLst/>
            <a:gdLst/>
            <a:ahLst/>
            <a:rect l="l" t="t" r="r" b="b"/>
            <a:pathLst>
              <a:path w="9171" h="2719">
                <a:moveTo>
                  <a:pt x="0" y="2718"/>
                </a:moveTo>
                <a:lnTo>
                  <a:pt x="1667" y="181"/>
                </a:lnTo>
                <a:lnTo>
                  <a:pt x="1885" y="72"/>
                </a:lnTo>
                <a:lnTo>
                  <a:pt x="2102" y="0"/>
                </a:lnTo>
                <a:lnTo>
                  <a:pt x="2356" y="36"/>
                </a:lnTo>
                <a:lnTo>
                  <a:pt x="4857" y="471"/>
                </a:lnTo>
                <a:lnTo>
                  <a:pt x="5110" y="507"/>
                </a:lnTo>
                <a:lnTo>
                  <a:pt x="5183" y="544"/>
                </a:lnTo>
                <a:lnTo>
                  <a:pt x="7611" y="1305"/>
                </a:lnTo>
                <a:lnTo>
                  <a:pt x="7756" y="1413"/>
                </a:lnTo>
                <a:lnTo>
                  <a:pt x="9170" y="2102"/>
                </a:lnTo>
              </a:path>
            </a:pathLst>
          </a:cu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7045200" y="2503440"/>
            <a:ext cx="2414880" cy="822240"/>
          </a:xfrm>
          <a:custGeom>
            <a:avLst/>
            <a:gdLst/>
            <a:ahLst/>
            <a:rect l="l" t="t" r="r" b="b"/>
            <a:pathLst>
              <a:path w="6706" h="2284">
                <a:moveTo>
                  <a:pt x="6705" y="0"/>
                </a:moveTo>
                <a:lnTo>
                  <a:pt x="4530" y="1014"/>
                </a:lnTo>
                <a:lnTo>
                  <a:pt x="1993" y="2247"/>
                </a:lnTo>
                <a:lnTo>
                  <a:pt x="1812" y="2283"/>
                </a:lnTo>
                <a:lnTo>
                  <a:pt x="0" y="2029"/>
                </a:lnTo>
              </a:path>
            </a:pathLst>
          </a:cu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60360" y="360360"/>
            <a:ext cx="997272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1" i="1" lang="en-GB" sz="3600" spc="-1" strike="noStrike">
                <a:solidFill>
                  <a:srgbClr val="800000"/>
                </a:solidFill>
                <a:latin typeface="Helvetic"/>
              </a:rPr>
              <a:t>Triangle “Width”</a:t>
            </a:r>
            <a:endParaRPr b="1" i="1" lang="en-US" sz="3600" spc="-1" strike="noStrike">
              <a:solidFill>
                <a:srgbClr val="ffffff"/>
              </a:solidFill>
              <a:latin typeface="Helvetic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378000" y="1561680"/>
            <a:ext cx="502272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3280" indent="-432000">
              <a:lnSpc>
                <a:spcPct val="93000"/>
              </a:lnSpc>
              <a:spcAft>
                <a:spcPts val="1412"/>
              </a:spcAft>
              <a:buSzPct val="100000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Helvetic"/>
              </a:rPr>
              <a:t>How do we know when an object of some radius can go through a channel?</a:t>
            </a:r>
            <a:endParaRPr b="0" lang="en-US" sz="2800" spc="-1" strike="noStrike">
              <a:solidFill>
                <a:srgbClr val="000000"/>
              </a:solidFill>
              <a:latin typeface="Helvetic"/>
            </a:endParaRPr>
          </a:p>
          <a:p>
            <a:pPr marL="503280" indent="-432000">
              <a:lnSpc>
                <a:spcPct val="93000"/>
              </a:lnSpc>
              <a:spcAft>
                <a:spcPts val="1412"/>
              </a:spcAft>
              <a:buSzPct val="100000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Helvetic"/>
              </a:rPr>
              <a:t>Measure the triangle width</a:t>
            </a:r>
            <a:endParaRPr b="0" lang="en-US" sz="2800" spc="-1" strike="noStrike">
              <a:solidFill>
                <a:srgbClr val="000000"/>
              </a:solidFill>
              <a:latin typeface="Helvetic"/>
            </a:endParaRPr>
          </a:p>
          <a:p>
            <a:pPr marL="503280" indent="-432000">
              <a:lnSpc>
                <a:spcPct val="93000"/>
              </a:lnSpc>
              <a:spcAft>
                <a:spcPts val="1412"/>
              </a:spcAft>
              <a:buSzPct val="100000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Helvetic"/>
              </a:rPr>
              <a:t>The distance </a:t>
            </a:r>
            <a:r>
              <a:rPr b="0" i="1" lang="en-GB" sz="2800" spc="-1" strike="noStrike">
                <a:solidFill>
                  <a:srgbClr val="000000"/>
                </a:solidFill>
                <a:latin typeface="Helvetic"/>
              </a:rPr>
              <a:t>d</a:t>
            </a:r>
            <a:r>
              <a:rPr b="0" lang="en-GB" sz="2800" spc="-1" strike="noStrike">
                <a:solidFill>
                  <a:srgbClr val="000000"/>
                </a:solidFill>
                <a:latin typeface="Helvetic"/>
              </a:rPr>
              <a:t> to the closest obstacle to vertex </a:t>
            </a:r>
            <a:r>
              <a:rPr b="0" i="1" lang="en-GB" sz="2800" spc="-1" strike="noStrike">
                <a:solidFill>
                  <a:srgbClr val="000000"/>
                </a:solidFill>
                <a:latin typeface="Helvetic"/>
              </a:rPr>
              <a:t>C</a:t>
            </a:r>
            <a:r>
              <a:rPr b="0" lang="en-GB" sz="2800" spc="-1" strike="noStrike">
                <a:solidFill>
                  <a:srgbClr val="000000"/>
                </a:solidFill>
                <a:latin typeface="Helvetic"/>
              </a:rPr>
              <a:t> between</a:t>
            </a:r>
            <a:r>
              <a:rPr b="0" lang="en-GB" sz="2800" spc="-1" strike="noStrike">
                <a:solidFill>
                  <a:srgbClr val="000000"/>
                </a:solidFill>
                <a:latin typeface="Helvetic"/>
              </a:rPr>
              <a:t> edges </a:t>
            </a:r>
            <a:r>
              <a:rPr b="0" i="1" lang="en-GB" sz="2800" spc="-1" strike="noStrike">
                <a:solidFill>
                  <a:srgbClr val="000000"/>
                </a:solidFill>
                <a:latin typeface="Helvetic"/>
              </a:rPr>
              <a:t>a</a:t>
            </a:r>
            <a:r>
              <a:rPr b="0" lang="en-GB" sz="2800" spc="-1" strike="noStrike">
                <a:solidFill>
                  <a:srgbClr val="000000"/>
                </a:solidFill>
                <a:latin typeface="Helvetic"/>
              </a:rPr>
              <a:t> and </a:t>
            </a:r>
            <a:r>
              <a:rPr b="0" i="1" lang="en-GB" sz="2800" spc="-1" strike="noStrike">
                <a:solidFill>
                  <a:srgbClr val="000000"/>
                </a:solidFill>
                <a:latin typeface="Helvetic"/>
              </a:rPr>
              <a:t>b</a:t>
            </a:r>
            <a:r>
              <a:rPr b="0" lang="en-GB" sz="2800" spc="-1" strike="noStrike">
                <a:solidFill>
                  <a:srgbClr val="000000"/>
                </a:solidFill>
                <a:latin typeface="Helvetic"/>
              </a:rPr>
              <a:t> is</a:t>
            </a:r>
            <a:r>
              <a:rPr b="0" lang="en-GB" sz="2800" spc="-1" strike="noStrike">
                <a:solidFill>
                  <a:srgbClr val="000000"/>
                </a:solidFill>
                <a:latin typeface="Helvetic"/>
              </a:rPr>
              <a:t> the diameter of the largest object that can fit through between those two edges</a:t>
            </a:r>
            <a:endParaRPr b="0" lang="en-US" sz="2800" spc="-1" strike="noStrike">
              <a:solidFill>
                <a:srgbClr val="000000"/>
              </a:solidFill>
              <a:latin typeface="Helvetic"/>
            </a:endParaRPr>
          </a:p>
        </p:txBody>
      </p:sp>
      <p:sp>
        <p:nvSpPr>
          <p:cNvPr id="411" name=""/>
          <p:cNvSpPr/>
          <p:nvPr/>
        </p:nvSpPr>
        <p:spPr>
          <a:xfrm>
            <a:off x="5857920" y="1957320"/>
            <a:ext cx="2335320" cy="1069920"/>
          </a:xfrm>
          <a:custGeom>
            <a:avLst/>
            <a:gdLst/>
            <a:ahLst/>
            <a:rect l="l" t="t" r="r" b="b"/>
            <a:pathLst>
              <a:path w="6488" h="2973">
                <a:moveTo>
                  <a:pt x="0" y="0"/>
                </a:moveTo>
                <a:lnTo>
                  <a:pt x="1196" y="2972"/>
                </a:lnTo>
                <a:lnTo>
                  <a:pt x="6487" y="2066"/>
                </a:lnTo>
                <a:lnTo>
                  <a:pt x="0" y="72"/>
                </a:lnTo>
                <a:lnTo>
                  <a:pt x="0" y="0"/>
                </a:lnTo>
              </a:path>
            </a:pathLst>
          </a:custGeom>
          <a:noFill/>
          <a:ln w="3672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8245440" y="2573280"/>
            <a:ext cx="1735200" cy="1617840"/>
          </a:xfrm>
          <a:custGeom>
            <a:avLst/>
            <a:gdLst/>
            <a:ahLst/>
            <a:rect l="l" t="t" r="r" b="b"/>
            <a:pathLst>
              <a:path w="4822" h="4495">
                <a:moveTo>
                  <a:pt x="2574" y="0"/>
                </a:moveTo>
                <a:lnTo>
                  <a:pt x="0" y="2790"/>
                </a:lnTo>
                <a:lnTo>
                  <a:pt x="4821" y="4494"/>
                </a:lnTo>
                <a:lnTo>
                  <a:pt x="2610" y="0"/>
                </a:lnTo>
                <a:lnTo>
                  <a:pt x="2574" y="0"/>
                </a:lnTo>
              </a:path>
            </a:pathLst>
          </a:custGeom>
          <a:noFill/>
          <a:ln w="3672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8232840" y="3564000"/>
            <a:ext cx="1735200" cy="1187280"/>
          </a:xfrm>
          <a:custGeom>
            <a:avLst/>
            <a:gdLst/>
            <a:ahLst/>
            <a:rect l="l" t="t" r="r" b="b"/>
            <a:pathLst>
              <a:path w="4822" h="3299">
                <a:moveTo>
                  <a:pt x="4821" y="1776"/>
                </a:moveTo>
                <a:lnTo>
                  <a:pt x="1450" y="3298"/>
                </a:lnTo>
                <a:lnTo>
                  <a:pt x="0" y="0"/>
                </a:lnTo>
              </a:path>
            </a:pathLst>
          </a:custGeom>
          <a:noFill/>
          <a:ln w="3672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757920" y="4775040"/>
            <a:ext cx="2452680" cy="887400"/>
          </a:xfrm>
          <a:custGeom>
            <a:avLst/>
            <a:gdLst/>
            <a:ahLst/>
            <a:rect l="l" t="t" r="r" b="b"/>
            <a:pathLst>
              <a:path w="6815" h="2466">
                <a:moveTo>
                  <a:pt x="73" y="2465"/>
                </a:moveTo>
                <a:lnTo>
                  <a:pt x="2936" y="0"/>
                </a:lnTo>
                <a:lnTo>
                  <a:pt x="6814" y="2320"/>
                </a:lnTo>
                <a:lnTo>
                  <a:pt x="0" y="2465"/>
                </a:lnTo>
                <a:lnTo>
                  <a:pt x="73" y="2465"/>
                </a:lnTo>
              </a:path>
            </a:pathLst>
          </a:custGeom>
          <a:noFill/>
          <a:ln w="3672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797520" y="5610240"/>
            <a:ext cx="2374920" cy="522360"/>
          </a:xfrm>
          <a:custGeom>
            <a:avLst/>
            <a:gdLst/>
            <a:ahLst/>
            <a:rect l="l" t="t" r="r" b="b"/>
            <a:pathLst>
              <a:path w="6598" h="1451">
                <a:moveTo>
                  <a:pt x="6597" y="0"/>
                </a:moveTo>
                <a:lnTo>
                  <a:pt x="798" y="1450"/>
                </a:lnTo>
                <a:lnTo>
                  <a:pt x="0" y="109"/>
                </a:lnTo>
              </a:path>
            </a:pathLst>
          </a:cu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980400" y="5427720"/>
            <a:ext cx="1904760" cy="1017360"/>
          </a:xfrm>
          <a:custGeom>
            <a:avLst/>
            <a:gdLst/>
            <a:ahLst/>
            <a:rect l="l" t="t" r="r" b="b"/>
            <a:pathLst>
              <a:path w="5292" h="2828">
                <a:moveTo>
                  <a:pt x="5291" y="0"/>
                </a:moveTo>
                <a:cubicBezTo>
                  <a:pt x="2537" y="2827"/>
                  <a:pt x="0" y="145"/>
                  <a:pt x="0" y="145"/>
                </a:cubicBezTo>
              </a:path>
            </a:pathLst>
          </a:custGeom>
          <a:noFill/>
          <a:ln w="18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8259840" y="3575160"/>
            <a:ext cx="1644480" cy="1017360"/>
          </a:xfrm>
          <a:custGeom>
            <a:avLst/>
            <a:gdLst/>
            <a:ahLst/>
            <a:rect l="l" t="t" r="r" b="b"/>
            <a:pathLst>
              <a:path w="4567" h="2828">
                <a:moveTo>
                  <a:pt x="0" y="0"/>
                </a:moveTo>
                <a:cubicBezTo>
                  <a:pt x="1812" y="2827"/>
                  <a:pt x="4566" y="1305"/>
                  <a:pt x="4566" y="1305"/>
                </a:cubicBezTo>
              </a:path>
            </a:pathLst>
          </a:custGeom>
          <a:noFill/>
          <a:ln w="18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289560" y="2414520"/>
            <a:ext cx="965160" cy="614520"/>
          </a:xfrm>
          <a:custGeom>
            <a:avLst/>
            <a:gdLst/>
            <a:ahLst/>
            <a:rect l="l" t="t" r="r" b="b"/>
            <a:pathLst>
              <a:path w="2683" h="1705">
                <a:moveTo>
                  <a:pt x="0" y="1704"/>
                </a:moveTo>
                <a:cubicBezTo>
                  <a:pt x="2501" y="1305"/>
                  <a:pt x="2682" y="0"/>
                  <a:pt x="2682" y="0"/>
                </a:cubicBezTo>
              </a:path>
            </a:pathLst>
          </a:custGeom>
          <a:noFill/>
          <a:ln w="18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872320" y="2009880"/>
            <a:ext cx="1199880" cy="677880"/>
          </a:xfrm>
          <a:prstGeom prst="line">
            <a:avLst/>
          </a:prstGeom>
          <a:ln w="18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9159840" y="2597040"/>
            <a:ext cx="222120" cy="1592280"/>
          </a:xfrm>
          <a:prstGeom prst="line">
            <a:avLst/>
          </a:prstGeom>
          <a:ln w="18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7802640" y="4789440"/>
            <a:ext cx="652320" cy="965160"/>
          </a:xfrm>
          <a:prstGeom prst="line">
            <a:avLst/>
          </a:prstGeom>
          <a:ln w="18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650200" y="1604880"/>
            <a:ext cx="22140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" rIns="9000" tIns="9000" bIns="90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093360" y="3105000"/>
            <a:ext cx="22140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" rIns="9000" tIns="9000" bIns="90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8259840" y="2492280"/>
            <a:ext cx="23832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" rIns="9000" tIns="9000" bIns="90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780520" y="2414520"/>
            <a:ext cx="15444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" rIns="9000" tIns="9000" bIns="90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333200" y="2909880"/>
            <a:ext cx="15444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" rIns="9000" tIns="9000" bIns="90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059600" y="1957320"/>
            <a:ext cx="17100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" rIns="9000" tIns="9000" bIns="90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7672680" y="4383000"/>
            <a:ext cx="22140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" rIns="9000" tIns="9000" bIns="90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420240" y="5519880"/>
            <a:ext cx="22140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" rIns="9000" tIns="9000" bIns="90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9290160" y="5427720"/>
            <a:ext cx="23832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" rIns="9000" tIns="9000" bIns="90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7059960" y="4892760"/>
            <a:ext cx="15444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" rIns="9000" tIns="9000" bIns="90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8702640" y="4932360"/>
            <a:ext cx="17100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" rIns="9000" tIns="9000" bIns="90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7567920" y="5297400"/>
            <a:ext cx="15444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" rIns="9000" tIns="9000" bIns="90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095040" y="2179800"/>
            <a:ext cx="22140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" rIns="9000" tIns="9000" bIns="90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7920360" y="3392640"/>
            <a:ext cx="22140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" rIns="9000" tIns="9000" bIns="90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0093320" y="3992400"/>
            <a:ext cx="23832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" rIns="9000" tIns="9000" bIns="90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8938080" y="3510000"/>
            <a:ext cx="15444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" rIns="9000" tIns="9000" bIns="90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8377560" y="2922480"/>
            <a:ext cx="15444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" rIns="9000" tIns="9000" bIns="90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9667800" y="3105000"/>
            <a:ext cx="17100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" rIns="9000" tIns="9000" bIns="90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485040" y="2440080"/>
            <a:ext cx="17100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" rIns="9000" tIns="9000" bIns="90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9042480" y="3117960"/>
            <a:ext cx="17100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" rIns="9000" tIns="9000" bIns="90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7867800" y="5049720"/>
            <a:ext cx="17100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" rIns="9000" tIns="9000" bIns="90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5975280" y="3679920"/>
            <a:ext cx="1084320" cy="1084320"/>
          </a:xfrm>
          <a:prstGeom prst="ellipse">
            <a:avLst/>
          </a:prstGeom>
          <a:noFill/>
          <a:ln w="18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521400" y="3666960"/>
            <a:ext cx="3240" cy="1108080"/>
          </a:xfrm>
          <a:prstGeom prst="line">
            <a:avLst/>
          </a:prstGeom>
          <a:ln w="18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159960" y="4032360"/>
            <a:ext cx="3387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" rIns="9000" tIns="9000" bIns="90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360360" y="360360"/>
            <a:ext cx="997272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1" i="1" lang="en-GB" sz="3600" spc="-1" strike="noStrike">
                <a:solidFill>
                  <a:srgbClr val="800000"/>
                </a:solidFill>
                <a:latin typeface="Helvetic"/>
              </a:rPr>
              <a:t>Delaunay Property</a:t>
            </a:r>
            <a:endParaRPr b="1" i="1" lang="en-US" sz="3600" spc="-1" strike="noStrike">
              <a:solidFill>
                <a:srgbClr val="ffffff"/>
              </a:solidFill>
              <a:latin typeface="Helvet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378000" y="1561680"/>
            <a:ext cx="4822560" cy="477036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round/>
          </a:ln>
        </p:spPr>
        <p:txBody>
          <a:bodyPr lIns="0" rIns="0" tIns="0" bIns="0" anchor="t">
            <a:normAutofit/>
          </a:bodyPr>
          <a:p>
            <a:pPr marL="503280" indent="-432000">
              <a:lnSpc>
                <a:spcPct val="93000"/>
              </a:lnSpc>
              <a:spcAft>
                <a:spcPts val="1412"/>
              </a:spcAft>
              <a:buSzPct val="100000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Helvetic"/>
              </a:rPr>
              <a:t>The Delaunay property allows us to eliminate paths going through a triangle multiple times</a:t>
            </a:r>
            <a:endParaRPr b="0" lang="en-US" sz="2800" spc="-1" strike="noStrike">
              <a:solidFill>
                <a:srgbClr val="000000"/>
              </a:solidFill>
              <a:latin typeface="Helvetic"/>
            </a:endParaRPr>
          </a:p>
          <a:p>
            <a:pPr marL="503280" indent="-432000">
              <a:lnSpc>
                <a:spcPct val="93000"/>
              </a:lnSpc>
              <a:spcAft>
                <a:spcPts val="1412"/>
              </a:spcAft>
              <a:buSzPct val="100000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Helvetic"/>
              </a:rPr>
              <a:t>An optimal path will never traverse a triangle more than once</a:t>
            </a:r>
            <a:endParaRPr b="0" lang="en-US" sz="2800" spc="-1" strike="noStrike">
              <a:solidFill>
                <a:srgbClr val="000000"/>
              </a:solidFill>
              <a:latin typeface="Helvetic"/>
            </a:endParaRPr>
          </a:p>
          <a:p>
            <a:pPr marL="5032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800" spc="-1" strike="noStrike">
              <a:solidFill>
                <a:srgbClr val="000000"/>
              </a:solidFill>
              <a:latin typeface="Helvetic"/>
            </a:endParaRPr>
          </a:p>
        </p:txBody>
      </p:sp>
      <p:sp>
        <p:nvSpPr>
          <p:cNvPr id="448" name=""/>
          <p:cNvSpPr/>
          <p:nvPr/>
        </p:nvSpPr>
        <p:spPr>
          <a:xfrm>
            <a:off x="5637240" y="1628640"/>
            <a:ext cx="1122480" cy="1122480"/>
          </a:xfrm>
          <a:prstGeom prst="smileyFace">
            <a:avLst>
              <a:gd name="adj" fmla="val 4653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924520" y="2584440"/>
            <a:ext cx="3772080" cy="874800"/>
          </a:xfrm>
          <a:custGeom>
            <a:avLst/>
            <a:gdLst/>
            <a:ahLst/>
            <a:rect l="l" t="t" r="r" b="b"/>
            <a:pathLst>
              <a:path w="10476" h="2429">
                <a:moveTo>
                  <a:pt x="0" y="1486"/>
                </a:moveTo>
                <a:lnTo>
                  <a:pt x="5473" y="0"/>
                </a:lnTo>
                <a:lnTo>
                  <a:pt x="10475" y="1377"/>
                </a:lnTo>
                <a:lnTo>
                  <a:pt x="5111" y="2428"/>
                </a:lnTo>
                <a:lnTo>
                  <a:pt x="37" y="1450"/>
                </a:lnTo>
                <a:lnTo>
                  <a:pt x="0" y="1486"/>
                </a:lnTo>
              </a:path>
            </a:pathLst>
          </a:custGeom>
          <a:noFill/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924520" y="4851360"/>
            <a:ext cx="3772080" cy="874800"/>
          </a:xfrm>
          <a:custGeom>
            <a:avLst/>
            <a:gdLst/>
            <a:ahLst/>
            <a:rect l="l" t="t" r="r" b="b"/>
            <a:pathLst>
              <a:path w="10476" h="2429">
                <a:moveTo>
                  <a:pt x="0" y="1486"/>
                </a:moveTo>
                <a:lnTo>
                  <a:pt x="5473" y="0"/>
                </a:lnTo>
                <a:lnTo>
                  <a:pt x="10475" y="1377"/>
                </a:lnTo>
                <a:lnTo>
                  <a:pt x="5111" y="2428"/>
                </a:lnTo>
                <a:lnTo>
                  <a:pt x="37" y="1450"/>
                </a:lnTo>
                <a:lnTo>
                  <a:pt x="0" y="1486"/>
                </a:lnTo>
              </a:path>
            </a:pathLst>
          </a:custGeom>
          <a:noFill/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 flipV="1">
            <a:off x="5950080" y="3076560"/>
            <a:ext cx="3719520" cy="302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>
            <a:off x="7762680" y="4854600"/>
            <a:ext cx="145800" cy="874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877080" y="2674800"/>
            <a:ext cx="65160" cy="835200"/>
          </a:xfrm>
          <a:prstGeom prst="line">
            <a:avLst/>
          </a:prstGeom>
          <a:ln w="3672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 flipV="1">
            <a:off x="8650440" y="2634840"/>
            <a:ext cx="156960" cy="863640"/>
          </a:xfrm>
          <a:prstGeom prst="line">
            <a:avLst/>
          </a:prstGeom>
          <a:ln w="3672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877080" y="4943520"/>
            <a:ext cx="65160" cy="834840"/>
          </a:xfrm>
          <a:prstGeom prst="line">
            <a:avLst/>
          </a:prstGeom>
          <a:ln w="3672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flipV="1">
            <a:off x="8651880" y="4866840"/>
            <a:ext cx="157320" cy="863640"/>
          </a:xfrm>
          <a:prstGeom prst="line">
            <a:avLst/>
          </a:prstGeom>
          <a:ln w="3672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360360" y="360360"/>
            <a:ext cx="997272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1" i="1" lang="en-GB" sz="3600" spc="-1" strike="noStrike">
                <a:solidFill>
                  <a:srgbClr val="800000"/>
                </a:solidFill>
                <a:latin typeface="Helvetic"/>
              </a:rPr>
              <a:t>“</a:t>
            </a:r>
            <a:r>
              <a:rPr b="1" i="1" lang="en-GB" sz="3600" spc="-1" strike="noStrike">
                <a:solidFill>
                  <a:srgbClr val="800000"/>
                </a:solidFill>
                <a:latin typeface="Helvetic"/>
              </a:rPr>
              <a:t>Na</a:t>
            </a:r>
            <a:r>
              <a:rPr b="1" i="1" lang="en-GB" sz="3600" spc="-1" strike="noStrike">
                <a:solidFill>
                  <a:srgbClr val="800000"/>
                </a:solidFill>
                <a:latin typeface="Tahoma"/>
                <a:ea typeface="Tahoma"/>
              </a:rPr>
              <a:t>ï</a:t>
            </a:r>
            <a:r>
              <a:rPr b="1" i="1" lang="en-GB" sz="3600" spc="-1" strike="noStrike">
                <a:solidFill>
                  <a:srgbClr val="800000"/>
                </a:solidFill>
                <a:latin typeface="Helvetic"/>
              </a:rPr>
              <a:t>ve” Search</a:t>
            </a:r>
            <a:endParaRPr b="1" i="1" lang="en-US" sz="3600" spc="-1" strike="noStrike">
              <a:solidFill>
                <a:srgbClr val="ffffff"/>
              </a:solidFill>
              <a:latin typeface="Helvetic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378000" y="1561680"/>
            <a:ext cx="4822560" cy="49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3280" indent="-432000">
              <a:lnSpc>
                <a:spcPct val="93000"/>
              </a:lnSpc>
              <a:spcAft>
                <a:spcPts val="1412"/>
              </a:spcAft>
              <a:buSzPct val="100000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Helvetic"/>
              </a:rPr>
              <a:t>Assume, while searching, that we know the exact path through the triangles</a:t>
            </a:r>
            <a:endParaRPr b="0" lang="en-US" sz="2800" spc="-1" strike="noStrike">
              <a:solidFill>
                <a:srgbClr val="000000"/>
              </a:solidFill>
              <a:latin typeface="Helvetic"/>
            </a:endParaRPr>
          </a:p>
          <a:p>
            <a:pPr marL="503280" indent="-432000">
              <a:lnSpc>
                <a:spcPct val="93000"/>
              </a:lnSpc>
              <a:spcAft>
                <a:spcPts val="1412"/>
              </a:spcAft>
              <a:buSzPct val="100000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Helvetic"/>
              </a:rPr>
              <a:t>Use this to prune nodes</a:t>
            </a:r>
            <a:endParaRPr b="0" lang="en-US" sz="2800" spc="-1" strike="noStrike">
              <a:solidFill>
                <a:srgbClr val="000000"/>
              </a:solidFill>
              <a:latin typeface="Helvetic"/>
            </a:endParaRPr>
          </a:p>
          <a:p>
            <a:pPr marL="503280" indent="-432000">
              <a:lnSpc>
                <a:spcPct val="93000"/>
              </a:lnSpc>
              <a:spcAft>
                <a:spcPts val="1412"/>
              </a:spcAft>
              <a:buSzPct val="100000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Helvetic"/>
              </a:rPr>
              <a:t>For example, assume straight-segment paths between edge midpoints</a:t>
            </a:r>
            <a:endParaRPr b="0" lang="en-US" sz="2800" spc="-1" strike="noStrike">
              <a:solidFill>
                <a:srgbClr val="000000"/>
              </a:solidFill>
              <a:latin typeface="Helvetic"/>
            </a:endParaRPr>
          </a:p>
          <a:p>
            <a:pPr marL="503280" indent="-432000">
              <a:lnSpc>
                <a:spcPct val="93000"/>
              </a:lnSpc>
              <a:spcAft>
                <a:spcPts val="1412"/>
              </a:spcAft>
              <a:buSzPct val="100000"/>
              <a:buBlip>
                <a:blip r:embed="rId4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Helvetic"/>
              </a:rPr>
              <a:t>May result in suboptimal paths but finds the solution quickly</a:t>
            </a:r>
            <a:endParaRPr b="0" lang="en-US" sz="2800" spc="-1" strike="noStrike">
              <a:solidFill>
                <a:srgbClr val="000000"/>
              </a:solidFill>
              <a:latin typeface="Helvetic"/>
            </a:endParaRPr>
          </a:p>
        </p:txBody>
      </p:sp>
      <p:sp>
        <p:nvSpPr>
          <p:cNvPr id="459" name=""/>
          <p:cNvSpPr/>
          <p:nvPr/>
        </p:nvSpPr>
        <p:spPr>
          <a:xfrm>
            <a:off x="5519880" y="2962440"/>
            <a:ext cx="4306680" cy="2387520"/>
          </a:xfrm>
          <a:custGeom>
            <a:avLst/>
            <a:gdLst/>
            <a:ahLst/>
            <a:rect l="l" t="t" r="r" b="b"/>
            <a:pathLst>
              <a:path w="11962" h="6634">
                <a:moveTo>
                  <a:pt x="870" y="1124"/>
                </a:moveTo>
                <a:lnTo>
                  <a:pt x="0" y="3552"/>
                </a:lnTo>
                <a:lnTo>
                  <a:pt x="4060" y="3878"/>
                </a:lnTo>
                <a:lnTo>
                  <a:pt x="834" y="1160"/>
                </a:lnTo>
                <a:lnTo>
                  <a:pt x="4458" y="254"/>
                </a:lnTo>
                <a:lnTo>
                  <a:pt x="4060" y="3878"/>
                </a:lnTo>
                <a:lnTo>
                  <a:pt x="1559" y="5691"/>
                </a:lnTo>
                <a:lnTo>
                  <a:pt x="8300" y="6633"/>
                </a:lnTo>
                <a:lnTo>
                  <a:pt x="4023" y="3951"/>
                </a:lnTo>
                <a:lnTo>
                  <a:pt x="9533" y="3335"/>
                </a:lnTo>
                <a:lnTo>
                  <a:pt x="8300" y="6633"/>
                </a:lnTo>
                <a:lnTo>
                  <a:pt x="11961" y="5437"/>
                </a:lnTo>
                <a:lnTo>
                  <a:pt x="9496" y="3299"/>
                </a:lnTo>
                <a:lnTo>
                  <a:pt x="11925" y="2320"/>
                </a:lnTo>
                <a:lnTo>
                  <a:pt x="8373" y="0"/>
                </a:lnTo>
                <a:lnTo>
                  <a:pt x="9533" y="3335"/>
                </a:lnTo>
                <a:lnTo>
                  <a:pt x="7104" y="979"/>
                </a:lnTo>
                <a:lnTo>
                  <a:pt x="4060" y="3878"/>
                </a:lnTo>
              </a:path>
            </a:pathLst>
          </a:custGeom>
          <a:noFill/>
          <a:ln w="18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519880" y="2217600"/>
            <a:ext cx="4514760" cy="3549960"/>
          </a:xfrm>
          <a:custGeom>
            <a:avLst/>
            <a:gdLst/>
            <a:ahLst/>
            <a:rect l="l" t="t" r="r" b="b"/>
            <a:pathLst>
              <a:path w="12542" h="9860">
                <a:moveTo>
                  <a:pt x="0" y="5618"/>
                </a:moveTo>
                <a:lnTo>
                  <a:pt x="1559" y="7793"/>
                </a:lnTo>
                <a:lnTo>
                  <a:pt x="1885" y="9750"/>
                </a:lnTo>
                <a:lnTo>
                  <a:pt x="8373" y="8699"/>
                </a:lnTo>
                <a:lnTo>
                  <a:pt x="10221" y="9859"/>
                </a:lnTo>
                <a:lnTo>
                  <a:pt x="11961" y="7503"/>
                </a:lnTo>
                <a:lnTo>
                  <a:pt x="11925" y="4386"/>
                </a:lnTo>
                <a:lnTo>
                  <a:pt x="12541" y="2719"/>
                </a:lnTo>
                <a:lnTo>
                  <a:pt x="8373" y="2066"/>
                </a:lnTo>
                <a:lnTo>
                  <a:pt x="7140" y="3081"/>
                </a:lnTo>
                <a:lnTo>
                  <a:pt x="4458" y="2356"/>
                </a:lnTo>
                <a:lnTo>
                  <a:pt x="8409" y="2066"/>
                </a:lnTo>
                <a:lnTo>
                  <a:pt x="7068" y="0"/>
                </a:lnTo>
                <a:lnTo>
                  <a:pt x="4458" y="2320"/>
                </a:lnTo>
              </a:path>
            </a:pathLst>
          </a:custGeom>
          <a:noFill/>
          <a:ln w="18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662440" y="3679920"/>
            <a:ext cx="3745080" cy="1109520"/>
          </a:xfrm>
          <a:custGeom>
            <a:avLst/>
            <a:gdLst/>
            <a:ahLst/>
            <a:rect l="l" t="t" r="r" b="b"/>
            <a:pathLst>
              <a:path w="10403" h="3082">
                <a:moveTo>
                  <a:pt x="0" y="435"/>
                </a:moveTo>
                <a:lnTo>
                  <a:pt x="1993" y="507"/>
                </a:lnTo>
                <a:lnTo>
                  <a:pt x="3878" y="0"/>
                </a:lnTo>
                <a:lnTo>
                  <a:pt x="5328" y="362"/>
                </a:lnTo>
                <a:lnTo>
                  <a:pt x="6596" y="1631"/>
                </a:lnTo>
                <a:lnTo>
                  <a:pt x="8517" y="3081"/>
                </a:lnTo>
                <a:lnTo>
                  <a:pt x="10402" y="2428"/>
                </a:lnTo>
              </a:path>
            </a:pathLst>
          </a:cu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662440" y="3822840"/>
            <a:ext cx="1592280" cy="1357200"/>
          </a:xfrm>
          <a:custGeom>
            <a:avLst/>
            <a:gdLst/>
            <a:ahLst/>
            <a:rect l="l" t="t" r="r" b="b"/>
            <a:pathLst>
              <a:path w="4423" h="3771">
                <a:moveTo>
                  <a:pt x="0" y="0"/>
                </a:moveTo>
                <a:lnTo>
                  <a:pt x="1558" y="1305"/>
                </a:lnTo>
                <a:lnTo>
                  <a:pt x="2465" y="2393"/>
                </a:lnTo>
                <a:lnTo>
                  <a:pt x="4422" y="3770"/>
                </a:lnTo>
              </a:path>
            </a:pathLst>
          </a:cu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059600" y="3000240"/>
            <a:ext cx="822240" cy="679680"/>
          </a:xfrm>
          <a:custGeom>
            <a:avLst/>
            <a:gdLst/>
            <a:ahLst/>
            <a:rect l="l" t="t" r="r" b="b"/>
            <a:pathLst>
              <a:path w="2284" h="1886">
                <a:moveTo>
                  <a:pt x="0" y="1885"/>
                </a:moveTo>
                <a:lnTo>
                  <a:pt x="1522" y="580"/>
                </a:lnTo>
                <a:lnTo>
                  <a:pt x="2283" y="0"/>
                </a:lnTo>
              </a:path>
            </a:pathLst>
          </a:cu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7567560" y="3405240"/>
            <a:ext cx="1644840" cy="404640"/>
          </a:xfrm>
          <a:custGeom>
            <a:avLst/>
            <a:gdLst/>
            <a:ahLst/>
            <a:rect l="l" t="t" r="r" b="b"/>
            <a:pathLst>
              <a:path w="4567" h="1124">
                <a:moveTo>
                  <a:pt x="0" y="1123"/>
                </a:moveTo>
                <a:lnTo>
                  <a:pt x="2609" y="869"/>
                </a:lnTo>
                <a:lnTo>
                  <a:pt x="3262" y="362"/>
                </a:lnTo>
                <a:lnTo>
                  <a:pt x="4566" y="0"/>
                </a:lnTo>
              </a:path>
            </a:pathLst>
          </a:cu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flipV="1">
            <a:off x="7607160" y="3142800"/>
            <a:ext cx="717840" cy="55800"/>
          </a:xfrm>
          <a:prstGeom prst="line">
            <a:avLst/>
          </a:prstGeom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8729640" y="4775040"/>
            <a:ext cx="482760" cy="339840"/>
          </a:xfrm>
          <a:prstGeom prst="line">
            <a:avLst/>
          </a:prstGeom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550200" y="4684680"/>
            <a:ext cx="1160280" cy="157320"/>
          </a:xfrm>
          <a:prstGeom prst="line">
            <a:avLst/>
          </a:prstGeom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729640" y="3522600"/>
            <a:ext cx="665280" cy="442800"/>
          </a:xfrm>
          <a:prstGeom prst="line">
            <a:avLst/>
          </a:prstGeom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flipV="1">
            <a:off x="9407520" y="4316040"/>
            <a:ext cx="417600" cy="237960"/>
          </a:xfrm>
          <a:prstGeom prst="line">
            <a:avLst/>
          </a:prstGeom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454720" y="3614760"/>
            <a:ext cx="417600" cy="417600"/>
          </a:xfrm>
          <a:prstGeom prst="smileyFace">
            <a:avLst>
              <a:gd name="adj" fmla="val 4653"/>
            </a:avLst>
          </a:prstGeom>
          <a:solidFill>
            <a:srgbClr val="00b8ff"/>
          </a:solidFill>
          <a:ln w="18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590040" y="4057560"/>
            <a:ext cx="522360" cy="522360"/>
          </a:xfrm>
          <a:prstGeom prst="star5">
            <a:avLst/>
          </a:prstGeom>
          <a:solidFill>
            <a:srgbClr val="00b8ff"/>
          </a:solidFill>
          <a:ln w="18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60360" y="360360"/>
            <a:ext cx="997272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1" i="1" lang="en-GB" sz="3600" spc="-1" strike="noStrike">
                <a:solidFill>
                  <a:srgbClr val="800000"/>
                </a:solidFill>
                <a:latin typeface="Helvetic"/>
              </a:rPr>
              <a:t>Overview</a:t>
            </a:r>
            <a:endParaRPr b="1" i="1" lang="en-US" sz="3600" spc="-1" strike="noStrike">
              <a:solidFill>
                <a:srgbClr val="ffffff"/>
              </a:solidFill>
              <a:latin typeface="Helvet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78000" y="1561680"/>
            <a:ext cx="482256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3280" indent="-432000">
              <a:lnSpc>
                <a:spcPct val="93000"/>
              </a:lnSpc>
              <a:spcAft>
                <a:spcPts val="1412"/>
              </a:spcAft>
              <a:buSzPct val="100000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Helvetic"/>
              </a:rPr>
              <a:t>Pathfinding Introduction</a:t>
            </a:r>
            <a:endParaRPr b="0" lang="en-US" sz="2800" spc="-1" strike="noStrike">
              <a:solidFill>
                <a:srgbClr val="000000"/>
              </a:solidFill>
              <a:latin typeface="Helvetic"/>
            </a:endParaRPr>
          </a:p>
          <a:p>
            <a:pPr marL="503280" indent="-432000">
              <a:lnSpc>
                <a:spcPct val="93000"/>
              </a:lnSpc>
              <a:spcAft>
                <a:spcPts val="1412"/>
              </a:spcAft>
              <a:buSzPct val="100000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Helvetic"/>
              </a:rPr>
              <a:t>Grid-Based Approaches</a:t>
            </a:r>
            <a:endParaRPr b="0" lang="en-US" sz="2800" spc="-1" strike="noStrike">
              <a:solidFill>
                <a:srgbClr val="000000"/>
              </a:solidFill>
              <a:latin typeface="Helvetic"/>
            </a:endParaRPr>
          </a:p>
          <a:p>
            <a:pPr marL="503280" indent="-432000">
              <a:lnSpc>
                <a:spcPct val="93000"/>
              </a:lnSpc>
              <a:spcAft>
                <a:spcPts val="1412"/>
              </a:spcAft>
              <a:buSzPct val="100000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Helvetic"/>
              </a:rPr>
              <a:t>Triangulations</a:t>
            </a:r>
            <a:endParaRPr b="0" lang="en-US" sz="2800" spc="-1" strike="noStrike">
              <a:solidFill>
                <a:srgbClr val="000000"/>
              </a:solidFill>
              <a:latin typeface="Helvetic"/>
            </a:endParaRPr>
          </a:p>
          <a:p>
            <a:pPr marL="503280" indent="-432000">
              <a:lnSpc>
                <a:spcPct val="93000"/>
              </a:lnSpc>
              <a:spcAft>
                <a:spcPts val="1412"/>
              </a:spcAft>
              <a:buSzPct val="100000"/>
              <a:buBlip>
                <a:blip r:embed="rId4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Helvetic"/>
              </a:rPr>
              <a:t>Funnel Algorithm</a:t>
            </a:r>
            <a:endParaRPr b="0" lang="en-US" sz="2800" spc="-1" strike="noStrike">
              <a:solidFill>
                <a:srgbClr val="000000"/>
              </a:solidFill>
              <a:latin typeface="Helvetic"/>
            </a:endParaRPr>
          </a:p>
          <a:p>
            <a:pPr marL="503280" indent="-432000">
              <a:lnSpc>
                <a:spcPct val="93000"/>
              </a:lnSpc>
              <a:spcAft>
                <a:spcPts val="1412"/>
              </a:spcAft>
              <a:buSzPct val="100000"/>
              <a:buBlip>
                <a:blip r:embed="rId5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Helvetic"/>
              </a:rPr>
              <a:t>Triangle “Width”</a:t>
            </a:r>
            <a:endParaRPr b="0" lang="en-US" sz="2800" spc="-1" strike="noStrike">
              <a:solidFill>
                <a:srgbClr val="000000"/>
              </a:solidFill>
              <a:latin typeface="Helvetic"/>
            </a:endParaRPr>
          </a:p>
          <a:p>
            <a:pPr marL="503280" indent="-432000">
              <a:lnSpc>
                <a:spcPct val="93000"/>
              </a:lnSpc>
              <a:spcAft>
                <a:spcPts val="1412"/>
              </a:spcAft>
              <a:buSzPct val="100000"/>
              <a:buBlip>
                <a:blip r:embed="rId6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Helvetic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Helvetic"/>
              </a:rPr>
              <a:t>Naïve” Search</a:t>
            </a:r>
            <a:endParaRPr b="0" lang="en-US" sz="2800" spc="-1" strike="noStrike">
              <a:solidFill>
                <a:srgbClr val="000000"/>
              </a:solidFill>
              <a:latin typeface="Helvetic"/>
            </a:endParaRPr>
          </a:p>
          <a:p>
            <a:pPr marL="503280" indent="-432000">
              <a:lnSpc>
                <a:spcPct val="93000"/>
              </a:lnSpc>
              <a:spcAft>
                <a:spcPts val="1412"/>
              </a:spcAft>
              <a:buSzPct val="100000"/>
              <a:buBlip>
                <a:blip r:embed="rId7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Helvetic"/>
              </a:rPr>
              <a:t>Optimality Concerns</a:t>
            </a:r>
            <a:endParaRPr b="0" lang="en-US" sz="2800" spc="-1" strike="noStrike">
              <a:solidFill>
                <a:srgbClr val="000000"/>
              </a:solidFill>
              <a:latin typeface="Helvet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439960" y="1561680"/>
            <a:ext cx="482292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3280" indent="-432000">
              <a:lnSpc>
                <a:spcPct val="93000"/>
              </a:lnSpc>
              <a:spcAft>
                <a:spcPts val="1412"/>
              </a:spcAft>
              <a:buSzPct val="100000"/>
              <a:buBlip>
                <a:blip r:embed="rId8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Helvetic"/>
              </a:rPr>
              <a:t>TA* (Base-Level) Search</a:t>
            </a:r>
            <a:endParaRPr b="0" lang="en-US" sz="2800" spc="-1" strike="noStrike">
              <a:solidFill>
                <a:srgbClr val="000000"/>
              </a:solidFill>
              <a:latin typeface="Helvetic"/>
            </a:endParaRPr>
          </a:p>
          <a:p>
            <a:pPr marL="503280" indent="-432000">
              <a:lnSpc>
                <a:spcPct val="93000"/>
              </a:lnSpc>
              <a:spcAft>
                <a:spcPts val="1412"/>
              </a:spcAft>
              <a:buSzPct val="100000"/>
              <a:buBlip>
                <a:blip r:embed="rId9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Helvetic"/>
              </a:rPr>
              <a:t>Triangulation Abstraction</a:t>
            </a:r>
            <a:endParaRPr b="0" lang="en-US" sz="2800" spc="-1" strike="noStrike">
              <a:solidFill>
                <a:srgbClr val="000000"/>
              </a:solidFill>
              <a:latin typeface="Helvetic"/>
            </a:endParaRPr>
          </a:p>
          <a:p>
            <a:pPr marL="503280" indent="-432000">
              <a:lnSpc>
                <a:spcPct val="93000"/>
              </a:lnSpc>
              <a:spcAft>
                <a:spcPts val="1412"/>
              </a:spcAft>
              <a:buSzPct val="100000"/>
              <a:buBlip>
                <a:blip r:embed="rId10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Helvetic"/>
              </a:rPr>
              <a:t>TRA* (Abstraction) Search</a:t>
            </a:r>
            <a:endParaRPr b="0" lang="en-US" sz="2800" spc="-1" strike="noStrike">
              <a:solidFill>
                <a:srgbClr val="000000"/>
              </a:solidFill>
              <a:latin typeface="Helvetic"/>
            </a:endParaRPr>
          </a:p>
          <a:p>
            <a:pPr marL="503280" indent="-432000">
              <a:lnSpc>
                <a:spcPct val="93000"/>
              </a:lnSpc>
              <a:spcAft>
                <a:spcPts val="1412"/>
              </a:spcAft>
              <a:buSzPct val="100000"/>
              <a:buBlip>
                <a:blip r:embed="rId1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Helvetic"/>
              </a:rPr>
              <a:t>Experiments</a:t>
            </a:r>
            <a:endParaRPr b="0" lang="en-US" sz="2800" spc="-1" strike="noStrike">
              <a:solidFill>
                <a:srgbClr val="000000"/>
              </a:solidFill>
              <a:latin typeface="Helvetic"/>
            </a:endParaRPr>
          </a:p>
          <a:p>
            <a:pPr marL="503280" indent="-432000">
              <a:lnSpc>
                <a:spcPct val="93000"/>
              </a:lnSpc>
              <a:spcAft>
                <a:spcPts val="1412"/>
              </a:spcAft>
              <a:buSzPct val="100000"/>
              <a:buBlip>
                <a:blip r:embed="rId1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Helvetic"/>
              </a:rPr>
              <a:t>Results</a:t>
            </a:r>
            <a:endParaRPr b="0" lang="en-US" sz="2800" spc="-1" strike="noStrike">
              <a:solidFill>
                <a:srgbClr val="000000"/>
              </a:solidFill>
              <a:latin typeface="Helvetic"/>
            </a:endParaRPr>
          </a:p>
          <a:p>
            <a:pPr marL="503280" indent="-432000">
              <a:lnSpc>
                <a:spcPct val="93000"/>
              </a:lnSpc>
              <a:spcAft>
                <a:spcPts val="1412"/>
              </a:spcAft>
              <a:buSzPct val="100000"/>
              <a:buBlip>
                <a:blip r:embed="rId1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Helvetic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Helvetic"/>
            </a:endParaRPr>
          </a:p>
          <a:p>
            <a:pPr marL="503280" indent="-432000">
              <a:lnSpc>
                <a:spcPct val="93000"/>
              </a:lnSpc>
              <a:spcAft>
                <a:spcPts val="1412"/>
              </a:spcAft>
              <a:buSzPct val="100000"/>
              <a:buBlip>
                <a:blip r:embed="rId14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Helvetic"/>
              </a:rPr>
              <a:t>Future Work</a:t>
            </a:r>
            <a:endParaRPr b="0" lang="en-US" sz="2800" spc="-1" strike="noStrike">
              <a:solidFill>
                <a:srgbClr val="000000"/>
              </a:solidFill>
              <a:latin typeface="Helvetic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60360" y="360360"/>
            <a:ext cx="997272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1" i="1" lang="en-GB" sz="3600" spc="-1" strike="noStrike">
                <a:solidFill>
                  <a:srgbClr val="800000"/>
                </a:solidFill>
                <a:latin typeface="Helvetic"/>
              </a:rPr>
              <a:t>Optimality Concerns</a:t>
            </a:r>
            <a:endParaRPr b="1" i="1" lang="en-US" sz="3600" spc="-1" strike="noStrike">
              <a:solidFill>
                <a:srgbClr val="ffffff"/>
              </a:solidFill>
              <a:latin typeface="Helvetic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78000" y="1561680"/>
            <a:ext cx="9883440" cy="48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3280" indent="-432000">
              <a:lnSpc>
                <a:spcPct val="93000"/>
              </a:lnSpc>
              <a:spcAft>
                <a:spcPts val="1412"/>
              </a:spcAft>
              <a:buSzPct val="100000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Helvetic"/>
              </a:rPr>
              <a:t>What do we have to do to find an optimal path?</a:t>
            </a:r>
            <a:endParaRPr b="0" lang="en-US" sz="2800" spc="-1" strike="noStrike">
              <a:solidFill>
                <a:srgbClr val="000000"/>
              </a:solidFill>
              <a:latin typeface="Helvetic"/>
            </a:endParaRPr>
          </a:p>
          <a:p>
            <a:pPr marL="503280" indent="-432000">
              <a:lnSpc>
                <a:spcPct val="93000"/>
              </a:lnSpc>
              <a:spcAft>
                <a:spcPts val="1412"/>
              </a:spcAft>
              <a:buSzPct val="100000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Helvetic"/>
              </a:rPr>
              <a:t>(Under)estimate the distance travelled so far</a:t>
            </a:r>
            <a:endParaRPr b="0" lang="en-US" sz="2800" spc="-1" strike="noStrike">
              <a:solidFill>
                <a:srgbClr val="000000"/>
              </a:solidFill>
              <a:latin typeface="Helvetic"/>
            </a:endParaRPr>
          </a:p>
          <a:p>
            <a:pPr marL="503280" indent="-432000">
              <a:lnSpc>
                <a:spcPct val="93000"/>
              </a:lnSpc>
              <a:spcAft>
                <a:spcPts val="1412"/>
              </a:spcAft>
              <a:buSzPct val="100000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Helvetic"/>
              </a:rPr>
              <a:t>Allow multiple paths to any node</a:t>
            </a:r>
            <a:endParaRPr b="0" lang="en-US" sz="2800" spc="-1" strike="noStrike">
              <a:solidFill>
                <a:srgbClr val="000000"/>
              </a:solidFill>
              <a:latin typeface="Helvetic"/>
            </a:endParaRPr>
          </a:p>
          <a:p>
            <a:pPr marL="503280" indent="-432000">
              <a:lnSpc>
                <a:spcPct val="93000"/>
              </a:lnSpc>
              <a:spcAft>
                <a:spcPts val="1412"/>
              </a:spcAft>
              <a:buSzPct val="100000"/>
              <a:buBlip>
                <a:blip r:embed="rId4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Helvetic"/>
              </a:rPr>
              <a:t>When a channel is found to the goal, calculate the length of the shortest path in this channel</a:t>
            </a:r>
            <a:endParaRPr b="0" lang="en-US" sz="2800" spc="-1" strike="noStrike">
              <a:solidFill>
                <a:srgbClr val="000000"/>
              </a:solidFill>
              <a:latin typeface="Helvetic"/>
            </a:endParaRPr>
          </a:p>
          <a:p>
            <a:pPr marL="503280" indent="-432000">
              <a:lnSpc>
                <a:spcPct val="93000"/>
              </a:lnSpc>
              <a:spcAft>
                <a:spcPts val="1412"/>
              </a:spcAft>
              <a:buSzPct val="100000"/>
              <a:buBlip>
                <a:blip r:embed="rId5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Helvetic"/>
              </a:rPr>
              <a:t>If it is the shortest path found so far, keep it, otherwise, reject it (anytime algorithm)</a:t>
            </a:r>
            <a:endParaRPr b="0" lang="en-US" sz="2800" spc="-1" strike="noStrike">
              <a:solidFill>
                <a:srgbClr val="000000"/>
              </a:solidFill>
              <a:latin typeface="Helvetic"/>
            </a:endParaRPr>
          </a:p>
          <a:p>
            <a:pPr marL="503280" indent="-432000">
              <a:lnSpc>
                <a:spcPct val="93000"/>
              </a:lnSpc>
              <a:spcAft>
                <a:spcPts val="1412"/>
              </a:spcAft>
              <a:buSzPct val="100000"/>
              <a:buBlip>
                <a:blip r:embed="rId6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Helvetic"/>
              </a:rPr>
              <a:t>When the distance travelled so far for the paths yet to be searched exceeds the length of the shortest path, the algorithm ends and we have an optimal path</a:t>
            </a:r>
            <a:endParaRPr b="0" lang="en-US" sz="2800" spc="-1" strike="noStrike">
              <a:solidFill>
                <a:srgbClr val="000000"/>
              </a:solidFill>
              <a:latin typeface="Helvetic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60360" y="360360"/>
            <a:ext cx="997272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1" i="1" lang="en-GB" sz="3600" spc="-1" strike="noStrike">
                <a:solidFill>
                  <a:srgbClr val="800000"/>
                </a:solidFill>
                <a:latin typeface="Helvetic"/>
              </a:rPr>
              <a:t>Triangulation A* (TA*)</a:t>
            </a:r>
            <a:endParaRPr b="1" i="1" lang="en-US" sz="3600" spc="-1" strike="noStrike">
              <a:solidFill>
                <a:srgbClr val="ffffff"/>
              </a:solidFill>
              <a:latin typeface="Helvetic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78000" y="1561680"/>
            <a:ext cx="98834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3280" indent="-432000">
              <a:lnSpc>
                <a:spcPct val="93000"/>
              </a:lnSpc>
              <a:spcAft>
                <a:spcPts val="1412"/>
              </a:spcAft>
              <a:buSzPct val="100000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Helvetic"/>
              </a:rPr>
              <a:t>A* running on the base triangulation</a:t>
            </a:r>
            <a:endParaRPr b="0" lang="en-US" sz="2800" spc="-1" strike="noStrike">
              <a:solidFill>
                <a:srgbClr val="000000"/>
              </a:solidFill>
              <a:latin typeface="Helvetic"/>
            </a:endParaRPr>
          </a:p>
          <a:p>
            <a:pPr lvl="1" marL="790560" indent="-431640">
              <a:lnSpc>
                <a:spcPct val="93000"/>
              </a:lnSpc>
              <a:spcAft>
                <a:spcPts val="1137"/>
              </a:spcAft>
              <a:buSzPct val="100000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Helvetic"/>
              </a:rPr>
              <a:t>Using a triangle for a node and generating the adjacent triangles across unconstrained edges as its children</a:t>
            </a:r>
            <a:endParaRPr b="0" lang="en-US" sz="2600" spc="-1" strike="noStrike">
              <a:solidFill>
                <a:srgbClr val="000000"/>
              </a:solidFill>
              <a:latin typeface="Helvetic"/>
            </a:endParaRPr>
          </a:p>
          <a:p>
            <a:pPr marL="503280" indent="-432000">
              <a:lnSpc>
                <a:spcPct val="93000"/>
              </a:lnSpc>
              <a:spcAft>
                <a:spcPts val="1412"/>
              </a:spcAft>
              <a:buSzPct val="100000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Helvetic"/>
              </a:rPr>
              <a:t>Using anytime algorithm and considering multiple paths to a triangle as described earlier</a:t>
            </a:r>
            <a:endParaRPr b="0" lang="en-US" sz="2800" spc="-1" strike="noStrike">
              <a:solidFill>
                <a:srgbClr val="000000"/>
              </a:solidFill>
              <a:latin typeface="Helvetic"/>
            </a:endParaRPr>
          </a:p>
          <a:p>
            <a:pPr marL="503280" indent="-432000">
              <a:lnSpc>
                <a:spcPct val="93000"/>
              </a:lnSpc>
              <a:spcAft>
                <a:spcPts val="1412"/>
              </a:spcAft>
              <a:buSzPct val="100000"/>
              <a:buBlip>
                <a:blip r:embed="rId4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Helvetic"/>
              </a:rPr>
              <a:t>For a heuristic (h-value), take the Euclidean distance between the goal and any point on the triangle's entry edge</a:t>
            </a:r>
            <a:endParaRPr b="0" lang="en-US" sz="2800" spc="-1" strike="noStrike">
              <a:solidFill>
                <a:srgbClr val="000000"/>
              </a:solidFill>
              <a:latin typeface="Helvetic"/>
            </a:endParaRPr>
          </a:p>
          <a:p>
            <a:pPr marL="503280" indent="-432000">
              <a:lnSpc>
                <a:spcPct val="93000"/>
              </a:lnSpc>
              <a:spcAft>
                <a:spcPts val="1412"/>
              </a:spcAft>
              <a:buSzPct val="100000"/>
              <a:buBlip>
                <a:blip r:embed="rId5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Helvetic"/>
              </a:rPr>
              <a:t>To make sure at least one path is found quickly, don't expand a node from a triangle that's already been expanded, until the first solution is found</a:t>
            </a:r>
            <a:endParaRPr b="0" lang="en-US" sz="2800" spc="-1" strike="noStrike">
              <a:solidFill>
                <a:srgbClr val="000000"/>
              </a:solidFill>
              <a:latin typeface="Helvetic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60360" y="360360"/>
            <a:ext cx="997272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1" i="1" lang="en-GB" sz="3600" spc="-1" strike="noStrike">
                <a:solidFill>
                  <a:srgbClr val="800000"/>
                </a:solidFill>
                <a:latin typeface="Helvetic"/>
              </a:rPr>
              <a:t>Triangulation A* (TA*) Cont'd</a:t>
            </a:r>
            <a:endParaRPr b="1" i="1" lang="en-US" sz="3600" spc="-1" strike="noStrike">
              <a:solidFill>
                <a:srgbClr val="ffffff"/>
              </a:solidFill>
              <a:latin typeface="Helvetic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78000" y="1561680"/>
            <a:ext cx="988344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3280" indent="-432000">
              <a:lnSpc>
                <a:spcPct val="93000"/>
              </a:lnSpc>
              <a:spcAft>
                <a:spcPts val="1412"/>
              </a:spcAft>
              <a:buSzPct val="100000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Helvetic"/>
              </a:rPr>
              <a:t>Calculate an underestimate for the distance-travelled-so-far (g-value) as the maximum of the underestimates:</a:t>
            </a:r>
            <a:endParaRPr b="0" lang="en-US" sz="2800" spc="-1" strike="noStrike">
              <a:solidFill>
                <a:srgbClr val="000000"/>
              </a:solidFill>
              <a:latin typeface="Helvetic"/>
            </a:endParaRPr>
          </a:p>
          <a:p>
            <a:pPr lvl="1" marL="790560" indent="-431640">
              <a:lnSpc>
                <a:spcPct val="93000"/>
              </a:lnSpc>
              <a:spcAft>
                <a:spcPts val="1137"/>
              </a:spcAft>
              <a:buSzPct val="100000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Helvetic"/>
              </a:rPr>
              <a:t>The euclidean distance from the start to a point on the entry edge (the edge by which this node's triangle was entered)</a:t>
            </a:r>
            <a:endParaRPr b="0" lang="en-US" sz="2600" spc="-1" strike="noStrike">
              <a:solidFill>
                <a:srgbClr val="000000"/>
              </a:solidFill>
              <a:latin typeface="Helvetic"/>
            </a:endParaRPr>
          </a:p>
          <a:p>
            <a:pPr lvl="1" marL="790560" indent="-431640">
              <a:lnSpc>
                <a:spcPct val="93000"/>
              </a:lnSpc>
              <a:spcAft>
                <a:spcPts val="1137"/>
              </a:spcAft>
              <a:buSzPct val="100000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Helvetic"/>
              </a:rPr>
              <a:t>The euclidean distance between the start and goal minus the node's heuristic (h-value)</a:t>
            </a:r>
            <a:endParaRPr b="0" lang="en-US" sz="2600" spc="-1" strike="noStrike">
              <a:solidFill>
                <a:srgbClr val="000000"/>
              </a:solidFill>
              <a:latin typeface="Helvetic"/>
            </a:endParaRPr>
          </a:p>
          <a:p>
            <a:pPr lvl="1" marL="790560" indent="-431640">
              <a:lnSpc>
                <a:spcPct val="93000"/>
              </a:lnSpc>
              <a:spcAft>
                <a:spcPts val="1137"/>
              </a:spcAft>
              <a:buSzPct val="100000"/>
              <a:buBlip>
                <a:blip r:embed="rId4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Helvetic"/>
              </a:rPr>
              <a:t>The parent node's g-value plus the difference between its h-value and that of this node</a:t>
            </a:r>
            <a:endParaRPr b="0" lang="en-US" sz="2600" spc="-1" strike="noStrike">
              <a:solidFill>
                <a:srgbClr val="000000"/>
              </a:solidFill>
              <a:latin typeface="Helvetic"/>
            </a:endParaRPr>
          </a:p>
          <a:p>
            <a:pPr lvl="1" marL="790560" indent="-431640">
              <a:lnSpc>
                <a:spcPct val="93000"/>
              </a:lnSpc>
              <a:spcAft>
                <a:spcPts val="1137"/>
              </a:spcAft>
              <a:buSzPct val="100000"/>
              <a:buBlip>
                <a:blip r:embed="rId5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Helvetic"/>
              </a:rPr>
              <a:t>The parent node's g-value plus the least distance between its entry edge and that of the current triangle</a:t>
            </a:r>
            <a:endParaRPr b="0" lang="en-US" sz="2600" spc="-1" strike="noStrike">
              <a:solidFill>
                <a:srgbClr val="000000"/>
              </a:solidFill>
              <a:latin typeface="Helvetic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60360" y="360360"/>
            <a:ext cx="997272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1" i="1" lang="en-GB" sz="3600" spc="-1" strike="noStrike">
                <a:solidFill>
                  <a:srgbClr val="800000"/>
                </a:solidFill>
                <a:latin typeface="Helvetic"/>
              </a:rPr>
              <a:t>Triangulation Abstraction</a:t>
            </a:r>
            <a:endParaRPr b="1" i="1" lang="en-US" sz="3600" spc="-1" strike="noStrike">
              <a:solidFill>
                <a:srgbClr val="ffffff"/>
              </a:solidFill>
              <a:latin typeface="Helvetic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378000" y="1561680"/>
            <a:ext cx="5024160" cy="511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3280" indent="-432000">
              <a:lnSpc>
                <a:spcPct val="93000"/>
              </a:lnSpc>
              <a:spcAft>
                <a:spcPts val="1412"/>
              </a:spcAft>
              <a:buSzPct val="100000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Helvetic"/>
              </a:rPr>
              <a:t>Want to abstract the triangulation without losing its topographic structure</a:t>
            </a:r>
            <a:endParaRPr b="0" lang="en-US" sz="2800" spc="-1" strike="noStrike">
              <a:solidFill>
                <a:srgbClr val="000000"/>
              </a:solidFill>
              <a:latin typeface="Helvetic"/>
            </a:endParaRPr>
          </a:p>
          <a:p>
            <a:pPr marL="503280" indent="-432000">
              <a:lnSpc>
                <a:spcPct val="93000"/>
              </a:lnSpc>
              <a:spcAft>
                <a:spcPts val="1412"/>
              </a:spcAft>
              <a:buSzPct val="100000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Helvetic"/>
              </a:rPr>
              <a:t>Determine triangles as being decision points, on corridors, or in dead ends</a:t>
            </a:r>
            <a:endParaRPr b="0" lang="en-US" sz="2800" spc="-1" strike="noStrike">
              <a:solidFill>
                <a:srgbClr val="000000"/>
              </a:solidFill>
              <a:latin typeface="Helvetic"/>
            </a:endParaRPr>
          </a:p>
          <a:p>
            <a:pPr marL="503280" indent="-432000">
              <a:lnSpc>
                <a:spcPct val="93000"/>
              </a:lnSpc>
              <a:spcAft>
                <a:spcPts val="1412"/>
              </a:spcAft>
              <a:buSzPct val="100000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Helvetic"/>
              </a:rPr>
              <a:t>Define a degree-</a:t>
            </a:r>
            <a:r>
              <a:rPr b="0" i="1" lang="en-GB" sz="2800" spc="-1" strike="noStrike">
                <a:solidFill>
                  <a:srgbClr val="000000"/>
                </a:solidFill>
                <a:latin typeface="Helvetic"/>
              </a:rPr>
              <a:t>n</a:t>
            </a:r>
            <a:r>
              <a:rPr b="0" lang="en-GB" sz="2800" spc="-1" strike="noStrike">
                <a:solidFill>
                  <a:srgbClr val="000000"/>
                </a:solidFill>
                <a:latin typeface="Helvetic"/>
              </a:rPr>
              <a:t> triangle as one with exactly 3-</a:t>
            </a:r>
            <a:r>
              <a:rPr b="0" i="1" lang="en-GB" sz="2800" spc="-1" strike="noStrike">
                <a:solidFill>
                  <a:srgbClr val="000000"/>
                </a:solidFill>
                <a:latin typeface="Helvetic"/>
              </a:rPr>
              <a:t>n</a:t>
            </a:r>
            <a:r>
              <a:rPr b="0" lang="en-GB" sz="2800" spc="-1" strike="noStrike">
                <a:solidFill>
                  <a:srgbClr val="000000"/>
                </a:solidFill>
                <a:latin typeface="Helvetic"/>
              </a:rPr>
              <a:t> triangles adjacent across unconstrained edges that are not degree-1</a:t>
            </a:r>
            <a:endParaRPr b="0" lang="en-US" sz="2800" spc="-1" strike="noStrike">
              <a:solidFill>
                <a:srgbClr val="000000"/>
              </a:solidFill>
              <a:latin typeface="Helvetic"/>
            </a:endParaRPr>
          </a:p>
        </p:txBody>
      </p:sp>
      <p:sp>
        <p:nvSpPr>
          <p:cNvPr id="480" name=""/>
          <p:cNvSpPr/>
          <p:nvPr/>
        </p:nvSpPr>
        <p:spPr>
          <a:xfrm>
            <a:off x="5402160" y="1476360"/>
            <a:ext cx="1800" cy="50371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0082160" y="1476360"/>
            <a:ext cx="1800" cy="50371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402160" y="1476360"/>
            <a:ext cx="468468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402160" y="6516720"/>
            <a:ext cx="468468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7985160" y="1828800"/>
            <a:ext cx="1735200" cy="1969920"/>
          </a:xfrm>
          <a:custGeom>
            <a:avLst/>
            <a:gdLst/>
            <a:ahLst/>
            <a:rect l="l" t="t" r="r" b="b"/>
            <a:pathLst>
              <a:path w="4821" h="5473">
                <a:moveTo>
                  <a:pt x="4820" y="35"/>
                </a:moveTo>
                <a:lnTo>
                  <a:pt x="4820" y="2717"/>
                </a:lnTo>
                <a:lnTo>
                  <a:pt x="3515" y="4022"/>
                </a:lnTo>
                <a:lnTo>
                  <a:pt x="3515" y="5472"/>
                </a:lnTo>
                <a:lnTo>
                  <a:pt x="1232" y="5472"/>
                </a:lnTo>
                <a:lnTo>
                  <a:pt x="1232" y="1956"/>
                </a:lnTo>
                <a:lnTo>
                  <a:pt x="0" y="724"/>
                </a:lnTo>
                <a:lnTo>
                  <a:pt x="724" y="0"/>
                </a:lnTo>
                <a:lnTo>
                  <a:pt x="4820" y="0"/>
                </a:lnTo>
                <a:lnTo>
                  <a:pt x="4820" y="35"/>
                </a:lnTo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754600" y="5195880"/>
            <a:ext cx="1279440" cy="1317600"/>
          </a:xfrm>
          <a:custGeom>
            <a:avLst/>
            <a:gdLst/>
            <a:ahLst/>
            <a:rect l="l" t="t" r="r" b="b"/>
            <a:pathLst>
              <a:path w="3553" h="3662">
                <a:moveTo>
                  <a:pt x="3515" y="3661"/>
                </a:moveTo>
                <a:lnTo>
                  <a:pt x="2283" y="2429"/>
                </a:lnTo>
                <a:lnTo>
                  <a:pt x="2283" y="0"/>
                </a:lnTo>
                <a:lnTo>
                  <a:pt x="0" y="2283"/>
                </a:lnTo>
                <a:lnTo>
                  <a:pt x="0" y="3661"/>
                </a:lnTo>
                <a:lnTo>
                  <a:pt x="3552" y="3661"/>
                </a:lnTo>
                <a:lnTo>
                  <a:pt x="3515" y="3661"/>
                </a:lnTo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85040" y="4869000"/>
            <a:ext cx="1435320" cy="1030320"/>
          </a:xfrm>
          <a:custGeom>
            <a:avLst/>
            <a:gdLst/>
            <a:ahLst/>
            <a:rect l="l" t="t" r="r" b="b"/>
            <a:pathLst>
              <a:path w="3988" h="2864">
                <a:moveTo>
                  <a:pt x="2827" y="36"/>
                </a:moveTo>
                <a:lnTo>
                  <a:pt x="0" y="2863"/>
                </a:lnTo>
                <a:lnTo>
                  <a:pt x="3987" y="2863"/>
                </a:lnTo>
                <a:lnTo>
                  <a:pt x="3987" y="0"/>
                </a:lnTo>
                <a:lnTo>
                  <a:pt x="2900" y="0"/>
                </a:lnTo>
                <a:lnTo>
                  <a:pt x="2827" y="36"/>
                </a:lnTo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9720360" y="1474560"/>
            <a:ext cx="365040" cy="3553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9720360" y="5899320"/>
            <a:ext cx="365040" cy="612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7018200" y="5913360"/>
            <a:ext cx="1255680" cy="600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8285040" y="5899320"/>
            <a:ext cx="1800360" cy="612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V="1">
            <a:off x="5402160" y="6029280"/>
            <a:ext cx="352440" cy="486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6575400" y="5897160"/>
            <a:ext cx="1709640" cy="173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575400" y="5195880"/>
            <a:ext cx="1709640" cy="704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 flipH="1" flipV="1">
            <a:off x="5400720" y="1474920"/>
            <a:ext cx="355680" cy="4543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V="1">
            <a:off x="8232840" y="1474560"/>
            <a:ext cx="1852560" cy="3553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flipV="1">
            <a:off x="5398920" y="1474560"/>
            <a:ext cx="2848320" cy="3553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V="1">
            <a:off x="6575400" y="4869000"/>
            <a:ext cx="2739960" cy="3283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flipV="1">
            <a:off x="8426520" y="3796920"/>
            <a:ext cx="877680" cy="1073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flipV="1">
            <a:off x="9248760" y="3796920"/>
            <a:ext cx="55440" cy="1073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9720360" y="4869000"/>
            <a:ext cx="365040" cy="1644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 flipH="1" flipV="1">
            <a:off x="9248760" y="3796920"/>
            <a:ext cx="473040" cy="1073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flipV="1">
            <a:off x="9250200" y="2819160"/>
            <a:ext cx="470160" cy="981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flipV="1">
            <a:off x="9720360" y="2819160"/>
            <a:ext cx="1440" cy="2050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 flipV="1">
            <a:off x="9720360" y="1474560"/>
            <a:ext cx="365040" cy="1347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 flipV="1">
            <a:off x="9720360" y="1474920"/>
            <a:ext cx="365040" cy="33955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 flipH="1" flipV="1">
            <a:off x="5398920" y="1476360"/>
            <a:ext cx="1177920" cy="37209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flipV="1">
            <a:off x="6575400" y="3798360"/>
            <a:ext cx="1852560" cy="139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7983360" y="2087640"/>
            <a:ext cx="447840" cy="1712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 flipV="1">
            <a:off x="5400360" y="1476360"/>
            <a:ext cx="2585880" cy="6285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 flipH="1" flipV="1">
            <a:off x="5400720" y="1474920"/>
            <a:ext cx="3030480" cy="2325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642440" y="3367080"/>
            <a:ext cx="566280" cy="13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18360" bIns="1836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helvet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360360" y="360360"/>
            <a:ext cx="997272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1" i="1" lang="en-GB" sz="3600" spc="-1" strike="noStrike">
                <a:solidFill>
                  <a:srgbClr val="800000"/>
                </a:solidFill>
                <a:latin typeface="Helvetic"/>
              </a:rPr>
              <a:t>Abstraction Algorithm</a:t>
            </a:r>
            <a:endParaRPr b="1" i="1" lang="en-US" sz="3600" spc="-1" strike="noStrike">
              <a:solidFill>
                <a:srgbClr val="ffffff"/>
              </a:solidFill>
              <a:latin typeface="Helvetic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378000" y="1561680"/>
            <a:ext cx="482256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3280" indent="-432000">
              <a:lnSpc>
                <a:spcPct val="93000"/>
              </a:lnSpc>
              <a:spcAft>
                <a:spcPts val="1412"/>
              </a:spcAft>
              <a:buSzPct val="100000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Helvetic"/>
              </a:rPr>
              <a:t>Abstract triangles with 3 constrained edges as degree-0</a:t>
            </a:r>
            <a:endParaRPr b="0" lang="en-US" sz="2800" spc="-1" strike="noStrike">
              <a:solidFill>
                <a:srgbClr val="000000"/>
              </a:solidFill>
              <a:latin typeface="Helvetic"/>
            </a:endParaRPr>
          </a:p>
          <a:p>
            <a:pPr marL="503280" indent="-432000">
              <a:lnSpc>
                <a:spcPct val="93000"/>
              </a:lnSpc>
              <a:spcAft>
                <a:spcPts val="1412"/>
              </a:spcAft>
              <a:buSzPct val="100000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Helvetic"/>
              </a:rPr>
              <a:t>Abstract triangles with 2 constrained edges as degree-1</a:t>
            </a:r>
            <a:endParaRPr b="0" lang="en-US" sz="2800" spc="-1" strike="noStrike">
              <a:solidFill>
                <a:srgbClr val="000000"/>
              </a:solidFill>
              <a:latin typeface="Helvetic"/>
            </a:endParaRPr>
          </a:p>
          <a:p>
            <a:pPr marL="503280" indent="-432000">
              <a:lnSpc>
                <a:spcPct val="93000"/>
              </a:lnSpc>
              <a:spcAft>
                <a:spcPts val="1412"/>
              </a:spcAft>
              <a:buSzPct val="100000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Helvetic"/>
              </a:rPr>
              <a:t>Put the triangle adjacent the unconstrained edge on a queue</a:t>
            </a:r>
            <a:endParaRPr b="0" lang="en-US" sz="2800" spc="-1" strike="noStrike">
              <a:solidFill>
                <a:srgbClr val="000000"/>
              </a:solidFill>
              <a:latin typeface="Helvetic"/>
            </a:endParaRPr>
          </a:p>
        </p:txBody>
      </p:sp>
      <p:sp>
        <p:nvSpPr>
          <p:cNvPr id="514" name=""/>
          <p:cNvSpPr/>
          <p:nvPr/>
        </p:nvSpPr>
        <p:spPr>
          <a:xfrm>
            <a:off x="5402160" y="1476360"/>
            <a:ext cx="1800" cy="50371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0082160" y="1476360"/>
            <a:ext cx="1800" cy="50371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5402160" y="1476360"/>
            <a:ext cx="468468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5402160" y="6516720"/>
            <a:ext cx="468468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985160" y="1828800"/>
            <a:ext cx="1735200" cy="1969920"/>
          </a:xfrm>
          <a:custGeom>
            <a:avLst/>
            <a:gdLst/>
            <a:ahLst/>
            <a:rect l="l" t="t" r="r" b="b"/>
            <a:pathLst>
              <a:path w="4821" h="5473">
                <a:moveTo>
                  <a:pt x="4820" y="35"/>
                </a:moveTo>
                <a:lnTo>
                  <a:pt x="4820" y="2717"/>
                </a:lnTo>
                <a:lnTo>
                  <a:pt x="3515" y="4022"/>
                </a:lnTo>
                <a:lnTo>
                  <a:pt x="3515" y="5472"/>
                </a:lnTo>
                <a:lnTo>
                  <a:pt x="1232" y="5472"/>
                </a:lnTo>
                <a:lnTo>
                  <a:pt x="1232" y="1956"/>
                </a:lnTo>
                <a:lnTo>
                  <a:pt x="0" y="724"/>
                </a:lnTo>
                <a:lnTo>
                  <a:pt x="724" y="0"/>
                </a:lnTo>
                <a:lnTo>
                  <a:pt x="4820" y="0"/>
                </a:lnTo>
                <a:lnTo>
                  <a:pt x="4820" y="35"/>
                </a:lnTo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5754600" y="5195880"/>
            <a:ext cx="1279440" cy="1317600"/>
          </a:xfrm>
          <a:custGeom>
            <a:avLst/>
            <a:gdLst/>
            <a:ahLst/>
            <a:rect l="l" t="t" r="r" b="b"/>
            <a:pathLst>
              <a:path w="3553" h="3662">
                <a:moveTo>
                  <a:pt x="3515" y="3661"/>
                </a:moveTo>
                <a:lnTo>
                  <a:pt x="2283" y="2429"/>
                </a:lnTo>
                <a:lnTo>
                  <a:pt x="2283" y="0"/>
                </a:lnTo>
                <a:lnTo>
                  <a:pt x="0" y="2283"/>
                </a:lnTo>
                <a:lnTo>
                  <a:pt x="0" y="3661"/>
                </a:lnTo>
                <a:lnTo>
                  <a:pt x="3552" y="3661"/>
                </a:lnTo>
                <a:lnTo>
                  <a:pt x="3515" y="3661"/>
                </a:lnTo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8285040" y="4869000"/>
            <a:ext cx="1435320" cy="1030320"/>
          </a:xfrm>
          <a:custGeom>
            <a:avLst/>
            <a:gdLst/>
            <a:ahLst/>
            <a:rect l="l" t="t" r="r" b="b"/>
            <a:pathLst>
              <a:path w="3988" h="2864">
                <a:moveTo>
                  <a:pt x="2827" y="36"/>
                </a:moveTo>
                <a:lnTo>
                  <a:pt x="0" y="2863"/>
                </a:lnTo>
                <a:lnTo>
                  <a:pt x="3987" y="2863"/>
                </a:lnTo>
                <a:lnTo>
                  <a:pt x="3987" y="0"/>
                </a:lnTo>
                <a:lnTo>
                  <a:pt x="2900" y="0"/>
                </a:lnTo>
                <a:lnTo>
                  <a:pt x="2827" y="36"/>
                </a:lnTo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9720360" y="1474560"/>
            <a:ext cx="365040" cy="3553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9720360" y="5899320"/>
            <a:ext cx="365040" cy="612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 flipH="1">
            <a:off x="7018200" y="5913360"/>
            <a:ext cx="1255680" cy="600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8285040" y="5899320"/>
            <a:ext cx="1800360" cy="612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flipV="1">
            <a:off x="5402160" y="6029280"/>
            <a:ext cx="352440" cy="486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flipV="1">
            <a:off x="6575400" y="5897160"/>
            <a:ext cx="1709640" cy="173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6575400" y="5195880"/>
            <a:ext cx="1709640" cy="704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 flipH="1" flipV="1">
            <a:off x="5400720" y="1474920"/>
            <a:ext cx="355680" cy="4543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 flipV="1">
            <a:off x="8232840" y="1474560"/>
            <a:ext cx="1852560" cy="3553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 flipV="1">
            <a:off x="5398920" y="1474560"/>
            <a:ext cx="2848320" cy="3553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 flipV="1">
            <a:off x="6575400" y="4869000"/>
            <a:ext cx="2739960" cy="3283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 flipH="1" flipV="1">
            <a:off x="8426520" y="3796920"/>
            <a:ext cx="877680" cy="1073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 flipH="1" flipV="1">
            <a:off x="9248760" y="3796920"/>
            <a:ext cx="55440" cy="1073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9720360" y="4869000"/>
            <a:ext cx="365040" cy="1644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 flipH="1" flipV="1">
            <a:off x="9248760" y="3796920"/>
            <a:ext cx="473040" cy="1073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 flipV="1">
            <a:off x="9250200" y="2819160"/>
            <a:ext cx="470160" cy="981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 flipV="1">
            <a:off x="9720360" y="2819160"/>
            <a:ext cx="1440" cy="2050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9720360" y="1474560"/>
            <a:ext cx="365040" cy="1347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flipV="1">
            <a:off x="9720360" y="1474920"/>
            <a:ext cx="365040" cy="33955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H="1" flipV="1">
            <a:off x="5398920" y="1476360"/>
            <a:ext cx="1177920" cy="37209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flipV="1">
            <a:off x="6575400" y="3798360"/>
            <a:ext cx="1852560" cy="139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 flipH="1" flipV="1">
            <a:off x="7983360" y="2087640"/>
            <a:ext cx="447840" cy="1712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00360" y="1476360"/>
            <a:ext cx="2585880" cy="6285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flipH="1" flipV="1">
            <a:off x="5400720" y="1474920"/>
            <a:ext cx="3030480" cy="2325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584680" y="6210360"/>
            <a:ext cx="1540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8210520" y="2575080"/>
            <a:ext cx="1540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9290160" y="3186000"/>
            <a:ext cx="1537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5467680" y="5245200"/>
            <a:ext cx="153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9463320" y="3625920"/>
            <a:ext cx="153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7447320" y="2365200"/>
            <a:ext cx="153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360360" y="360360"/>
            <a:ext cx="997272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1" i="1" lang="en-GB" sz="3600" spc="-1" strike="noStrike">
                <a:solidFill>
                  <a:srgbClr val="800000"/>
                </a:solidFill>
                <a:latin typeface="Helvetic"/>
              </a:rPr>
              <a:t>Abstraction Algorithm, Cont'd</a:t>
            </a:r>
            <a:endParaRPr b="1" i="1" lang="en-US" sz="3600" spc="-1" strike="noStrike">
              <a:solidFill>
                <a:srgbClr val="ffffff"/>
              </a:solidFill>
              <a:latin typeface="Helvetic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378000" y="1561680"/>
            <a:ext cx="4822560" cy="514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3280" indent="-432000">
              <a:lnSpc>
                <a:spcPct val="93000"/>
              </a:lnSpc>
              <a:spcAft>
                <a:spcPts val="1412"/>
              </a:spcAft>
              <a:buSzPct val="100000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Helvetic"/>
              </a:rPr>
              <a:t>Go through the queue</a:t>
            </a:r>
            <a:endParaRPr b="0" lang="en-US" sz="2800" spc="-1" strike="noStrike">
              <a:solidFill>
                <a:srgbClr val="000000"/>
              </a:solidFill>
              <a:latin typeface="Helvetic"/>
            </a:endParaRPr>
          </a:p>
          <a:p>
            <a:pPr lvl="1" marL="790560" indent="-431640">
              <a:lnSpc>
                <a:spcPct val="93000"/>
              </a:lnSpc>
              <a:spcAft>
                <a:spcPts val="1137"/>
              </a:spcAft>
              <a:buSzPct val="100000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Helvetic"/>
              </a:rPr>
              <a:t>If the triangle is now degree-1, abstract it as one</a:t>
            </a:r>
            <a:endParaRPr b="0" lang="en-US" sz="2600" spc="-1" strike="noStrike">
              <a:solidFill>
                <a:srgbClr val="000000"/>
              </a:solidFill>
              <a:latin typeface="Helvetic"/>
            </a:endParaRPr>
          </a:p>
          <a:p>
            <a:pPr lvl="1" marL="790560" indent="-431640">
              <a:lnSpc>
                <a:spcPct val="93000"/>
              </a:lnSpc>
              <a:spcAft>
                <a:spcPts val="1137"/>
              </a:spcAft>
              <a:buSzPct val="100000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Helvetic"/>
              </a:rPr>
              <a:t>And put the unabstracted face across the unconstrained edge onto the end of the queue</a:t>
            </a:r>
            <a:endParaRPr b="0" lang="en-US" sz="2600" spc="-1" strike="noStrike">
              <a:solidFill>
                <a:srgbClr val="000000"/>
              </a:solidFill>
              <a:latin typeface="Helvetic"/>
            </a:endParaRPr>
          </a:p>
          <a:p>
            <a:pPr lvl="1" marL="790560" indent="-431640">
              <a:lnSpc>
                <a:spcPct val="93000"/>
              </a:lnSpc>
              <a:spcAft>
                <a:spcPts val="1137"/>
              </a:spcAft>
              <a:buSzPct val="100000"/>
              <a:buBlip>
                <a:blip r:embed="rId4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Helvetic"/>
              </a:rPr>
              <a:t>Otherwise, just remove it</a:t>
            </a:r>
            <a:endParaRPr b="0" lang="en-US" sz="2600" spc="-1" strike="noStrike">
              <a:solidFill>
                <a:srgbClr val="000000"/>
              </a:solidFill>
              <a:latin typeface="Helvetic"/>
            </a:endParaRPr>
          </a:p>
          <a:p>
            <a:pPr marL="503280" indent="-432000">
              <a:lnSpc>
                <a:spcPct val="93000"/>
              </a:lnSpc>
              <a:spcAft>
                <a:spcPts val="1412"/>
              </a:spcAft>
              <a:buSzPct val="100000"/>
              <a:buBlip>
                <a:blip r:embed="rId5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Helvetic"/>
              </a:rPr>
              <a:t>Sometimes a connected component is “collapsed” into all degree-1 triangles</a:t>
            </a:r>
            <a:endParaRPr b="0" lang="en-US" sz="2800" spc="-1" strike="noStrike">
              <a:solidFill>
                <a:srgbClr val="000000"/>
              </a:solidFill>
              <a:latin typeface="Helvetic"/>
            </a:endParaRPr>
          </a:p>
        </p:txBody>
      </p:sp>
      <p:sp>
        <p:nvSpPr>
          <p:cNvPr id="553" name=""/>
          <p:cNvSpPr/>
          <p:nvPr/>
        </p:nvSpPr>
        <p:spPr>
          <a:xfrm>
            <a:off x="5402160" y="1476360"/>
            <a:ext cx="1800" cy="50371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10082160" y="1476360"/>
            <a:ext cx="1800" cy="50371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402160" y="1476360"/>
            <a:ext cx="468468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5402160" y="6516720"/>
            <a:ext cx="468468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7985160" y="1828800"/>
            <a:ext cx="1735200" cy="1969920"/>
          </a:xfrm>
          <a:custGeom>
            <a:avLst/>
            <a:gdLst/>
            <a:ahLst/>
            <a:rect l="l" t="t" r="r" b="b"/>
            <a:pathLst>
              <a:path w="4821" h="5473">
                <a:moveTo>
                  <a:pt x="4820" y="35"/>
                </a:moveTo>
                <a:lnTo>
                  <a:pt x="4820" y="2717"/>
                </a:lnTo>
                <a:lnTo>
                  <a:pt x="3515" y="4022"/>
                </a:lnTo>
                <a:lnTo>
                  <a:pt x="3515" y="5472"/>
                </a:lnTo>
                <a:lnTo>
                  <a:pt x="1232" y="5472"/>
                </a:lnTo>
                <a:lnTo>
                  <a:pt x="1232" y="1956"/>
                </a:lnTo>
                <a:lnTo>
                  <a:pt x="0" y="724"/>
                </a:lnTo>
                <a:lnTo>
                  <a:pt x="724" y="0"/>
                </a:lnTo>
                <a:lnTo>
                  <a:pt x="4820" y="0"/>
                </a:lnTo>
                <a:lnTo>
                  <a:pt x="4820" y="35"/>
                </a:lnTo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5754600" y="5195880"/>
            <a:ext cx="1279440" cy="1317600"/>
          </a:xfrm>
          <a:custGeom>
            <a:avLst/>
            <a:gdLst/>
            <a:ahLst/>
            <a:rect l="l" t="t" r="r" b="b"/>
            <a:pathLst>
              <a:path w="3553" h="3662">
                <a:moveTo>
                  <a:pt x="3515" y="3661"/>
                </a:moveTo>
                <a:lnTo>
                  <a:pt x="2283" y="2429"/>
                </a:lnTo>
                <a:lnTo>
                  <a:pt x="2283" y="0"/>
                </a:lnTo>
                <a:lnTo>
                  <a:pt x="0" y="2283"/>
                </a:lnTo>
                <a:lnTo>
                  <a:pt x="0" y="3661"/>
                </a:lnTo>
                <a:lnTo>
                  <a:pt x="3552" y="3661"/>
                </a:lnTo>
                <a:lnTo>
                  <a:pt x="3515" y="3661"/>
                </a:lnTo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8285040" y="4869000"/>
            <a:ext cx="1435320" cy="1030320"/>
          </a:xfrm>
          <a:custGeom>
            <a:avLst/>
            <a:gdLst/>
            <a:ahLst/>
            <a:rect l="l" t="t" r="r" b="b"/>
            <a:pathLst>
              <a:path w="3988" h="2864">
                <a:moveTo>
                  <a:pt x="2827" y="36"/>
                </a:moveTo>
                <a:lnTo>
                  <a:pt x="0" y="2863"/>
                </a:lnTo>
                <a:lnTo>
                  <a:pt x="3987" y="2863"/>
                </a:lnTo>
                <a:lnTo>
                  <a:pt x="3987" y="0"/>
                </a:lnTo>
                <a:lnTo>
                  <a:pt x="2900" y="0"/>
                </a:lnTo>
                <a:lnTo>
                  <a:pt x="2827" y="36"/>
                </a:lnTo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flipV="1">
            <a:off x="9720360" y="1474560"/>
            <a:ext cx="365040" cy="3553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9720360" y="5899320"/>
            <a:ext cx="365040" cy="612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flipH="1">
            <a:off x="7018200" y="5913360"/>
            <a:ext cx="1255680" cy="600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8285040" y="5899320"/>
            <a:ext cx="1800360" cy="612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5402160" y="6029280"/>
            <a:ext cx="352440" cy="486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 flipV="1">
            <a:off x="6575400" y="5897160"/>
            <a:ext cx="1709640" cy="173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6575400" y="5195880"/>
            <a:ext cx="1709640" cy="704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5400720" y="1474920"/>
            <a:ext cx="355680" cy="4543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8232840" y="1474560"/>
            <a:ext cx="1852560" cy="3553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 flipH="1" flipV="1">
            <a:off x="5398920" y="1474560"/>
            <a:ext cx="2848320" cy="3553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 flipV="1">
            <a:off x="6575400" y="4869000"/>
            <a:ext cx="2739960" cy="3283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 flipH="1" flipV="1">
            <a:off x="8426520" y="3796920"/>
            <a:ext cx="877680" cy="1073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 flipH="1" flipV="1">
            <a:off x="9248760" y="3796920"/>
            <a:ext cx="55440" cy="1073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9720360" y="4869000"/>
            <a:ext cx="365040" cy="1644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 flipH="1" flipV="1">
            <a:off x="9248760" y="3796920"/>
            <a:ext cx="473040" cy="1073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flipV="1">
            <a:off x="9250200" y="2819160"/>
            <a:ext cx="470160" cy="981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V="1">
            <a:off x="9720360" y="2819160"/>
            <a:ext cx="1440" cy="2050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 flipV="1">
            <a:off x="9720360" y="1474560"/>
            <a:ext cx="365040" cy="1347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flipV="1">
            <a:off x="9720360" y="1474920"/>
            <a:ext cx="365040" cy="33955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 flipH="1" flipV="1">
            <a:off x="5398920" y="1476360"/>
            <a:ext cx="1177920" cy="37209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V="1">
            <a:off x="6575400" y="3798360"/>
            <a:ext cx="1852560" cy="139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 flipH="1" flipV="1">
            <a:off x="7983360" y="2087640"/>
            <a:ext cx="447840" cy="1712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 flipH="1" flipV="1">
            <a:off x="5400360" y="1476360"/>
            <a:ext cx="2585880" cy="6285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 flipH="1" flipV="1">
            <a:off x="5400720" y="1474920"/>
            <a:ext cx="3030480" cy="2325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5584680" y="6210360"/>
            <a:ext cx="1540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8210520" y="2575080"/>
            <a:ext cx="1540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9290160" y="3186000"/>
            <a:ext cx="1537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5467680" y="5245200"/>
            <a:ext cx="153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9463320" y="3625920"/>
            <a:ext cx="153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7447320" y="2365200"/>
            <a:ext cx="153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5872680" y="4370400"/>
            <a:ext cx="153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60360" y="360360"/>
            <a:ext cx="997272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1" i="1" lang="en-GB" sz="3600" spc="-1" strike="noStrike">
                <a:solidFill>
                  <a:srgbClr val="800000"/>
                </a:solidFill>
                <a:latin typeface="Helvetic"/>
              </a:rPr>
              <a:t>Abstraction Algorithm, Cont'd</a:t>
            </a:r>
            <a:endParaRPr b="1" i="1" lang="en-US" sz="3600" spc="-1" strike="noStrike">
              <a:solidFill>
                <a:srgbClr val="ffffff"/>
              </a:solidFill>
              <a:latin typeface="Helvetic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78000" y="1561680"/>
            <a:ext cx="4822560" cy="49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3280" indent="-432000">
              <a:lnSpc>
                <a:spcPct val="93000"/>
              </a:lnSpc>
              <a:spcAft>
                <a:spcPts val="1412"/>
              </a:spcAft>
              <a:buSzPct val="100000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Helvetic"/>
              </a:rPr>
              <a:t>Go through the other triangles</a:t>
            </a:r>
            <a:endParaRPr b="0" lang="en-US" sz="2800" spc="-1" strike="noStrike">
              <a:solidFill>
                <a:srgbClr val="000000"/>
              </a:solidFill>
              <a:latin typeface="Helvetic"/>
            </a:endParaRPr>
          </a:p>
          <a:p>
            <a:pPr marL="503280" indent="-432000">
              <a:lnSpc>
                <a:spcPct val="93000"/>
              </a:lnSpc>
              <a:spcAft>
                <a:spcPts val="1412"/>
              </a:spcAft>
              <a:buSzPct val="100000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Helvetic"/>
              </a:rPr>
              <a:t>Determine which ones have neither constrained edges nor adjacent degree-1 triangles</a:t>
            </a:r>
            <a:endParaRPr b="0" lang="en-US" sz="2800" spc="-1" strike="noStrike">
              <a:solidFill>
                <a:srgbClr val="000000"/>
              </a:solidFill>
              <a:latin typeface="Helvetic"/>
            </a:endParaRPr>
          </a:p>
          <a:p>
            <a:pPr marL="503280" indent="-432000">
              <a:lnSpc>
                <a:spcPct val="93000"/>
              </a:lnSpc>
              <a:spcAft>
                <a:spcPts val="1412"/>
              </a:spcAft>
              <a:buSzPct val="100000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Helvetic"/>
              </a:rPr>
              <a:t>Abstract these as degree-3</a:t>
            </a:r>
            <a:endParaRPr b="0" lang="en-US" sz="2800" spc="-1" strike="noStrike">
              <a:solidFill>
                <a:srgbClr val="000000"/>
              </a:solidFill>
              <a:latin typeface="Helvetic"/>
            </a:endParaRPr>
          </a:p>
          <a:p>
            <a:pPr marL="503280" indent="-432000">
              <a:lnSpc>
                <a:spcPct val="93000"/>
              </a:lnSpc>
              <a:spcAft>
                <a:spcPts val="1412"/>
              </a:spcAft>
              <a:buSzPct val="100000"/>
              <a:buBlip>
                <a:blip r:embed="rId4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Helvetic"/>
              </a:rPr>
              <a:t>There are 2</a:t>
            </a:r>
            <a:r>
              <a:rPr b="0" i="1" lang="en-GB" sz="2800" spc="-1" strike="noStrike">
                <a:solidFill>
                  <a:srgbClr val="000000"/>
                </a:solidFill>
                <a:latin typeface="Helvetic"/>
              </a:rPr>
              <a:t>n</a:t>
            </a:r>
            <a:r>
              <a:rPr b="0" lang="en-GB" sz="2800" spc="-1" strike="noStrike">
                <a:solidFill>
                  <a:srgbClr val="000000"/>
                </a:solidFill>
                <a:latin typeface="Helvetic"/>
              </a:rPr>
              <a:t> – 2 for a component with </a:t>
            </a:r>
            <a:r>
              <a:rPr b="0" i="1" lang="en-GB" sz="2800" spc="-1" strike="noStrike">
                <a:solidFill>
                  <a:srgbClr val="000000"/>
                </a:solidFill>
                <a:latin typeface="Helvetic"/>
              </a:rPr>
              <a:t>n</a:t>
            </a:r>
            <a:r>
              <a:rPr b="0" lang="en-GB" sz="2800" spc="-1" strike="noStrike">
                <a:solidFill>
                  <a:srgbClr val="000000"/>
                </a:solidFill>
                <a:latin typeface="Helvetic"/>
              </a:rPr>
              <a:t> obstacles</a:t>
            </a:r>
            <a:endParaRPr b="0" lang="en-US" sz="2800" spc="-1" strike="noStrike">
              <a:solidFill>
                <a:srgbClr val="000000"/>
              </a:solidFill>
              <a:latin typeface="Helvetic"/>
            </a:endParaRPr>
          </a:p>
        </p:txBody>
      </p:sp>
      <p:sp>
        <p:nvSpPr>
          <p:cNvPr id="593" name=""/>
          <p:cNvSpPr/>
          <p:nvPr/>
        </p:nvSpPr>
        <p:spPr>
          <a:xfrm>
            <a:off x="5402160" y="1476360"/>
            <a:ext cx="1800" cy="50371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10082160" y="1476360"/>
            <a:ext cx="1800" cy="50371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402160" y="1476360"/>
            <a:ext cx="468468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5402160" y="6516720"/>
            <a:ext cx="468468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985160" y="1828800"/>
            <a:ext cx="1735200" cy="1969920"/>
          </a:xfrm>
          <a:custGeom>
            <a:avLst/>
            <a:gdLst/>
            <a:ahLst/>
            <a:rect l="l" t="t" r="r" b="b"/>
            <a:pathLst>
              <a:path w="4821" h="5473">
                <a:moveTo>
                  <a:pt x="4820" y="35"/>
                </a:moveTo>
                <a:lnTo>
                  <a:pt x="4820" y="2717"/>
                </a:lnTo>
                <a:lnTo>
                  <a:pt x="3515" y="4022"/>
                </a:lnTo>
                <a:lnTo>
                  <a:pt x="3515" y="5472"/>
                </a:lnTo>
                <a:lnTo>
                  <a:pt x="1232" y="5472"/>
                </a:lnTo>
                <a:lnTo>
                  <a:pt x="1232" y="1956"/>
                </a:lnTo>
                <a:lnTo>
                  <a:pt x="0" y="724"/>
                </a:lnTo>
                <a:lnTo>
                  <a:pt x="724" y="0"/>
                </a:lnTo>
                <a:lnTo>
                  <a:pt x="4820" y="0"/>
                </a:lnTo>
                <a:lnTo>
                  <a:pt x="4820" y="35"/>
                </a:lnTo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754600" y="5195880"/>
            <a:ext cx="1279440" cy="1317600"/>
          </a:xfrm>
          <a:custGeom>
            <a:avLst/>
            <a:gdLst/>
            <a:ahLst/>
            <a:rect l="l" t="t" r="r" b="b"/>
            <a:pathLst>
              <a:path w="3553" h="3662">
                <a:moveTo>
                  <a:pt x="3515" y="3661"/>
                </a:moveTo>
                <a:lnTo>
                  <a:pt x="2283" y="2429"/>
                </a:lnTo>
                <a:lnTo>
                  <a:pt x="2283" y="0"/>
                </a:lnTo>
                <a:lnTo>
                  <a:pt x="0" y="2283"/>
                </a:lnTo>
                <a:lnTo>
                  <a:pt x="0" y="3661"/>
                </a:lnTo>
                <a:lnTo>
                  <a:pt x="3552" y="3661"/>
                </a:lnTo>
                <a:lnTo>
                  <a:pt x="3515" y="3661"/>
                </a:lnTo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8285040" y="4869000"/>
            <a:ext cx="1435320" cy="1030320"/>
          </a:xfrm>
          <a:custGeom>
            <a:avLst/>
            <a:gdLst/>
            <a:ahLst/>
            <a:rect l="l" t="t" r="r" b="b"/>
            <a:pathLst>
              <a:path w="3988" h="2864">
                <a:moveTo>
                  <a:pt x="2827" y="36"/>
                </a:moveTo>
                <a:lnTo>
                  <a:pt x="0" y="2863"/>
                </a:lnTo>
                <a:lnTo>
                  <a:pt x="3987" y="2863"/>
                </a:lnTo>
                <a:lnTo>
                  <a:pt x="3987" y="0"/>
                </a:lnTo>
                <a:lnTo>
                  <a:pt x="2900" y="0"/>
                </a:lnTo>
                <a:lnTo>
                  <a:pt x="2827" y="36"/>
                </a:lnTo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9720360" y="1474560"/>
            <a:ext cx="365040" cy="3553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9720360" y="5899320"/>
            <a:ext cx="365040" cy="612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7018200" y="5913360"/>
            <a:ext cx="1255680" cy="600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285040" y="5899320"/>
            <a:ext cx="1800360" cy="612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V="1">
            <a:off x="5402160" y="6029280"/>
            <a:ext cx="352440" cy="486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V="1">
            <a:off x="6575400" y="5897160"/>
            <a:ext cx="1709640" cy="173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6575400" y="5195880"/>
            <a:ext cx="1709640" cy="704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H="1" flipV="1">
            <a:off x="5400720" y="1474920"/>
            <a:ext cx="355680" cy="4543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 flipV="1">
            <a:off x="8232840" y="1474560"/>
            <a:ext cx="1852560" cy="3553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 flipH="1" flipV="1">
            <a:off x="5398920" y="1474560"/>
            <a:ext cx="2848320" cy="3553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 flipV="1">
            <a:off x="6575400" y="4869000"/>
            <a:ext cx="2739960" cy="3283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8426520" y="3796920"/>
            <a:ext cx="877680" cy="1073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 flipH="1" flipV="1">
            <a:off x="9248760" y="3796920"/>
            <a:ext cx="55440" cy="1073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9720360" y="4869000"/>
            <a:ext cx="365040" cy="1644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 flipH="1" flipV="1">
            <a:off x="9248760" y="3796920"/>
            <a:ext cx="473040" cy="1073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 flipV="1">
            <a:off x="9250200" y="2819160"/>
            <a:ext cx="470160" cy="981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 flipV="1">
            <a:off x="9720360" y="2819160"/>
            <a:ext cx="1440" cy="2050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V="1">
            <a:off x="9720360" y="1474560"/>
            <a:ext cx="365040" cy="1347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 flipV="1">
            <a:off x="9720360" y="1474920"/>
            <a:ext cx="365040" cy="33955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 flipH="1" flipV="1">
            <a:off x="5398920" y="1476360"/>
            <a:ext cx="1177920" cy="37209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 flipV="1">
            <a:off x="6575400" y="3798360"/>
            <a:ext cx="1852560" cy="139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flipH="1" flipV="1">
            <a:off x="7983360" y="2087640"/>
            <a:ext cx="447840" cy="1712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 flipH="1" flipV="1">
            <a:off x="5400360" y="1476360"/>
            <a:ext cx="2585880" cy="6285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 flipH="1" flipV="1">
            <a:off x="5400720" y="1474920"/>
            <a:ext cx="3030480" cy="2325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584680" y="6210360"/>
            <a:ext cx="1540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8210520" y="2575080"/>
            <a:ext cx="1540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9290160" y="3186000"/>
            <a:ext cx="1537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5467680" y="5245200"/>
            <a:ext cx="153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5872680" y="4370400"/>
            <a:ext cx="153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8225280" y="4332240"/>
            <a:ext cx="153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400" spc="-1" strike="noStrike">
                <a:solidFill>
                  <a:srgbClr val="6b0094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9772920" y="2639880"/>
            <a:ext cx="153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400" spc="-1" strike="noStrike">
                <a:solidFill>
                  <a:srgbClr val="6b0094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60360" y="360360"/>
            <a:ext cx="997272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1" i="1" lang="en-GB" sz="3600" spc="-1" strike="noStrike">
                <a:solidFill>
                  <a:srgbClr val="800000"/>
                </a:solidFill>
                <a:latin typeface="Helvetic"/>
              </a:rPr>
              <a:t>Abstraction Algorithm, Cont'd</a:t>
            </a:r>
            <a:endParaRPr b="1" i="1" lang="en-US" sz="3600" spc="-1" strike="noStrike">
              <a:solidFill>
                <a:srgbClr val="ffffff"/>
              </a:solidFill>
              <a:latin typeface="Helvetic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78000" y="1561680"/>
            <a:ext cx="4822560" cy="511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3280" indent="-432000">
              <a:lnSpc>
                <a:spcPct val="93000"/>
              </a:lnSpc>
              <a:spcAft>
                <a:spcPts val="1412"/>
              </a:spcAft>
              <a:buSzPct val="100000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Helvetic"/>
              </a:rPr>
              <a:t>From degree-3 triangles, move through the corridors of unabstracted triangles to the next degree-3 triangles</a:t>
            </a:r>
            <a:endParaRPr b="0" lang="en-US" sz="2800" spc="-1" strike="noStrike">
              <a:solidFill>
                <a:srgbClr val="000000"/>
              </a:solidFill>
              <a:latin typeface="Helvetic"/>
            </a:endParaRPr>
          </a:p>
          <a:p>
            <a:pPr marL="503280" indent="-432000">
              <a:lnSpc>
                <a:spcPct val="93000"/>
              </a:lnSpc>
              <a:spcAft>
                <a:spcPts val="1412"/>
              </a:spcAft>
              <a:buSzPct val="100000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Helvetic"/>
              </a:rPr>
              <a:t>Abstract these triangles as degree-2</a:t>
            </a:r>
            <a:endParaRPr b="0" lang="en-US" sz="2800" spc="-1" strike="noStrike">
              <a:solidFill>
                <a:srgbClr val="000000"/>
              </a:solidFill>
              <a:latin typeface="Helvetic"/>
            </a:endParaRPr>
          </a:p>
          <a:p>
            <a:pPr marL="503280" indent="-432000">
              <a:lnSpc>
                <a:spcPct val="93000"/>
              </a:lnSpc>
              <a:spcAft>
                <a:spcPts val="1412"/>
              </a:spcAft>
              <a:buSzPct val="100000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Helvetic"/>
              </a:rPr>
              <a:t>If there are still any unabstracted nodes, abstract them into one or more “rings” of degree-2 triangles</a:t>
            </a:r>
            <a:endParaRPr b="0" lang="en-US" sz="2800" spc="-1" strike="noStrike">
              <a:solidFill>
                <a:srgbClr val="000000"/>
              </a:solidFill>
              <a:latin typeface="Helvetic"/>
            </a:endParaRPr>
          </a:p>
        </p:txBody>
      </p:sp>
      <p:sp>
        <p:nvSpPr>
          <p:cNvPr id="633" name=""/>
          <p:cNvSpPr/>
          <p:nvPr/>
        </p:nvSpPr>
        <p:spPr>
          <a:xfrm>
            <a:off x="5402160" y="1476360"/>
            <a:ext cx="1800" cy="50371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10082160" y="1476360"/>
            <a:ext cx="1800" cy="50371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402160" y="1476360"/>
            <a:ext cx="468468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5402160" y="6516720"/>
            <a:ext cx="468468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7985160" y="1828800"/>
            <a:ext cx="1735200" cy="1969920"/>
          </a:xfrm>
          <a:custGeom>
            <a:avLst/>
            <a:gdLst/>
            <a:ahLst/>
            <a:rect l="l" t="t" r="r" b="b"/>
            <a:pathLst>
              <a:path w="4821" h="5473">
                <a:moveTo>
                  <a:pt x="4820" y="35"/>
                </a:moveTo>
                <a:lnTo>
                  <a:pt x="4820" y="2717"/>
                </a:lnTo>
                <a:lnTo>
                  <a:pt x="3515" y="4022"/>
                </a:lnTo>
                <a:lnTo>
                  <a:pt x="3515" y="5472"/>
                </a:lnTo>
                <a:lnTo>
                  <a:pt x="1232" y="5472"/>
                </a:lnTo>
                <a:lnTo>
                  <a:pt x="1232" y="1956"/>
                </a:lnTo>
                <a:lnTo>
                  <a:pt x="0" y="724"/>
                </a:lnTo>
                <a:lnTo>
                  <a:pt x="724" y="0"/>
                </a:lnTo>
                <a:lnTo>
                  <a:pt x="4820" y="0"/>
                </a:lnTo>
                <a:lnTo>
                  <a:pt x="4820" y="35"/>
                </a:lnTo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5754600" y="5195880"/>
            <a:ext cx="1279440" cy="1317600"/>
          </a:xfrm>
          <a:custGeom>
            <a:avLst/>
            <a:gdLst/>
            <a:ahLst/>
            <a:rect l="l" t="t" r="r" b="b"/>
            <a:pathLst>
              <a:path w="3553" h="3662">
                <a:moveTo>
                  <a:pt x="3515" y="3661"/>
                </a:moveTo>
                <a:lnTo>
                  <a:pt x="2283" y="2429"/>
                </a:lnTo>
                <a:lnTo>
                  <a:pt x="2283" y="0"/>
                </a:lnTo>
                <a:lnTo>
                  <a:pt x="0" y="2283"/>
                </a:lnTo>
                <a:lnTo>
                  <a:pt x="0" y="3661"/>
                </a:lnTo>
                <a:lnTo>
                  <a:pt x="3552" y="3661"/>
                </a:lnTo>
                <a:lnTo>
                  <a:pt x="3515" y="3661"/>
                </a:lnTo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8285040" y="4869000"/>
            <a:ext cx="1435320" cy="1030320"/>
          </a:xfrm>
          <a:custGeom>
            <a:avLst/>
            <a:gdLst/>
            <a:ahLst/>
            <a:rect l="l" t="t" r="r" b="b"/>
            <a:pathLst>
              <a:path w="3988" h="2864">
                <a:moveTo>
                  <a:pt x="2827" y="36"/>
                </a:moveTo>
                <a:lnTo>
                  <a:pt x="0" y="2863"/>
                </a:lnTo>
                <a:lnTo>
                  <a:pt x="3987" y="2863"/>
                </a:lnTo>
                <a:lnTo>
                  <a:pt x="3987" y="0"/>
                </a:lnTo>
                <a:lnTo>
                  <a:pt x="2900" y="0"/>
                </a:lnTo>
                <a:lnTo>
                  <a:pt x="2827" y="36"/>
                </a:lnTo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 flipV="1">
            <a:off x="9720360" y="1474560"/>
            <a:ext cx="365040" cy="3553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9720360" y="5899320"/>
            <a:ext cx="365040" cy="612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 flipH="1">
            <a:off x="7018200" y="5913360"/>
            <a:ext cx="1255680" cy="600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8285040" y="5899320"/>
            <a:ext cx="1800360" cy="612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 flipV="1">
            <a:off x="5402160" y="6029280"/>
            <a:ext cx="352440" cy="486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 flipV="1">
            <a:off x="6575400" y="5897160"/>
            <a:ext cx="1709640" cy="173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6575400" y="5195880"/>
            <a:ext cx="1709640" cy="704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 flipH="1" flipV="1">
            <a:off x="5400720" y="1474920"/>
            <a:ext cx="355680" cy="4543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 flipV="1">
            <a:off x="8232840" y="1474560"/>
            <a:ext cx="1852560" cy="3553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 flipH="1" flipV="1">
            <a:off x="5398920" y="1474560"/>
            <a:ext cx="2848320" cy="3553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 flipV="1">
            <a:off x="6575400" y="4869000"/>
            <a:ext cx="2739960" cy="3283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 flipH="1" flipV="1">
            <a:off x="8426520" y="3796920"/>
            <a:ext cx="877680" cy="1073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H="1" flipV="1">
            <a:off x="9248760" y="3796920"/>
            <a:ext cx="55440" cy="1073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9720360" y="4869000"/>
            <a:ext cx="365040" cy="1644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 flipH="1" flipV="1">
            <a:off x="9248760" y="3796920"/>
            <a:ext cx="473040" cy="1073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 flipV="1">
            <a:off x="9250200" y="2819160"/>
            <a:ext cx="470160" cy="981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V="1">
            <a:off x="9720360" y="2819160"/>
            <a:ext cx="1440" cy="2050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 flipV="1">
            <a:off x="9720360" y="1474560"/>
            <a:ext cx="365040" cy="1347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 flipV="1">
            <a:off x="9720360" y="1474920"/>
            <a:ext cx="365040" cy="33955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 flipH="1" flipV="1">
            <a:off x="5398920" y="1476360"/>
            <a:ext cx="1177920" cy="37209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 flipV="1">
            <a:off x="6575400" y="3798360"/>
            <a:ext cx="1852560" cy="139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 flipH="1" flipV="1">
            <a:off x="7983360" y="2087640"/>
            <a:ext cx="447840" cy="1712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 flipV="1">
            <a:off x="5400360" y="1476360"/>
            <a:ext cx="2585880" cy="6285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 flipV="1">
            <a:off x="5400720" y="1474920"/>
            <a:ext cx="3030480" cy="2325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5584680" y="6210360"/>
            <a:ext cx="1540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8210520" y="2575080"/>
            <a:ext cx="1540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9290160" y="3186000"/>
            <a:ext cx="1537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5467680" y="5245200"/>
            <a:ext cx="153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872680" y="4370400"/>
            <a:ext cx="153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8225280" y="4332240"/>
            <a:ext cx="153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400" spc="-1" strike="noStrike">
                <a:solidFill>
                  <a:srgbClr val="6b0094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9772920" y="2639880"/>
            <a:ext cx="153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400" spc="-1" strike="noStrike">
                <a:solidFill>
                  <a:srgbClr val="6b0094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268040" y="2232000"/>
            <a:ext cx="153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400" spc="-1" strike="noStrike">
                <a:solidFill>
                  <a:srgbClr val="33cc66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7664760" y="1727280"/>
            <a:ext cx="153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400" spc="-1" strike="noStrike">
                <a:solidFill>
                  <a:srgbClr val="33cc66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8241120" y="1474920"/>
            <a:ext cx="153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400" spc="-1" strike="noStrike">
                <a:solidFill>
                  <a:srgbClr val="33cc66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9573120" y="1511280"/>
            <a:ext cx="153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400" spc="-1" strike="noStrike">
                <a:solidFill>
                  <a:srgbClr val="33cc66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9788760" y="1727280"/>
            <a:ext cx="153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400" spc="-1" strike="noStrike">
                <a:solidFill>
                  <a:srgbClr val="33cc66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9860400" y="4427640"/>
            <a:ext cx="153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400" spc="-1" strike="noStrike">
                <a:solidFill>
                  <a:srgbClr val="33cc66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9573120" y="5975280"/>
            <a:ext cx="153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400" spc="-1" strike="noStrike">
                <a:solidFill>
                  <a:srgbClr val="33cc66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9465120" y="3672000"/>
            <a:ext cx="153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400" spc="-1" strike="noStrike">
                <a:solidFill>
                  <a:srgbClr val="33cc66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6728040" y="3311640"/>
            <a:ext cx="153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400" spc="-1" strike="noStrike">
                <a:solidFill>
                  <a:srgbClr val="33cc66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8960040" y="3922560"/>
            <a:ext cx="153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400" spc="-1" strike="noStrike">
                <a:solidFill>
                  <a:srgbClr val="33cc66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8096760" y="5183280"/>
            <a:ext cx="153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400" spc="-1" strike="noStrike">
                <a:solidFill>
                  <a:srgbClr val="33cc66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7125120" y="5543640"/>
            <a:ext cx="153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400" spc="-1" strike="noStrike">
                <a:solidFill>
                  <a:srgbClr val="33cc66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160040" y="6012000"/>
            <a:ext cx="153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400" spc="-1" strike="noStrike">
                <a:solidFill>
                  <a:srgbClr val="33cc66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8312400" y="6046920"/>
            <a:ext cx="153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400" spc="-1" strike="noStrike">
                <a:solidFill>
                  <a:srgbClr val="33cc66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9357120" y="4354560"/>
            <a:ext cx="153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400" spc="-1" strike="noStrike">
                <a:solidFill>
                  <a:srgbClr val="33cc66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9752400" y="5614920"/>
            <a:ext cx="153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400" spc="-1" strike="noStrike">
                <a:solidFill>
                  <a:srgbClr val="33cc66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360360" y="360360"/>
            <a:ext cx="997272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1" i="1" lang="en-GB" sz="3600" spc="-1" strike="noStrike">
                <a:solidFill>
                  <a:srgbClr val="800000"/>
                </a:solidFill>
                <a:latin typeface="Helvetic"/>
              </a:rPr>
              <a:t>Abstraction Information</a:t>
            </a:r>
            <a:endParaRPr b="1" i="1" lang="en-US" sz="3600" spc="-1" strike="noStrike">
              <a:solidFill>
                <a:srgbClr val="ffffff"/>
              </a:solidFill>
              <a:latin typeface="Helvetic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378000" y="1561680"/>
            <a:ext cx="4822560" cy="51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98240" indent="-427680">
              <a:lnSpc>
                <a:spcPct val="93000"/>
              </a:lnSpc>
              <a:spcAft>
                <a:spcPts val="1412"/>
              </a:spcAft>
              <a:buSzPct val="100000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Helvetic"/>
              </a:rPr>
              <a:t>A triangle's abstraction contains information about:</a:t>
            </a:r>
            <a:endParaRPr b="0" lang="en-US" sz="2800" spc="-1" strike="noStrike">
              <a:solidFill>
                <a:srgbClr val="000000"/>
              </a:solidFill>
              <a:latin typeface="Helvetic"/>
            </a:endParaRPr>
          </a:p>
          <a:p>
            <a:pPr lvl="1" marL="782640" indent="-427320">
              <a:lnSpc>
                <a:spcPct val="93000"/>
              </a:lnSpc>
              <a:spcAft>
                <a:spcPts val="1137"/>
              </a:spcAft>
              <a:buSzPct val="100000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Helvetic"/>
              </a:rPr>
              <a:t>Adjacent structures</a:t>
            </a:r>
            <a:endParaRPr b="0" lang="en-US" sz="2600" spc="-1" strike="noStrike">
              <a:solidFill>
                <a:srgbClr val="000000"/>
              </a:solidFill>
              <a:latin typeface="Helvetic"/>
            </a:endParaRPr>
          </a:p>
          <a:p>
            <a:pPr lvl="1" marL="782640" indent="-427320">
              <a:lnSpc>
                <a:spcPct val="93000"/>
              </a:lnSpc>
              <a:spcAft>
                <a:spcPts val="1137"/>
              </a:spcAft>
              <a:buSzPct val="100000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Helvetic"/>
              </a:rPr>
              <a:t>Choke points (the narrowest point between this triangle and the adjacent structure)</a:t>
            </a:r>
            <a:endParaRPr b="0" lang="en-US" sz="2600" spc="-1" strike="noStrike">
              <a:solidFill>
                <a:srgbClr val="000000"/>
              </a:solidFill>
              <a:latin typeface="Helvetic"/>
            </a:endParaRPr>
          </a:p>
          <a:p>
            <a:pPr lvl="1" marL="782640" indent="-427320">
              <a:lnSpc>
                <a:spcPct val="93000"/>
              </a:lnSpc>
              <a:spcAft>
                <a:spcPts val="1137"/>
              </a:spcAft>
              <a:buSzPct val="100000"/>
              <a:buBlip>
                <a:blip r:embed="rId4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Helvetic"/>
              </a:rPr>
              <a:t>A lower bound on the distance to each adjacent structure</a:t>
            </a:r>
            <a:endParaRPr b="0" lang="en-US" sz="2600" spc="-1" strike="noStrike">
              <a:solidFill>
                <a:srgbClr val="000000"/>
              </a:solidFill>
              <a:latin typeface="Helvetic"/>
            </a:endParaRPr>
          </a:p>
          <a:p>
            <a:pPr lvl="1" marL="782640" indent="-427320">
              <a:lnSpc>
                <a:spcPct val="93000"/>
              </a:lnSpc>
              <a:spcAft>
                <a:spcPts val="1137"/>
              </a:spcAft>
              <a:buSzPct val="100000"/>
              <a:buBlip>
                <a:blip r:embed="rId5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Helvetic"/>
              </a:rPr>
              <a:t>The triangle “widths”</a:t>
            </a:r>
            <a:endParaRPr b="0" lang="en-US" sz="2600" spc="-1" strike="noStrike">
              <a:solidFill>
                <a:srgbClr val="000000"/>
              </a:solidFill>
              <a:latin typeface="Helvetic"/>
            </a:endParaRPr>
          </a:p>
        </p:txBody>
      </p:sp>
      <p:sp>
        <p:nvSpPr>
          <p:cNvPr id="689" name=""/>
          <p:cNvSpPr/>
          <p:nvPr/>
        </p:nvSpPr>
        <p:spPr>
          <a:xfrm>
            <a:off x="5402160" y="1476360"/>
            <a:ext cx="1800" cy="50371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10082160" y="1476360"/>
            <a:ext cx="1800" cy="50371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5402160" y="1476360"/>
            <a:ext cx="468468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5402160" y="6516720"/>
            <a:ext cx="468468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7985160" y="1828800"/>
            <a:ext cx="1735200" cy="1969920"/>
          </a:xfrm>
          <a:custGeom>
            <a:avLst/>
            <a:gdLst/>
            <a:ahLst/>
            <a:rect l="l" t="t" r="r" b="b"/>
            <a:pathLst>
              <a:path w="4821" h="5473">
                <a:moveTo>
                  <a:pt x="4820" y="35"/>
                </a:moveTo>
                <a:lnTo>
                  <a:pt x="4820" y="2717"/>
                </a:lnTo>
                <a:lnTo>
                  <a:pt x="3515" y="4022"/>
                </a:lnTo>
                <a:lnTo>
                  <a:pt x="3515" y="5472"/>
                </a:lnTo>
                <a:lnTo>
                  <a:pt x="1232" y="5472"/>
                </a:lnTo>
                <a:lnTo>
                  <a:pt x="1232" y="1956"/>
                </a:lnTo>
                <a:lnTo>
                  <a:pt x="0" y="724"/>
                </a:lnTo>
                <a:lnTo>
                  <a:pt x="724" y="0"/>
                </a:lnTo>
                <a:lnTo>
                  <a:pt x="4820" y="0"/>
                </a:lnTo>
                <a:lnTo>
                  <a:pt x="4820" y="35"/>
                </a:lnTo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5754600" y="5195880"/>
            <a:ext cx="1279440" cy="1317600"/>
          </a:xfrm>
          <a:custGeom>
            <a:avLst/>
            <a:gdLst/>
            <a:ahLst/>
            <a:rect l="l" t="t" r="r" b="b"/>
            <a:pathLst>
              <a:path w="3553" h="3662">
                <a:moveTo>
                  <a:pt x="3515" y="3661"/>
                </a:moveTo>
                <a:lnTo>
                  <a:pt x="2283" y="2429"/>
                </a:lnTo>
                <a:lnTo>
                  <a:pt x="2283" y="0"/>
                </a:lnTo>
                <a:lnTo>
                  <a:pt x="0" y="2283"/>
                </a:lnTo>
                <a:lnTo>
                  <a:pt x="0" y="3661"/>
                </a:lnTo>
                <a:lnTo>
                  <a:pt x="3552" y="3661"/>
                </a:lnTo>
                <a:lnTo>
                  <a:pt x="3515" y="3661"/>
                </a:lnTo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8285040" y="4869000"/>
            <a:ext cx="1435320" cy="1030320"/>
          </a:xfrm>
          <a:custGeom>
            <a:avLst/>
            <a:gdLst/>
            <a:ahLst/>
            <a:rect l="l" t="t" r="r" b="b"/>
            <a:pathLst>
              <a:path w="3988" h="2864">
                <a:moveTo>
                  <a:pt x="2827" y="36"/>
                </a:moveTo>
                <a:lnTo>
                  <a:pt x="0" y="2863"/>
                </a:lnTo>
                <a:lnTo>
                  <a:pt x="3987" y="2863"/>
                </a:lnTo>
                <a:lnTo>
                  <a:pt x="3987" y="0"/>
                </a:lnTo>
                <a:lnTo>
                  <a:pt x="2900" y="0"/>
                </a:lnTo>
                <a:lnTo>
                  <a:pt x="2827" y="36"/>
                </a:lnTo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V="1">
            <a:off x="9720360" y="1474560"/>
            <a:ext cx="365040" cy="3553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9720360" y="5899320"/>
            <a:ext cx="365040" cy="612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7018200" y="5913360"/>
            <a:ext cx="1255680" cy="600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8285040" y="5899320"/>
            <a:ext cx="1800360" cy="612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V="1">
            <a:off x="5402160" y="6029280"/>
            <a:ext cx="352440" cy="486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flipV="1">
            <a:off x="6575400" y="5897160"/>
            <a:ext cx="1709640" cy="173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6575400" y="5195880"/>
            <a:ext cx="1709640" cy="704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 flipH="1" flipV="1">
            <a:off x="5400720" y="1474920"/>
            <a:ext cx="355680" cy="4543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 flipV="1">
            <a:off x="8232840" y="1474560"/>
            <a:ext cx="1852560" cy="3553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H="1" flipV="1">
            <a:off x="5398920" y="1474560"/>
            <a:ext cx="2848320" cy="3553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 flipV="1">
            <a:off x="6575400" y="4869000"/>
            <a:ext cx="2739960" cy="3283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 flipH="1" flipV="1">
            <a:off x="8426520" y="3796920"/>
            <a:ext cx="877680" cy="1073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 flipH="1" flipV="1">
            <a:off x="9248760" y="3796920"/>
            <a:ext cx="55440" cy="1073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9720360" y="4869000"/>
            <a:ext cx="365040" cy="1644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 flipH="1" flipV="1">
            <a:off x="9248760" y="3796920"/>
            <a:ext cx="473040" cy="1073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 flipV="1">
            <a:off x="9250200" y="2819160"/>
            <a:ext cx="470160" cy="981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 flipV="1">
            <a:off x="9720360" y="2819160"/>
            <a:ext cx="1440" cy="2050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 flipV="1">
            <a:off x="9720360" y="1474560"/>
            <a:ext cx="365040" cy="1347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 flipV="1">
            <a:off x="9720360" y="1474920"/>
            <a:ext cx="365040" cy="33955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flipH="1" flipV="1">
            <a:off x="5398920" y="1476360"/>
            <a:ext cx="1177920" cy="37209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 flipV="1">
            <a:off x="6575400" y="3798360"/>
            <a:ext cx="1852560" cy="139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H="1" flipV="1">
            <a:off x="7983360" y="2087640"/>
            <a:ext cx="447840" cy="1712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flipH="1" flipV="1">
            <a:off x="5400360" y="1476360"/>
            <a:ext cx="2585880" cy="6285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 flipH="1" flipV="1">
            <a:off x="5400720" y="1474920"/>
            <a:ext cx="3030480" cy="2325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6772320" y="1577880"/>
            <a:ext cx="3197160" cy="4684680"/>
          </a:xfrm>
          <a:custGeom>
            <a:avLst/>
            <a:gdLst/>
            <a:ahLst/>
            <a:rect l="l" t="t" r="r" b="b"/>
            <a:pathLst>
              <a:path w="8881" h="13013">
                <a:moveTo>
                  <a:pt x="36" y="5002"/>
                </a:moveTo>
                <a:lnTo>
                  <a:pt x="1522" y="2175"/>
                </a:lnTo>
                <a:lnTo>
                  <a:pt x="1884" y="653"/>
                </a:lnTo>
                <a:lnTo>
                  <a:pt x="3950" y="0"/>
                </a:lnTo>
                <a:lnTo>
                  <a:pt x="7756" y="363"/>
                </a:lnTo>
                <a:lnTo>
                  <a:pt x="8590" y="870"/>
                </a:lnTo>
                <a:lnTo>
                  <a:pt x="8553" y="3806"/>
                </a:lnTo>
                <a:lnTo>
                  <a:pt x="8880" y="8699"/>
                </a:lnTo>
                <a:lnTo>
                  <a:pt x="8590" y="11852"/>
                </a:lnTo>
                <a:lnTo>
                  <a:pt x="7539" y="12650"/>
                </a:lnTo>
                <a:lnTo>
                  <a:pt x="4530" y="13012"/>
                </a:lnTo>
                <a:lnTo>
                  <a:pt x="1486" y="12686"/>
                </a:lnTo>
                <a:lnTo>
                  <a:pt x="1051" y="11562"/>
                </a:lnTo>
                <a:lnTo>
                  <a:pt x="3842" y="10258"/>
                </a:lnTo>
                <a:lnTo>
                  <a:pt x="3914" y="8264"/>
                </a:lnTo>
                <a:lnTo>
                  <a:pt x="0" y="5038"/>
                </a:lnTo>
                <a:lnTo>
                  <a:pt x="36" y="5002"/>
                </a:lnTo>
              </a:path>
            </a:pathLst>
          </a:custGeom>
          <a:noFill/>
          <a:ln w="36720">
            <a:solidFill>
              <a:srgbClr val="33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8167680" y="3052800"/>
            <a:ext cx="1682640" cy="1500120"/>
          </a:xfrm>
          <a:custGeom>
            <a:avLst/>
            <a:gdLst/>
            <a:ahLst/>
            <a:rect l="l" t="t" r="r" b="b"/>
            <a:pathLst>
              <a:path w="4676" h="4169">
                <a:moveTo>
                  <a:pt x="0" y="4168"/>
                </a:moveTo>
                <a:lnTo>
                  <a:pt x="2392" y="3045"/>
                </a:lnTo>
                <a:lnTo>
                  <a:pt x="3588" y="4132"/>
                </a:lnTo>
                <a:lnTo>
                  <a:pt x="3914" y="2066"/>
                </a:lnTo>
                <a:lnTo>
                  <a:pt x="4675" y="0"/>
                </a:lnTo>
              </a:path>
            </a:pathLst>
          </a:custGeom>
          <a:noFill/>
          <a:ln w="36720">
            <a:solidFill>
              <a:srgbClr val="33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5532480" y="3405240"/>
            <a:ext cx="1227240" cy="2975040"/>
          </a:xfrm>
          <a:custGeom>
            <a:avLst/>
            <a:gdLst/>
            <a:ahLst/>
            <a:rect l="l" t="t" r="r" b="b"/>
            <a:pathLst>
              <a:path w="3407" h="8264">
                <a:moveTo>
                  <a:pt x="253" y="8263"/>
                </a:moveTo>
                <a:lnTo>
                  <a:pt x="0" y="4675"/>
                </a:lnTo>
                <a:lnTo>
                  <a:pt x="906" y="2102"/>
                </a:lnTo>
                <a:lnTo>
                  <a:pt x="3406" y="0"/>
                </a:lnTo>
              </a:path>
            </a:pathLst>
          </a:custGeom>
          <a:noFill/>
          <a:ln w="367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H="1" flipV="1">
            <a:off x="7345440" y="2335320"/>
            <a:ext cx="968400" cy="433440"/>
          </a:xfrm>
          <a:prstGeom prst="line">
            <a:avLst/>
          </a:prstGeom>
          <a:ln w="367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9394920" y="3262320"/>
            <a:ext cx="156960" cy="547560"/>
          </a:xfrm>
          <a:prstGeom prst="line">
            <a:avLst/>
          </a:prstGeom>
          <a:ln w="367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8129520" y="4502160"/>
            <a:ext cx="117720" cy="117360"/>
          </a:xfrm>
          <a:prstGeom prst="ellipse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9785520" y="3060720"/>
            <a:ext cx="117360" cy="117360"/>
          </a:xfrm>
          <a:prstGeom prst="ellipse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360360" y="360360"/>
            <a:ext cx="997272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1" i="1" lang="en-GB" sz="3600" spc="-1" strike="noStrike">
                <a:solidFill>
                  <a:srgbClr val="800000"/>
                </a:solidFill>
                <a:latin typeface="Helvetic"/>
              </a:rPr>
              <a:t>Triangulation Reduction A* (TRA*)</a:t>
            </a:r>
            <a:endParaRPr b="1" i="1" lang="en-US" sz="3600" spc="-1" strike="noStrike">
              <a:solidFill>
                <a:srgbClr val="ffffff"/>
              </a:solidFill>
              <a:latin typeface="Helvetic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378000" y="1561680"/>
            <a:ext cx="9883440" cy="551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3280" indent="-432000">
              <a:lnSpc>
                <a:spcPct val="93000"/>
              </a:lnSpc>
              <a:spcAft>
                <a:spcPts val="1412"/>
              </a:spcAft>
              <a:buSzPct val="100000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Helvetic"/>
              </a:rPr>
              <a:t>A* running on the abstraction described before</a:t>
            </a:r>
            <a:endParaRPr b="0" lang="en-US" sz="2800" spc="-1" strike="noStrike">
              <a:solidFill>
                <a:srgbClr val="000000"/>
              </a:solidFill>
              <a:latin typeface="Helvetic"/>
            </a:endParaRPr>
          </a:p>
          <a:p>
            <a:pPr lvl="1" marL="790560" indent="-431640">
              <a:lnSpc>
                <a:spcPct val="93000"/>
              </a:lnSpc>
              <a:spcAft>
                <a:spcPts val="1137"/>
              </a:spcAft>
              <a:buSzPct val="100000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Helvetic"/>
              </a:rPr>
              <a:t>Using degree-3 triangles as nodesand generating their children as the degree-3 nodes adjacent across corridors</a:t>
            </a:r>
            <a:endParaRPr b="0" lang="en-US" sz="2600" spc="-1" strike="noStrike">
              <a:solidFill>
                <a:srgbClr val="000000"/>
              </a:solidFill>
              <a:latin typeface="Helvetic"/>
            </a:endParaRPr>
          </a:p>
          <a:p>
            <a:pPr lvl="1" marL="790560" indent="-431640">
              <a:lnSpc>
                <a:spcPct val="93000"/>
              </a:lnSpc>
              <a:spcAft>
                <a:spcPts val="1137"/>
              </a:spcAft>
              <a:buSzPct val="100000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Helvetic"/>
              </a:rPr>
              <a:t>If the goal is on a degree-3 triangle, we stop at the goal's triangle, if not, we use the degree-3 triangles at the ends of the corridor the goal (or the root of the tree containing it) is on</a:t>
            </a:r>
            <a:endParaRPr b="0" lang="en-US" sz="2600" spc="-1" strike="noStrike">
              <a:solidFill>
                <a:srgbClr val="000000"/>
              </a:solidFill>
              <a:latin typeface="Helvetic"/>
            </a:endParaRPr>
          </a:p>
          <a:p>
            <a:pPr lvl="1" marL="790560" indent="-431640">
              <a:lnSpc>
                <a:spcPct val="93000"/>
              </a:lnSpc>
              <a:spcAft>
                <a:spcPts val="1137"/>
              </a:spcAft>
              <a:buSzPct val="100000"/>
              <a:buBlip>
                <a:blip r:embed="rId4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Helvetic"/>
              </a:rPr>
              <a:t>Similarly the search queue is initialized with the starting point's triangle if it is degree-3 or the adjacent degree-3 triangles otherwise</a:t>
            </a:r>
            <a:endParaRPr b="0" lang="en-US" sz="2600" spc="-1" strike="noStrike">
              <a:solidFill>
                <a:srgbClr val="000000"/>
              </a:solidFill>
              <a:latin typeface="Helvetic"/>
            </a:endParaRPr>
          </a:p>
          <a:p>
            <a:pPr marL="503280" indent="-432000">
              <a:lnSpc>
                <a:spcPct val="93000"/>
              </a:lnSpc>
              <a:spcAft>
                <a:spcPts val="1412"/>
              </a:spcAft>
              <a:buSzPct val="100000"/>
              <a:buBlip>
                <a:blip r:embed="rId5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Helvetic"/>
              </a:rPr>
              <a:t>As with TA*, use the same anytime algorithm, allow multiple paths to a node, and use the same g- and h-values</a:t>
            </a:r>
            <a:endParaRPr b="0" lang="en-US" sz="2800" spc="-1" strike="noStrike">
              <a:solidFill>
                <a:srgbClr val="000000"/>
              </a:solidFill>
              <a:latin typeface="Helvetic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60360" y="360360"/>
            <a:ext cx="997272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1" i="1" lang="en-GB" sz="3600" spc="-1" strike="noStrike">
                <a:solidFill>
                  <a:srgbClr val="800000"/>
                </a:solidFill>
                <a:latin typeface="Helvetic"/>
              </a:rPr>
              <a:t>Pathfinding Introduction</a:t>
            </a:r>
            <a:endParaRPr b="1" i="1" lang="en-US" sz="3600" spc="-1" strike="noStrike">
              <a:solidFill>
                <a:srgbClr val="ffffff"/>
              </a:solidFill>
              <a:latin typeface="Helvet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78000" y="1561680"/>
            <a:ext cx="482256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3280" indent="-432000">
              <a:lnSpc>
                <a:spcPct val="93000"/>
              </a:lnSpc>
              <a:spcAft>
                <a:spcPts val="1412"/>
              </a:spcAft>
              <a:buSzPct val="100000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Helvetic"/>
              </a:rPr>
              <a:t>Want to get some object from one point to another</a:t>
            </a:r>
            <a:endParaRPr b="0" lang="en-US" sz="2800" spc="-1" strike="noStrike">
              <a:solidFill>
                <a:srgbClr val="000000"/>
              </a:solidFill>
              <a:latin typeface="Helvetic"/>
            </a:endParaRPr>
          </a:p>
          <a:p>
            <a:pPr marL="503280" indent="-432000">
              <a:lnSpc>
                <a:spcPct val="93000"/>
              </a:lnSpc>
              <a:spcAft>
                <a:spcPts val="1412"/>
              </a:spcAft>
              <a:buSzPct val="100000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Helvetic"/>
              </a:rPr>
              <a:t>Robotics: needs to avoid obstacles (by some margin)</a:t>
            </a:r>
            <a:endParaRPr b="0" lang="en-US" sz="2800" spc="-1" strike="noStrike">
              <a:solidFill>
                <a:srgbClr val="000000"/>
              </a:solidFill>
              <a:latin typeface="Helvetic"/>
            </a:endParaRPr>
          </a:p>
          <a:p>
            <a:pPr marL="503280" indent="-432000">
              <a:lnSpc>
                <a:spcPct val="93000"/>
              </a:lnSpc>
              <a:spcAft>
                <a:spcPts val="1412"/>
              </a:spcAft>
              <a:buSzPct val="100000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Helvetic"/>
              </a:rPr>
              <a:t>Games: needs to be very fast and use little resources</a:t>
            </a:r>
            <a:endParaRPr b="0" lang="en-US" sz="2800" spc="-1" strike="noStrike">
              <a:solidFill>
                <a:srgbClr val="000000"/>
              </a:solidFill>
              <a:latin typeface="Helvetic"/>
            </a:endParaRPr>
          </a:p>
        </p:txBody>
      </p:sp>
      <p:sp>
        <p:nvSpPr>
          <p:cNvPr id="53" name=""/>
          <p:cNvSpPr/>
          <p:nvPr/>
        </p:nvSpPr>
        <p:spPr>
          <a:xfrm>
            <a:off x="6407280" y="2517840"/>
            <a:ext cx="639720" cy="639720"/>
          </a:xfrm>
          <a:prstGeom prst="smileyFace">
            <a:avLst>
              <a:gd name="adj" fmla="val 4653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415360" y="4357800"/>
            <a:ext cx="824040" cy="823680"/>
          </a:xfrm>
          <a:prstGeom prst="star5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137360" y="3197160"/>
            <a:ext cx="1409760" cy="12398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360360" y="360360"/>
            <a:ext cx="997272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1" i="1" lang="en-GB" sz="3600" spc="-1" strike="noStrike">
                <a:solidFill>
                  <a:srgbClr val="800000"/>
                </a:solidFill>
                <a:latin typeface="Helvetic"/>
              </a:rPr>
              <a:t>Triangulation Reduction A* (TRA*) Cont'd</a:t>
            </a:r>
            <a:endParaRPr b="1" i="1" lang="en-US" sz="3600" spc="-1" strike="noStrike">
              <a:solidFill>
                <a:srgbClr val="ffffff"/>
              </a:solidFill>
              <a:latin typeface="Helvetic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378000" y="1562040"/>
            <a:ext cx="9883440" cy="60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3280" indent="-432000">
              <a:lnSpc>
                <a:spcPct val="93000"/>
              </a:lnSpc>
              <a:spcAft>
                <a:spcPts val="1412"/>
              </a:spcAft>
              <a:buSzPct val="100000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Helvetic"/>
              </a:rPr>
              <a:t>There are a number of cases for which no search occurs:</a:t>
            </a:r>
            <a:endParaRPr b="0" lang="en-US" sz="2800" spc="-1" strike="noStrike">
              <a:solidFill>
                <a:srgbClr val="000000"/>
              </a:solidFill>
              <a:latin typeface="Helvetic"/>
            </a:endParaRPr>
          </a:p>
          <a:p>
            <a:pPr lvl="1" marL="790560" indent="-431640">
              <a:lnSpc>
                <a:spcPct val="93000"/>
              </a:lnSpc>
              <a:spcAft>
                <a:spcPts val="1137"/>
              </a:spcAft>
              <a:buSzPct val="100000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Helvetic"/>
              </a:rPr>
              <a:t>If the start or goal is the root of a tree containing the other, we can “walk” to the root for the only path</a:t>
            </a:r>
            <a:endParaRPr b="0" lang="en-US" sz="2600" spc="-1" strike="noStrike">
              <a:solidFill>
                <a:srgbClr val="000000"/>
              </a:solidFill>
              <a:latin typeface="Helvetic"/>
            </a:endParaRPr>
          </a:p>
          <a:p>
            <a:pPr lvl="1" marL="790560" indent="-431640">
              <a:lnSpc>
                <a:spcPct val="93000"/>
              </a:lnSpc>
              <a:spcAft>
                <a:spcPts val="1137"/>
              </a:spcAft>
              <a:buSzPct val="100000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Helvetic"/>
              </a:rPr>
              <a:t>If they are on the same degree-2 ring or “loop”, we walk both ways around and pick the shortest path</a:t>
            </a:r>
            <a:endParaRPr b="0" lang="en-US" sz="2600" spc="-1" strike="noStrike">
              <a:solidFill>
                <a:srgbClr val="000000"/>
              </a:solidFill>
              <a:latin typeface="Helvetic"/>
            </a:endParaRPr>
          </a:p>
          <a:p>
            <a:pPr lvl="1" marL="790560" indent="-431640">
              <a:lnSpc>
                <a:spcPct val="93000"/>
              </a:lnSpc>
              <a:spcAft>
                <a:spcPts val="1137"/>
              </a:spcAft>
              <a:buSzPct val="100000"/>
              <a:buBlip>
                <a:blip r:embed="rId4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Helvetic"/>
              </a:rPr>
              <a:t>If they are in the same degree-1 tree, we can do a simple search (eliminating suplicates) in that tree to find the only path</a:t>
            </a:r>
            <a:endParaRPr b="0" lang="en-US" sz="2600" spc="-1" strike="noStrike">
              <a:solidFill>
                <a:srgbClr val="000000"/>
              </a:solidFill>
              <a:latin typeface="Helvetic"/>
            </a:endParaRPr>
          </a:p>
          <a:p>
            <a:pPr lvl="1" marL="790560" indent="-431640">
              <a:lnSpc>
                <a:spcPct val="93000"/>
              </a:lnSpc>
              <a:spcAft>
                <a:spcPts val="1137"/>
              </a:spcAft>
              <a:buSzPct val="100000"/>
              <a:buBlip>
                <a:blip r:embed="rId5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Helvetic"/>
              </a:rPr>
              <a:t>If they are on the same degree-2 corridor, we take one path by walking through the corridor and start searching from the endpoints to see if we can find a shorter one</a:t>
            </a:r>
            <a:endParaRPr b="0" lang="en-US" sz="2600" spc="-1" strike="noStrike">
              <a:solidFill>
                <a:srgbClr val="000000"/>
              </a:solidFill>
              <a:latin typeface="Helvetic"/>
            </a:endParaRPr>
          </a:p>
          <a:p>
            <a:pPr marL="503280" indent="-432000">
              <a:lnSpc>
                <a:spcPct val="93000"/>
              </a:lnSpc>
              <a:spcAft>
                <a:spcPts val="1412"/>
              </a:spcAft>
              <a:buSzPct val="100000"/>
              <a:buBlip>
                <a:blip r:embed="rId6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Helvetic"/>
              </a:rPr>
              <a:t>If none of these hold we perform actual degree-3 search</a:t>
            </a:r>
            <a:endParaRPr b="0" lang="en-US" sz="2800" spc="-1" strike="noStrike">
              <a:solidFill>
                <a:srgbClr val="000000"/>
              </a:solidFill>
              <a:latin typeface="Helvetic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360360" y="360360"/>
            <a:ext cx="997272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1" i="1" lang="en-GB" sz="3600" spc="-1" strike="noStrike">
                <a:solidFill>
                  <a:srgbClr val="800000"/>
                </a:solidFill>
                <a:latin typeface="Helvetic"/>
              </a:rPr>
              <a:t>Conclusions</a:t>
            </a:r>
            <a:endParaRPr b="1" i="1" lang="en-US" sz="3600" spc="-1" strike="noStrike">
              <a:solidFill>
                <a:srgbClr val="ffffff"/>
              </a:solidFill>
              <a:latin typeface="Helvetic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378000" y="1561680"/>
            <a:ext cx="988344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3280" indent="-432000">
              <a:lnSpc>
                <a:spcPct val="93000"/>
              </a:lnSpc>
              <a:spcAft>
                <a:spcPts val="1412"/>
              </a:spcAft>
              <a:buSzPct val="100000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Helvetic"/>
              </a:rPr>
              <a:t>Triangulations can accurately and efficiently represent polygonal environments</a:t>
            </a:r>
            <a:endParaRPr b="0" lang="en-US" sz="2800" spc="-1" strike="noStrike">
              <a:solidFill>
                <a:srgbClr val="000000"/>
              </a:solidFill>
              <a:latin typeface="Helvetic"/>
            </a:endParaRPr>
          </a:p>
          <a:p>
            <a:pPr marL="503280" indent="-432000">
              <a:lnSpc>
                <a:spcPct val="93000"/>
              </a:lnSpc>
              <a:spcAft>
                <a:spcPts val="1412"/>
              </a:spcAft>
              <a:buSzPct val="100000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Helvetic"/>
              </a:rPr>
              <a:t>Triangulations offer unique possibilities for pathfinding for a non-point (especially circular) object</a:t>
            </a:r>
            <a:endParaRPr b="0" lang="en-US" sz="2800" spc="-1" strike="noStrike">
              <a:solidFill>
                <a:srgbClr val="000000"/>
              </a:solidFill>
              <a:latin typeface="Helvetic"/>
            </a:endParaRPr>
          </a:p>
          <a:p>
            <a:pPr marL="503280" indent="-432000">
              <a:lnSpc>
                <a:spcPct val="93000"/>
              </a:lnSpc>
              <a:spcAft>
                <a:spcPts val="1412"/>
              </a:spcAft>
              <a:buSzPct val="100000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Helvetic"/>
              </a:rPr>
              <a:t>Triangulation-based pathfinding finds paths very quickly and can also find optimal paths given a bit more time</a:t>
            </a:r>
            <a:endParaRPr b="0" lang="en-US" sz="2800" spc="-1" strike="noStrike">
              <a:solidFill>
                <a:srgbClr val="000000"/>
              </a:solidFill>
              <a:latin typeface="Helvetic"/>
            </a:endParaRPr>
          </a:p>
          <a:p>
            <a:pPr marL="503280" indent="-432000">
              <a:lnSpc>
                <a:spcPct val="93000"/>
              </a:lnSpc>
              <a:spcAft>
                <a:spcPts val="1412"/>
              </a:spcAft>
              <a:buSzPct val="100000"/>
              <a:buBlip>
                <a:blip r:embed="rId4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Helvetic"/>
              </a:rPr>
              <a:t>Our abstraction technique identifies useful structures in the environment: dead-ends, corridors, and decision points</a:t>
            </a:r>
            <a:endParaRPr b="0" lang="en-US" sz="2800" spc="-1" strike="noStrike">
              <a:solidFill>
                <a:srgbClr val="000000"/>
              </a:solidFill>
              <a:latin typeface="Helvetic"/>
            </a:endParaRPr>
          </a:p>
          <a:p>
            <a:pPr marL="503280" indent="-432000">
              <a:lnSpc>
                <a:spcPct val="93000"/>
              </a:lnSpc>
              <a:spcAft>
                <a:spcPts val="1412"/>
              </a:spcAft>
              <a:buSzPct val="100000"/>
              <a:buBlip>
                <a:blip r:embed="rId5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Helvetic"/>
              </a:rPr>
              <a:t>This abstraction can be used to find paths even more quickly, only depending on the number of obstacles</a:t>
            </a:r>
            <a:endParaRPr b="0" lang="en-US" sz="2800" spc="-1" strike="noStrike">
              <a:solidFill>
                <a:srgbClr val="000000"/>
              </a:solidFill>
              <a:latin typeface="Helvetic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360360" y="360360"/>
            <a:ext cx="997272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1" i="1" lang="en-GB" sz="3600" spc="-1" strike="noStrike">
                <a:solidFill>
                  <a:srgbClr val="800000"/>
                </a:solidFill>
                <a:latin typeface="Helvetic"/>
              </a:rPr>
              <a:t>Future Work</a:t>
            </a:r>
            <a:endParaRPr b="1" i="1" lang="en-US" sz="3600" spc="-1" strike="noStrike">
              <a:solidFill>
                <a:srgbClr val="ffffff"/>
              </a:solidFill>
              <a:latin typeface="Helvetic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378000" y="1561680"/>
            <a:ext cx="9883440" cy="550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3280" indent="-432000">
              <a:lnSpc>
                <a:spcPct val="93000"/>
              </a:lnSpc>
              <a:spcAft>
                <a:spcPts val="1412"/>
              </a:spcAft>
              <a:buSzPct val="100000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Helvetic"/>
              </a:rPr>
              <a:t>Further abstraction is possible by collapsing doubly-connected components of the abstract graph into single nodes of an even more abstract graph, forming trees:</a:t>
            </a:r>
            <a:endParaRPr b="0" lang="en-US" sz="2800" spc="-1" strike="noStrike">
              <a:solidFill>
                <a:srgbClr val="000000"/>
              </a:solidFill>
              <a:latin typeface="Helvetic"/>
            </a:endParaRPr>
          </a:p>
          <a:p>
            <a:pPr lvl="1" marL="790560" indent="-431640">
              <a:lnSpc>
                <a:spcPct val="93000"/>
              </a:lnSpc>
              <a:spcAft>
                <a:spcPts val="1137"/>
              </a:spcAft>
              <a:buSzPct val="100000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Helvetic"/>
              </a:rPr>
              <a:t>Would identify “rooms” in the environment</a:t>
            </a:r>
            <a:endParaRPr b="0" lang="en-US" sz="2600" spc="-1" strike="noStrike">
              <a:solidFill>
                <a:srgbClr val="000000"/>
              </a:solidFill>
              <a:latin typeface="Helvetic"/>
            </a:endParaRPr>
          </a:p>
          <a:p>
            <a:pPr lvl="1" marL="790560" indent="-431640">
              <a:lnSpc>
                <a:spcPct val="93000"/>
              </a:lnSpc>
              <a:spcAft>
                <a:spcPts val="1137"/>
              </a:spcAft>
              <a:buSzPct val="100000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Helvetic"/>
              </a:rPr>
              <a:t>Pathfinding in the tree is trivial, and paths between entry points of the components could even be cached</a:t>
            </a:r>
            <a:endParaRPr b="0" lang="en-US" sz="2600" spc="-1" strike="noStrike">
              <a:solidFill>
                <a:srgbClr val="000000"/>
              </a:solidFill>
              <a:latin typeface="Helvetic"/>
            </a:endParaRPr>
          </a:p>
          <a:p>
            <a:pPr marL="503280" indent="-432000">
              <a:lnSpc>
                <a:spcPct val="93000"/>
              </a:lnSpc>
              <a:spcAft>
                <a:spcPts val="1412"/>
              </a:spcAft>
              <a:buSzPct val="100000"/>
              <a:buBlip>
                <a:blip r:embed="rId4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Helvetic"/>
              </a:rPr>
              <a:t>Channels resulting from triangulation pathfinding are useful in pathfinding involving multiple objects</a:t>
            </a:r>
            <a:endParaRPr b="0" lang="en-US" sz="2800" spc="-1" strike="noStrike">
              <a:solidFill>
                <a:srgbClr val="000000"/>
              </a:solidFill>
              <a:latin typeface="Helvetic"/>
            </a:endParaRPr>
          </a:p>
          <a:p>
            <a:pPr marL="503280" indent="-432000">
              <a:lnSpc>
                <a:spcPct val="93000"/>
              </a:lnSpc>
              <a:spcAft>
                <a:spcPts val="1412"/>
              </a:spcAft>
              <a:buSzPct val="100000"/>
              <a:buBlip>
                <a:blip r:embed="rId5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Helvetic"/>
              </a:rPr>
              <a:t>Terrain analysis is possible with the abstraction information</a:t>
            </a:r>
            <a:endParaRPr b="0" lang="en-US" sz="2800" spc="-1" strike="noStrike">
              <a:solidFill>
                <a:srgbClr val="000000"/>
              </a:solidFill>
              <a:latin typeface="Helvetic"/>
            </a:endParaRPr>
          </a:p>
          <a:p>
            <a:pPr marL="503280" indent="-432000">
              <a:lnSpc>
                <a:spcPct val="93000"/>
              </a:lnSpc>
              <a:spcAft>
                <a:spcPts val="1412"/>
              </a:spcAft>
              <a:buSzPct val="100000"/>
              <a:buBlip>
                <a:blip r:embed="rId6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Helvetic"/>
              </a:rPr>
              <a:t>Some enhancements for grids could work on triangulations</a:t>
            </a:r>
            <a:endParaRPr b="0" lang="en-US" sz="2800" spc="-1" strike="noStrike">
              <a:solidFill>
                <a:srgbClr val="000000"/>
              </a:solidFill>
              <a:latin typeface="Helvetic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360360" y="360360"/>
            <a:ext cx="997272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1" i="1" lang="en-GB" sz="3600" spc="-1" strike="noStrike">
                <a:solidFill>
                  <a:srgbClr val="800000"/>
                </a:solidFill>
                <a:latin typeface="Helvetic"/>
              </a:rPr>
              <a:t>Questions?</a:t>
            </a:r>
            <a:endParaRPr b="1" i="1" lang="en-US" sz="3600" spc="-1" strike="noStrike">
              <a:solidFill>
                <a:srgbClr val="ffffff"/>
              </a:solidFill>
              <a:latin typeface="Helvetic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 type="subTitle"/>
          </p:nvPr>
        </p:nvSpPr>
        <p:spPr>
          <a:xfrm>
            <a:off x="378000" y="1561680"/>
            <a:ext cx="988344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ank you for your atten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7202520" y="4684680"/>
            <a:ext cx="717480" cy="1434960"/>
          </a:xfrm>
          <a:custGeom>
            <a:avLst/>
            <a:gdLst>
              <a:gd name="textAreaLeft" fmla="*/ 360 w 717480"/>
              <a:gd name="textAreaRight" fmla="*/ 717120 w 717480"/>
              <a:gd name="textAreaTop" fmla="*/ 360 h 1434960"/>
              <a:gd name="textAreaBottom" fmla="*/ 1434600 h 1434960"/>
            </a:gdLst>
            <a:ahLst/>
            <a:rect l="textAreaLeft" t="textAreaTop" r="textAreaRight" b="textAreaBottom"/>
            <a:pathLst>
              <a:path w="21600" h="43189">
                <a:moveTo>
                  <a:pt x="47" y="0"/>
                </a:moveTo>
                <a:arcTo wR="47" hR="47" stAng="16200000" swAng="-5400000"/>
                <a:lnTo>
                  <a:pt x="0" y="43142"/>
                </a:lnTo>
                <a:arcTo wR="47" hR="47" stAng="10800000" swAng="-5400000"/>
                <a:lnTo>
                  <a:pt x="21553" y="43189"/>
                </a:lnTo>
                <a:arcTo wR="47" hR="47" stAng="5400000" swAng="-5400000"/>
                <a:lnTo>
                  <a:pt x="21600" y="47"/>
                </a:lnTo>
                <a:arcTo wR="47" hR="47" stAng="0" swAng="-5400000"/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85040" y="3952800"/>
            <a:ext cx="717480" cy="1449360"/>
          </a:xfrm>
          <a:custGeom>
            <a:avLst/>
            <a:gdLst>
              <a:gd name="textAreaLeft" fmla="*/ 360 w 717480"/>
              <a:gd name="textAreaRight" fmla="*/ 717120 w 717480"/>
              <a:gd name="textAreaTop" fmla="*/ 360 h 1449360"/>
              <a:gd name="textAreaBottom" fmla="*/ 1449000 h 1449360"/>
            </a:gdLst>
            <a:ahLst/>
            <a:rect l="textAreaLeft" t="textAreaTop" r="textAreaRight" b="textAreaBottom"/>
            <a:pathLst>
              <a:path w="21600" h="43622">
                <a:moveTo>
                  <a:pt x="47" y="0"/>
                </a:moveTo>
                <a:arcTo wR="47" hR="47" stAng="16200000" swAng="-5400000"/>
                <a:lnTo>
                  <a:pt x="0" y="43575"/>
                </a:lnTo>
                <a:arcTo wR="47" hR="47" stAng="10800000" swAng="-5400000"/>
                <a:lnTo>
                  <a:pt x="21553" y="43622"/>
                </a:lnTo>
                <a:arcTo wR="47" hR="47" stAng="5400000" swAng="-5400000"/>
                <a:lnTo>
                  <a:pt x="21600" y="47"/>
                </a:lnTo>
                <a:arcTo wR="47" hR="47" stAng="0" swAng="-5400000"/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920000" y="1800360"/>
            <a:ext cx="1434960" cy="2152440"/>
          </a:xfrm>
          <a:custGeom>
            <a:avLst/>
            <a:gdLst>
              <a:gd name="textAreaLeft" fmla="*/ 360 w 1434960"/>
              <a:gd name="textAreaRight" fmla="*/ 1434600 w 1434960"/>
              <a:gd name="textAreaTop" fmla="*/ 360 h 2152440"/>
              <a:gd name="textAreaBottom" fmla="*/ 2152080 h 2152440"/>
            </a:gdLst>
            <a:ahLst/>
            <a:rect l="textAreaLeft" t="textAreaTop" r="textAreaRight" b="textAreaBottom"/>
            <a:pathLst>
              <a:path w="21600" h="32397">
                <a:moveTo>
                  <a:pt x="23" y="0"/>
                </a:moveTo>
                <a:arcTo wR="23" hR="23" stAng="16200000" swAng="-5400000"/>
                <a:lnTo>
                  <a:pt x="0" y="32374"/>
                </a:lnTo>
                <a:arcTo wR="23" hR="23" stAng="10800000" swAng="-5400000"/>
                <a:lnTo>
                  <a:pt x="21577" y="32397"/>
                </a:lnTo>
                <a:arcTo wR="23" hR="23" stAng="5400000" swAng="-5400000"/>
                <a:lnTo>
                  <a:pt x="21600" y="23"/>
                </a:lnTo>
                <a:arcTo wR="23" hR="23" stAng="0" swAng="-5400000"/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0360" y="360360"/>
            <a:ext cx="997272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1" i="1" lang="en-GB" sz="3600" spc="-1" strike="noStrike">
                <a:solidFill>
                  <a:srgbClr val="800000"/>
                </a:solidFill>
                <a:latin typeface="Helvetic"/>
              </a:rPr>
              <a:t>Grid-Based Methods</a:t>
            </a:r>
            <a:endParaRPr b="1" i="1" lang="en-US" sz="3600" spc="-1" strike="noStrike">
              <a:solidFill>
                <a:srgbClr val="ffffff"/>
              </a:solidFill>
              <a:latin typeface="Helvet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78000" y="1561680"/>
            <a:ext cx="482256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3280" indent="-432000">
              <a:lnSpc>
                <a:spcPct val="93000"/>
              </a:lnSpc>
              <a:spcAft>
                <a:spcPts val="1412"/>
              </a:spcAft>
              <a:buSzPct val="100000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Helvetic"/>
              </a:rPr>
              <a:t>Represent the environment by a grid of (usually square) cells</a:t>
            </a:r>
            <a:endParaRPr b="0" lang="en-US" sz="2800" spc="-1" strike="noStrike">
              <a:solidFill>
                <a:srgbClr val="000000"/>
              </a:solidFill>
              <a:latin typeface="Helvetic"/>
            </a:endParaRPr>
          </a:p>
          <a:p>
            <a:pPr marL="503280" indent="-432000">
              <a:lnSpc>
                <a:spcPct val="93000"/>
              </a:lnSpc>
              <a:spcAft>
                <a:spcPts val="1412"/>
              </a:spcAft>
              <a:buSzPct val="100000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Helvetic"/>
              </a:rPr>
              <a:t>Each cell is either traversible or obstructed</a:t>
            </a:r>
            <a:endParaRPr b="0" lang="en-US" sz="2800" spc="-1" strike="noStrike">
              <a:solidFill>
                <a:srgbClr val="000000"/>
              </a:solidFill>
              <a:latin typeface="Helvetic"/>
            </a:endParaRPr>
          </a:p>
          <a:p>
            <a:pPr marL="503280" indent="-432000">
              <a:lnSpc>
                <a:spcPct val="93000"/>
              </a:lnSpc>
              <a:spcAft>
                <a:spcPts val="1412"/>
              </a:spcAft>
              <a:buSzPct val="100000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Helvetic"/>
              </a:rPr>
              <a:t>Object (on a traversible cell) can move to any adjacent traversible cell each move</a:t>
            </a:r>
            <a:endParaRPr b="0" lang="en-US" sz="2800" spc="-1" strike="noStrike">
              <a:solidFill>
                <a:srgbClr val="000000"/>
              </a:solidFill>
              <a:latin typeface="Helvetic"/>
            </a:endParaRPr>
          </a:p>
        </p:txBody>
      </p:sp>
      <p:sp>
        <p:nvSpPr>
          <p:cNvPr id="61" name=""/>
          <p:cNvSpPr/>
          <p:nvPr/>
        </p:nvSpPr>
        <p:spPr>
          <a:xfrm>
            <a:off x="6480000" y="1800360"/>
            <a:ext cx="1800" cy="4317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201080" y="1800360"/>
            <a:ext cx="1440" cy="4317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920000" y="1800360"/>
            <a:ext cx="1800" cy="4317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640720" y="1800360"/>
            <a:ext cx="1800" cy="4317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361440" y="1800360"/>
            <a:ext cx="1800" cy="4317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761080" y="1800360"/>
            <a:ext cx="1440" cy="4317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754600" y="1800360"/>
            <a:ext cx="360036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5754600" y="2516040"/>
            <a:ext cx="3600360" cy="64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5754600" y="3233880"/>
            <a:ext cx="3600360" cy="79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767560" y="3952800"/>
            <a:ext cx="358740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754600" y="4680000"/>
            <a:ext cx="3600360" cy="32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754600" y="5400720"/>
            <a:ext cx="360036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5754600" y="6117840"/>
            <a:ext cx="3600360" cy="46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202520" y="3235320"/>
            <a:ext cx="717480" cy="717480"/>
          </a:xfrm>
          <a:prstGeom prst="smileyFace">
            <a:avLst>
              <a:gd name="adj" fmla="val 4653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554960" y="3952800"/>
            <a:ext cx="1440" cy="3650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6835320" y="3600360"/>
            <a:ext cx="368280" cy="18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7554960" y="2881080"/>
            <a:ext cx="1440" cy="35532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6848640" y="2881440"/>
            <a:ext cx="460080" cy="46008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0360" y="360360"/>
            <a:ext cx="997272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1" i="1" lang="en-GB" sz="3600" spc="-1" strike="noStrike">
                <a:solidFill>
                  <a:srgbClr val="800000"/>
                </a:solidFill>
                <a:latin typeface="Helvetic"/>
              </a:rPr>
              <a:t>Grid-Based Methods: Advantages</a:t>
            </a:r>
            <a:endParaRPr b="1" i="1" lang="en-US" sz="3600" spc="-1" strike="noStrike">
              <a:solidFill>
                <a:srgbClr val="ffffff"/>
              </a:solidFill>
              <a:latin typeface="Helvetic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78000" y="1561680"/>
            <a:ext cx="482256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3280" indent="-432000">
              <a:lnSpc>
                <a:spcPct val="93000"/>
              </a:lnSpc>
              <a:spcAft>
                <a:spcPts val="1412"/>
              </a:spcAft>
              <a:buSzPct val="100000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Helvetic"/>
              </a:rPr>
              <a:t>Conceptually simple representation</a:t>
            </a:r>
            <a:endParaRPr b="0" lang="en-US" sz="2800" spc="-1" strike="noStrike">
              <a:solidFill>
                <a:srgbClr val="000000"/>
              </a:solidFill>
              <a:latin typeface="Helvetic"/>
            </a:endParaRPr>
          </a:p>
          <a:p>
            <a:pPr marL="503280" indent="-432000">
              <a:lnSpc>
                <a:spcPct val="93000"/>
              </a:lnSpc>
              <a:spcAft>
                <a:spcPts val="1412"/>
              </a:spcAft>
              <a:buSzPct val="100000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Helvetic"/>
              </a:rPr>
              <a:t>Many existing algorithms</a:t>
            </a:r>
            <a:endParaRPr b="0" lang="en-US" sz="2800" spc="-1" strike="noStrike">
              <a:solidFill>
                <a:srgbClr val="000000"/>
              </a:solidFill>
              <a:latin typeface="Helvetic"/>
            </a:endParaRPr>
          </a:p>
          <a:p>
            <a:pPr marL="503280" indent="-432000">
              <a:lnSpc>
                <a:spcPct val="93000"/>
              </a:lnSpc>
              <a:spcAft>
                <a:spcPts val="1412"/>
              </a:spcAft>
              <a:buSzPct val="100000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Helvetic"/>
              </a:rPr>
              <a:t>Perfectly represents tile-based environments</a:t>
            </a:r>
            <a:endParaRPr b="0" lang="en-US" sz="2800" spc="-1" strike="noStrike">
              <a:solidFill>
                <a:srgbClr val="000000"/>
              </a:solidFill>
              <a:latin typeface="Helvetic"/>
            </a:endParaRPr>
          </a:p>
          <a:p>
            <a:pPr marL="503280" indent="-432000">
              <a:lnSpc>
                <a:spcPct val="93000"/>
              </a:lnSpc>
              <a:spcAft>
                <a:spcPts val="1412"/>
              </a:spcAft>
              <a:buSzPct val="100000"/>
              <a:buBlip>
                <a:blip r:embed="rId4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Helvetic"/>
              </a:rPr>
              <a:t>Exact paths easy to determine for cell-sized objects</a:t>
            </a:r>
            <a:endParaRPr b="0" lang="en-US" sz="2800" spc="-1" strike="noStrike">
              <a:solidFill>
                <a:srgbClr val="000000"/>
              </a:solidFill>
              <a:latin typeface="Helvetic"/>
            </a:endParaRPr>
          </a:p>
        </p:txBody>
      </p:sp>
      <p:sp>
        <p:nvSpPr>
          <p:cNvPr id="81" name=""/>
          <p:cNvSpPr/>
          <p:nvPr/>
        </p:nvSpPr>
        <p:spPr>
          <a:xfrm>
            <a:off x="7202520" y="5754600"/>
            <a:ext cx="352440" cy="365040"/>
          </a:xfrm>
          <a:custGeom>
            <a:avLst/>
            <a:gdLst>
              <a:gd name="textAreaLeft" fmla="*/ 360 w 352440"/>
              <a:gd name="textAreaRight" fmla="*/ 352080 w 352440"/>
              <a:gd name="textAreaTop" fmla="*/ 360 h 365040"/>
              <a:gd name="textAreaBottom" fmla="*/ 364680 h 365040"/>
            </a:gdLst>
            <a:ahLst/>
            <a:rect l="textAreaLeft" t="textAreaTop" r="textAreaRight" b="textAreaBottom"/>
            <a:pathLst>
              <a:path w="21600" h="22371">
                <a:moveTo>
                  <a:pt x="97" y="0"/>
                </a:moveTo>
                <a:arcTo wR="97" hR="97" stAng="16200000" swAng="-5400000"/>
                <a:lnTo>
                  <a:pt x="0" y="22274"/>
                </a:lnTo>
                <a:arcTo wR="97" hR="97" stAng="10800000" swAng="-5400000"/>
                <a:lnTo>
                  <a:pt x="21503" y="22371"/>
                </a:lnTo>
                <a:arcTo wR="97" hR="97" stAng="5400000" swAng="-5400000"/>
                <a:lnTo>
                  <a:pt x="21600" y="97"/>
                </a:lnTo>
                <a:arcTo wR="97" hR="97" stAng="0" swAng="-5400000"/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754600" y="5402160"/>
            <a:ext cx="1800360" cy="352440"/>
          </a:xfrm>
          <a:prstGeom prst="roundRect">
            <a:avLst>
              <a:gd name="adj" fmla="val 449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202520" y="2165400"/>
            <a:ext cx="717480" cy="1069920"/>
          </a:xfrm>
          <a:custGeom>
            <a:avLst/>
            <a:gdLst>
              <a:gd name="textAreaLeft" fmla="*/ 360 w 717480"/>
              <a:gd name="textAreaRight" fmla="*/ 717120 w 717480"/>
              <a:gd name="textAreaTop" fmla="*/ 360 h 1069920"/>
              <a:gd name="textAreaBottom" fmla="*/ 1069560 h 1069920"/>
            </a:gdLst>
            <a:ahLst/>
            <a:rect l="textAreaLeft" t="textAreaTop" r="textAreaRight" b="textAreaBottom"/>
            <a:pathLst>
              <a:path w="21600" h="32205">
                <a:moveTo>
                  <a:pt x="47" y="0"/>
                </a:moveTo>
                <a:arcTo wR="47" hR="47" stAng="16200000" swAng="-5400000"/>
                <a:lnTo>
                  <a:pt x="0" y="32158"/>
                </a:lnTo>
                <a:arcTo wR="47" hR="47" stAng="10800000" swAng="-5400000"/>
                <a:lnTo>
                  <a:pt x="21553" y="32205"/>
                </a:lnTo>
                <a:arcTo wR="47" hR="47" stAng="5400000" swAng="-5400000"/>
                <a:lnTo>
                  <a:pt x="21600" y="47"/>
                </a:lnTo>
                <a:arcTo wR="47" hR="47" stAng="0" swAng="-5400000"/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920000" y="4319640"/>
            <a:ext cx="717480" cy="365040"/>
          </a:xfrm>
          <a:prstGeom prst="roundRect">
            <a:avLst>
              <a:gd name="adj" fmla="val 431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637480" y="1800360"/>
            <a:ext cx="365400" cy="2884320"/>
          </a:xfrm>
          <a:custGeom>
            <a:avLst/>
            <a:gdLst>
              <a:gd name="textAreaLeft" fmla="*/ 360 w 365400"/>
              <a:gd name="textAreaRight" fmla="*/ 365040 w 365400"/>
              <a:gd name="textAreaTop" fmla="*/ 360 h 2884320"/>
              <a:gd name="textAreaBottom" fmla="*/ 2883960 h 2884320"/>
            </a:gdLst>
            <a:ahLst/>
            <a:rect l="textAreaLeft" t="textAreaTop" r="textAreaRight" b="textAreaBottom"/>
            <a:pathLst>
              <a:path w="21600" h="170355">
                <a:moveTo>
                  <a:pt x="93" y="0"/>
                </a:moveTo>
                <a:arcTo wR="93" hR="93" stAng="16200000" swAng="-5400000"/>
                <a:lnTo>
                  <a:pt x="0" y="170262"/>
                </a:lnTo>
                <a:arcTo wR="93" hR="93" stAng="10800000" swAng="-5400000"/>
                <a:lnTo>
                  <a:pt x="21507" y="170355"/>
                </a:lnTo>
                <a:arcTo wR="93" hR="93" stAng="5400000" swAng="-5400000"/>
                <a:lnTo>
                  <a:pt x="21600" y="93"/>
                </a:lnTo>
                <a:arcTo wR="93" hR="93" stAng="0" swAng="-5400000"/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19640" y="1800360"/>
            <a:ext cx="1800" cy="4317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80000" y="1800360"/>
            <a:ext cx="1800" cy="4317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40360" y="1800360"/>
            <a:ext cx="1800" cy="4317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199280" y="1800360"/>
            <a:ext cx="1800" cy="4317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559640" y="1800360"/>
            <a:ext cx="1800" cy="4317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920000" y="1800360"/>
            <a:ext cx="1800" cy="4317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280360" y="1800360"/>
            <a:ext cx="1800" cy="4317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640720" y="1800360"/>
            <a:ext cx="1800" cy="4317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999640" y="1800360"/>
            <a:ext cx="1440" cy="4317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360000" y="1800360"/>
            <a:ext cx="1440" cy="4317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759280" y="1800360"/>
            <a:ext cx="1800" cy="4317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720360" y="1800360"/>
            <a:ext cx="1440" cy="4317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754600" y="1800360"/>
            <a:ext cx="396720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754600" y="2160720"/>
            <a:ext cx="396720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54600" y="2521080"/>
            <a:ext cx="396720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754600" y="2881440"/>
            <a:ext cx="396720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754600" y="3240000"/>
            <a:ext cx="396720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754600" y="3600360"/>
            <a:ext cx="396720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754600" y="3960720"/>
            <a:ext cx="396720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754600" y="4321080"/>
            <a:ext cx="396720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754600" y="4680000"/>
            <a:ext cx="396720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54600" y="5040360"/>
            <a:ext cx="396720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754600" y="5400720"/>
            <a:ext cx="396720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767560" y="5748480"/>
            <a:ext cx="396684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754600" y="6121440"/>
            <a:ext cx="396720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119640" y="2882880"/>
            <a:ext cx="365400" cy="352440"/>
          </a:xfrm>
          <a:prstGeom prst="smileyFace">
            <a:avLst>
              <a:gd name="adj" fmla="val 4653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354960" y="3967200"/>
            <a:ext cx="365400" cy="352440"/>
          </a:xfrm>
          <a:prstGeom prst="star5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19880" y="3182760"/>
            <a:ext cx="1317600" cy="13179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737480" y="4502160"/>
            <a:ext cx="1440" cy="3650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737480" y="4854600"/>
            <a:ext cx="144792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9186840" y="4500360"/>
            <a:ext cx="352440" cy="3553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9539280" y="4240080"/>
            <a:ext cx="1440" cy="2635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6302520" y="4135320"/>
            <a:ext cx="717480" cy="717840"/>
          </a:xfrm>
          <a:prstGeom prst="smileyFace">
            <a:avLst>
              <a:gd name="adj" fmla="val 4653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637480" y="2165400"/>
            <a:ext cx="365400" cy="352440"/>
          </a:xfrm>
          <a:prstGeom prst="roundRect">
            <a:avLst>
              <a:gd name="adj" fmla="val 449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354960" y="2882880"/>
            <a:ext cx="365400" cy="717480"/>
          </a:xfrm>
          <a:custGeom>
            <a:avLst/>
            <a:gdLst>
              <a:gd name="textAreaLeft" fmla="*/ 360 w 365400"/>
              <a:gd name="textAreaRight" fmla="*/ 365040 w 365400"/>
              <a:gd name="textAreaTop" fmla="*/ 360 h 717480"/>
              <a:gd name="textAreaBottom" fmla="*/ 717120 h 717480"/>
            </a:gdLst>
            <a:ahLst/>
            <a:rect l="textAreaLeft" t="textAreaTop" r="textAreaRight" b="textAreaBottom"/>
            <a:pathLst>
              <a:path w="21600" h="42392">
                <a:moveTo>
                  <a:pt x="93" y="0"/>
                </a:moveTo>
                <a:arcTo wR="93" hR="93" stAng="16200000" swAng="-5400000"/>
                <a:lnTo>
                  <a:pt x="0" y="42299"/>
                </a:lnTo>
                <a:arcTo wR="93" hR="93" stAng="10800000" swAng="-5400000"/>
                <a:lnTo>
                  <a:pt x="21507" y="42392"/>
                </a:lnTo>
                <a:arcTo wR="93" hR="93" stAng="5400000" swAng="-5400000"/>
                <a:lnTo>
                  <a:pt x="21600" y="93"/>
                </a:lnTo>
                <a:arcTo wR="93" hR="93" stAng="0" swAng="-5400000"/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920000" y="2882880"/>
            <a:ext cx="365040" cy="1082520"/>
          </a:xfrm>
          <a:custGeom>
            <a:avLst/>
            <a:gdLst>
              <a:gd name="textAreaLeft" fmla="*/ 360 w 365040"/>
              <a:gd name="textAreaRight" fmla="*/ 364680 w 365040"/>
              <a:gd name="textAreaTop" fmla="*/ 360 h 1082520"/>
              <a:gd name="textAreaBottom" fmla="*/ 1082160 h 1082520"/>
            </a:gdLst>
            <a:ahLst/>
            <a:rect l="textAreaLeft" t="textAreaTop" r="textAreaRight" b="textAreaBottom"/>
            <a:pathLst>
              <a:path w="21600" h="64013">
                <a:moveTo>
                  <a:pt x="93" y="0"/>
                </a:moveTo>
                <a:arcTo wR="93" hR="93" stAng="16200000" swAng="-5400000"/>
                <a:lnTo>
                  <a:pt x="0" y="63920"/>
                </a:lnTo>
                <a:arcTo wR="93" hR="93" stAng="10800000" swAng="-5400000"/>
                <a:lnTo>
                  <a:pt x="21507" y="64013"/>
                </a:lnTo>
                <a:arcTo wR="93" hR="93" stAng="5400000" swAng="-5400000"/>
                <a:lnTo>
                  <a:pt x="21600" y="93"/>
                </a:lnTo>
                <a:arcTo wR="93" hR="93" stAng="0" swAng="-5400000"/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285040" y="2517840"/>
            <a:ext cx="1069920" cy="1801800"/>
          </a:xfrm>
          <a:custGeom>
            <a:avLst/>
            <a:gdLst>
              <a:gd name="textAreaLeft" fmla="*/ 360 w 1069920"/>
              <a:gd name="textAreaRight" fmla="*/ 1069560 w 1069920"/>
              <a:gd name="textAreaTop" fmla="*/ 360 h 1801800"/>
              <a:gd name="textAreaBottom" fmla="*/ 1801440 h 1801800"/>
            </a:gdLst>
            <a:ahLst/>
            <a:rect l="textAreaLeft" t="textAreaTop" r="textAreaRight" b="textAreaBottom"/>
            <a:pathLst>
              <a:path w="21600" h="36371">
                <a:moveTo>
                  <a:pt x="32" y="0"/>
                </a:moveTo>
                <a:arcTo wR="32" hR="32" stAng="16200000" swAng="-5400000"/>
                <a:lnTo>
                  <a:pt x="0" y="36339"/>
                </a:lnTo>
                <a:arcTo wR="32" hR="32" stAng="10800000" swAng="-5400000"/>
                <a:lnTo>
                  <a:pt x="21568" y="36371"/>
                </a:lnTo>
                <a:arcTo wR="32" hR="32" stAng="5400000" swAng="-5400000"/>
                <a:lnTo>
                  <a:pt x="21600" y="32"/>
                </a:lnTo>
                <a:arcTo wR="32" hR="32" stAng="0" swAng="-5400000"/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60360" y="360360"/>
            <a:ext cx="997272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1" i="1" lang="en-GB" sz="3600" spc="-1" strike="noStrike">
                <a:solidFill>
                  <a:srgbClr val="800000"/>
                </a:solidFill>
                <a:latin typeface="Helvetic"/>
              </a:rPr>
              <a:t>Grid-Based Methods: Disadvantages</a:t>
            </a:r>
            <a:endParaRPr b="1" i="1" lang="en-US" sz="3600" spc="-1" strike="noStrike">
              <a:solidFill>
                <a:srgbClr val="ffffff"/>
              </a:solidFill>
              <a:latin typeface="Helvetic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78000" y="1562040"/>
            <a:ext cx="4822560" cy="49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3280" indent="-432000">
              <a:lnSpc>
                <a:spcPct val="93000"/>
              </a:lnSpc>
              <a:spcAft>
                <a:spcPts val="1412"/>
              </a:spcAft>
              <a:buSzPct val="100000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Helvetic"/>
              </a:rPr>
              <a:t>Imprecise representation of arbitrary barriers</a:t>
            </a:r>
            <a:endParaRPr b="0" lang="en-US" sz="2800" spc="-1" strike="noStrike">
              <a:solidFill>
                <a:srgbClr val="000000"/>
              </a:solidFill>
              <a:latin typeface="Helvetic"/>
            </a:endParaRPr>
          </a:p>
          <a:p>
            <a:pPr marL="503280" indent="-432000">
              <a:lnSpc>
                <a:spcPct val="93000"/>
              </a:lnSpc>
              <a:spcAft>
                <a:spcPts val="1412"/>
              </a:spcAft>
              <a:buSzPct val="100000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Helvetic"/>
              </a:rPr>
              <a:t>Increased precision in one area increases complexity everywhere</a:t>
            </a:r>
            <a:endParaRPr b="0" lang="en-US" sz="2800" spc="-1" strike="noStrike">
              <a:solidFill>
                <a:srgbClr val="000000"/>
              </a:solidFill>
              <a:latin typeface="Helvetic"/>
            </a:endParaRPr>
          </a:p>
          <a:p>
            <a:pPr marL="503280" indent="-432000">
              <a:lnSpc>
                <a:spcPct val="93000"/>
              </a:lnSpc>
              <a:spcAft>
                <a:spcPts val="1412"/>
              </a:spcAft>
              <a:buSzPct val="100000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Helvetic"/>
              </a:rPr>
              <a:t>Awkward for objects that are not tile-sized and shaped</a:t>
            </a:r>
            <a:endParaRPr b="0" lang="en-US" sz="2800" spc="-1" strike="noStrike">
              <a:solidFill>
                <a:srgbClr val="000000"/>
              </a:solidFill>
              <a:latin typeface="Helvetic"/>
            </a:endParaRPr>
          </a:p>
          <a:p>
            <a:pPr marL="503280" indent="-432000">
              <a:lnSpc>
                <a:spcPct val="93000"/>
              </a:lnSpc>
              <a:spcAft>
                <a:spcPts val="1412"/>
              </a:spcAft>
              <a:buSzPct val="100000"/>
              <a:buBlip>
                <a:blip r:embed="rId4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Helvetic"/>
              </a:rPr>
              <a:t>Does not represent the structure of the environment</a:t>
            </a:r>
            <a:endParaRPr b="0" lang="en-US" sz="2800" spc="-1" strike="noStrike">
              <a:solidFill>
                <a:srgbClr val="000000"/>
              </a:solidFill>
              <a:latin typeface="Helvetic"/>
            </a:endParaRPr>
          </a:p>
        </p:txBody>
      </p:sp>
      <p:sp>
        <p:nvSpPr>
          <p:cNvPr id="125" name=""/>
          <p:cNvSpPr/>
          <p:nvPr/>
        </p:nvSpPr>
        <p:spPr>
          <a:xfrm>
            <a:off x="6119640" y="1800360"/>
            <a:ext cx="1800" cy="4317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480000" y="1800360"/>
            <a:ext cx="1800" cy="4317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840360" y="1800360"/>
            <a:ext cx="1800" cy="4317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01080" y="1800360"/>
            <a:ext cx="1440" cy="4317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559640" y="1800360"/>
            <a:ext cx="1800" cy="4317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920000" y="1800360"/>
            <a:ext cx="1800" cy="4317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102520" y="2440080"/>
            <a:ext cx="1344600" cy="1762200"/>
          </a:xfrm>
          <a:prstGeom prst="pentagon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280360" y="1800360"/>
            <a:ext cx="1800" cy="4317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640720" y="1800360"/>
            <a:ext cx="1800" cy="4317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001080" y="1800360"/>
            <a:ext cx="1800" cy="4317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9360000" y="1800360"/>
            <a:ext cx="1440" cy="4317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61080" y="1800360"/>
            <a:ext cx="1440" cy="4317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720360" y="1800360"/>
            <a:ext cx="1440" cy="4317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754600" y="1800360"/>
            <a:ext cx="396720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754600" y="2160720"/>
            <a:ext cx="396720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754600" y="2521080"/>
            <a:ext cx="396720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754600" y="2881440"/>
            <a:ext cx="396720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754600" y="3240000"/>
            <a:ext cx="396720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754600" y="3600360"/>
            <a:ext cx="396720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54600" y="3960720"/>
            <a:ext cx="396720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754600" y="4321080"/>
            <a:ext cx="396720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754600" y="4680000"/>
            <a:ext cx="396720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754600" y="5040360"/>
            <a:ext cx="396720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54600" y="5400720"/>
            <a:ext cx="396720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769000" y="5748480"/>
            <a:ext cx="396720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754600" y="6121440"/>
            <a:ext cx="396720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60360" y="360360"/>
            <a:ext cx="997272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1" i="1" lang="en-GB" sz="3600" spc="-1" strike="noStrike">
                <a:solidFill>
                  <a:srgbClr val="800000"/>
                </a:solidFill>
                <a:latin typeface="Helvetic"/>
              </a:rPr>
              <a:t>Motivation: ORTS</a:t>
            </a:r>
            <a:endParaRPr b="1" i="1" lang="en-US" sz="3600" spc="-1" strike="noStrike">
              <a:solidFill>
                <a:srgbClr val="ffffff"/>
              </a:solidFill>
              <a:latin typeface="Helvetic"/>
            </a:endParaRPr>
          </a:p>
        </p:txBody>
      </p:sp>
      <p:sp>
        <p:nvSpPr>
          <p:cNvPr id="152" name=""/>
          <p:cNvSpPr/>
          <p:nvPr/>
        </p:nvSpPr>
        <p:spPr>
          <a:xfrm>
            <a:off x="378000" y="2103480"/>
            <a:ext cx="5203800" cy="39020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ouble-click to add graph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439960" y="1561680"/>
            <a:ext cx="4822920" cy="50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3280" indent="-432000">
              <a:lnSpc>
                <a:spcPct val="93000"/>
              </a:lnSpc>
              <a:spcAft>
                <a:spcPts val="1412"/>
              </a:spcAft>
              <a:buSzPct val="100000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Helvetic"/>
              </a:rPr>
              <a:t>Open Real-Time Strategy engine needed a fast pathfinder to deal with its unique requirements:</a:t>
            </a:r>
            <a:endParaRPr b="0" lang="en-US" sz="2800" spc="-1" strike="noStrike">
              <a:solidFill>
                <a:srgbClr val="000000"/>
              </a:solidFill>
              <a:latin typeface="Helvetic"/>
            </a:endParaRPr>
          </a:p>
          <a:p>
            <a:pPr lvl="1" marL="790560" indent="-431640">
              <a:lnSpc>
                <a:spcPct val="93000"/>
              </a:lnSpc>
              <a:spcAft>
                <a:spcPts val="1137"/>
              </a:spcAft>
              <a:buSzPct val="100000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Helvetic"/>
              </a:rPr>
              <a:t>Straight segment obstacle barriers both axis-aligned and on diagonals</a:t>
            </a:r>
            <a:endParaRPr b="0" lang="en-US" sz="2600" spc="-1" strike="noStrike">
              <a:solidFill>
                <a:srgbClr val="000000"/>
              </a:solidFill>
              <a:latin typeface="Helvetic"/>
            </a:endParaRPr>
          </a:p>
          <a:p>
            <a:pPr lvl="1" marL="790560" indent="-431640">
              <a:lnSpc>
                <a:spcPct val="93000"/>
              </a:lnSpc>
              <a:spcAft>
                <a:spcPts val="1137"/>
              </a:spcAft>
              <a:buSzPct val="100000"/>
              <a:buBlip>
                <a:blip r:embed="rId4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Helvetic"/>
              </a:rPr>
              <a:t>Objects with circular footprints of various size</a:t>
            </a:r>
            <a:endParaRPr b="0" lang="en-US" sz="2600" spc="-1" strike="noStrike">
              <a:solidFill>
                <a:srgbClr val="000000"/>
              </a:solidFill>
              <a:latin typeface="Helvetic"/>
            </a:endParaRPr>
          </a:p>
          <a:p>
            <a:pPr lvl="1" marL="790560" indent="-431640">
              <a:lnSpc>
                <a:spcPct val="93000"/>
              </a:lnSpc>
              <a:spcAft>
                <a:spcPts val="1137"/>
              </a:spcAft>
              <a:buSzPct val="100000"/>
              <a:buBlip>
                <a:blip r:embed="rId5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Helvetic"/>
              </a:rPr>
              <a:t>Considerations for multiple objects</a:t>
            </a:r>
            <a:endParaRPr b="0" lang="en-US" sz="2600" spc="-1" strike="noStrike">
              <a:solidFill>
                <a:srgbClr val="000000"/>
              </a:solidFill>
              <a:latin typeface="Helvetic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60360" y="360360"/>
            <a:ext cx="997272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1" i="1" lang="en-GB" sz="3600" spc="-1" strike="noStrike">
                <a:solidFill>
                  <a:srgbClr val="800000"/>
                </a:solidFill>
                <a:latin typeface="Helvetic"/>
              </a:rPr>
              <a:t>Introduction to Triangulations</a:t>
            </a:r>
            <a:endParaRPr b="1" i="1" lang="en-US" sz="3600" spc="-1" strike="noStrike">
              <a:solidFill>
                <a:srgbClr val="ffffff"/>
              </a:solidFill>
              <a:latin typeface="Helvetic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78000" y="1562040"/>
            <a:ext cx="4822560" cy="49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3280" indent="-432000">
              <a:lnSpc>
                <a:spcPct val="93000"/>
              </a:lnSpc>
              <a:spcAft>
                <a:spcPts val="1412"/>
              </a:spcAft>
              <a:buSzPct val="100000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Helvetic"/>
              </a:rPr>
              <a:t>Another way to represent the environment is with a triangulation</a:t>
            </a:r>
            <a:endParaRPr b="0" lang="en-US" sz="2800" spc="-1" strike="noStrike">
              <a:solidFill>
                <a:srgbClr val="000000"/>
              </a:solidFill>
              <a:latin typeface="Helvetic"/>
            </a:endParaRPr>
          </a:p>
          <a:p>
            <a:pPr marL="503280" indent="-432000">
              <a:lnSpc>
                <a:spcPct val="93000"/>
              </a:lnSpc>
              <a:spcAft>
                <a:spcPts val="1412"/>
              </a:spcAft>
              <a:buSzPct val="100000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Helvetic"/>
              </a:rPr>
              <a:t>Starting with an area (like a rectangle) and a collection of points</a:t>
            </a:r>
            <a:endParaRPr b="0" lang="en-US" sz="2800" spc="-1" strike="noStrike">
              <a:solidFill>
                <a:srgbClr val="000000"/>
              </a:solidFill>
              <a:latin typeface="Helvetic"/>
            </a:endParaRPr>
          </a:p>
          <a:p>
            <a:pPr marL="503280" indent="-432000">
              <a:lnSpc>
                <a:spcPct val="93000"/>
              </a:lnSpc>
              <a:spcAft>
                <a:spcPts val="1412"/>
              </a:spcAft>
              <a:buSzPct val="100000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Helvetic"/>
              </a:rPr>
              <a:t>Add edges between the points without such edges crossing</a:t>
            </a:r>
            <a:endParaRPr b="0" lang="en-US" sz="2800" spc="-1" strike="noStrike">
              <a:solidFill>
                <a:srgbClr val="000000"/>
              </a:solidFill>
              <a:latin typeface="Helvetic"/>
            </a:endParaRPr>
          </a:p>
          <a:p>
            <a:pPr marL="503280" indent="-432000">
              <a:lnSpc>
                <a:spcPct val="93000"/>
              </a:lnSpc>
              <a:spcAft>
                <a:spcPts val="1412"/>
              </a:spcAft>
              <a:buSzPct val="100000"/>
              <a:buBlip>
                <a:blip r:embed="rId4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Helvetic"/>
              </a:rPr>
              <a:t>Continue until no more such edges can be added</a:t>
            </a:r>
            <a:endParaRPr b="0" lang="en-US" sz="2800" spc="-1" strike="noStrike">
              <a:solidFill>
                <a:srgbClr val="000000"/>
              </a:solidFill>
              <a:latin typeface="Helvetic"/>
            </a:endParaRPr>
          </a:p>
        </p:txBody>
      </p:sp>
      <p:sp>
        <p:nvSpPr>
          <p:cNvPr id="156" name=""/>
          <p:cNvSpPr/>
          <p:nvPr/>
        </p:nvSpPr>
        <p:spPr>
          <a:xfrm>
            <a:off x="5402160" y="1800360"/>
            <a:ext cx="4319640" cy="1800000"/>
          </a:xfrm>
          <a:prstGeom prst="roundRect">
            <a:avLst>
              <a:gd name="adj" fmla="val 88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554960" y="3784680"/>
            <a:ext cx="1440" cy="352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119640" y="2165400"/>
            <a:ext cx="105120" cy="10476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91280" y="2381400"/>
            <a:ext cx="104760" cy="10476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904000" y="3065400"/>
            <a:ext cx="104760" cy="10476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9070920" y="2130480"/>
            <a:ext cx="104760" cy="10476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523280" y="3209760"/>
            <a:ext cx="104760" cy="10512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604360" y="1986120"/>
            <a:ext cx="104760" cy="10476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264360" y="2633760"/>
            <a:ext cx="104760" cy="10476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402160" y="4321080"/>
            <a:ext cx="4319640" cy="1800360"/>
          </a:xfrm>
          <a:prstGeom prst="roundRect">
            <a:avLst>
              <a:gd name="adj" fmla="val 88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119640" y="4686480"/>
            <a:ext cx="105120" cy="10476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091280" y="4902120"/>
            <a:ext cx="104760" cy="10476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904000" y="5586480"/>
            <a:ext cx="104760" cy="10476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072720" y="4649760"/>
            <a:ext cx="104760" cy="10476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524720" y="5730840"/>
            <a:ext cx="104760" cy="10476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604360" y="4506840"/>
            <a:ext cx="104760" cy="10476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264360" y="5154480"/>
            <a:ext cx="104760" cy="10476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402160" y="4319640"/>
            <a:ext cx="717480" cy="377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5402160" y="5688000"/>
            <a:ext cx="509760" cy="4334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402160" y="4319640"/>
            <a:ext cx="874800" cy="847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402160" y="4319640"/>
            <a:ext cx="509760" cy="12650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8700840" y="4319640"/>
            <a:ext cx="1020600" cy="195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6222960" y="4603320"/>
            <a:ext cx="2387520" cy="954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5400360" y="4316040"/>
            <a:ext cx="3213000" cy="2127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702640" y="4592520"/>
            <a:ext cx="378000" cy="777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9172440" y="4317480"/>
            <a:ext cx="547920" cy="3286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5999040" y="5257800"/>
            <a:ext cx="277920" cy="3254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632720" y="5792760"/>
            <a:ext cx="2087640" cy="3254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9147240" y="4749840"/>
            <a:ext cx="574560" cy="1369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 flipV="1">
            <a:off x="7188120" y="4995360"/>
            <a:ext cx="2533680" cy="1125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7189920" y="4747680"/>
            <a:ext cx="1892160" cy="173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222960" y="4788000"/>
            <a:ext cx="874800" cy="142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6222960" y="4708440"/>
            <a:ext cx="2857680" cy="28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184800" y="4788000"/>
            <a:ext cx="130320" cy="3650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002280" y="5675400"/>
            <a:ext cx="1527120" cy="92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5400720" y="5832360"/>
            <a:ext cx="2168640" cy="2872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175520" y="5010120"/>
            <a:ext cx="352440" cy="717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67320" y="5205240"/>
            <a:ext cx="1162080" cy="547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197760" y="4788000"/>
            <a:ext cx="1330200" cy="9525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60360" y="360360"/>
            <a:ext cx="997272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1" i="1" lang="en-GB" sz="3600" spc="-1" strike="noStrike">
                <a:solidFill>
                  <a:srgbClr val="800000"/>
                </a:solidFill>
                <a:latin typeface="Helvetic"/>
              </a:rPr>
              <a:t>Delaunay Triangulations</a:t>
            </a:r>
            <a:endParaRPr b="1" i="1" lang="en-US" sz="3600" spc="-1" strike="noStrike">
              <a:solidFill>
                <a:srgbClr val="ffffff"/>
              </a:solidFill>
              <a:latin typeface="Helvet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78000" y="1561680"/>
            <a:ext cx="482256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3280" indent="-432000">
              <a:lnSpc>
                <a:spcPct val="93000"/>
              </a:lnSpc>
              <a:spcAft>
                <a:spcPts val="1412"/>
              </a:spcAft>
              <a:buSzPct val="100000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Helvetic"/>
              </a:rPr>
              <a:t>Triangulations where the minimum interior angle of all triangles is maximized</a:t>
            </a:r>
            <a:endParaRPr b="0" lang="en-US" sz="2800" spc="-1" strike="noStrike">
              <a:solidFill>
                <a:srgbClr val="000000"/>
              </a:solidFill>
              <a:latin typeface="Helvetic"/>
            </a:endParaRPr>
          </a:p>
          <a:p>
            <a:pPr marL="503280" indent="-432000">
              <a:lnSpc>
                <a:spcPct val="93000"/>
              </a:lnSpc>
              <a:spcAft>
                <a:spcPts val="1412"/>
              </a:spcAft>
              <a:buSzPct val="100000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Helvetic"/>
              </a:rPr>
              <a:t>Makes “nice” triangulation, tends to avoid thin, sliver-like triangles</a:t>
            </a:r>
            <a:endParaRPr b="0" lang="en-US" sz="2800" spc="-1" strike="noStrike">
              <a:solidFill>
                <a:srgbClr val="000000"/>
              </a:solidFill>
              <a:latin typeface="Helvetic"/>
            </a:endParaRPr>
          </a:p>
          <a:p>
            <a:pPr marL="503280" indent="-432000">
              <a:lnSpc>
                <a:spcPct val="93000"/>
              </a:lnSpc>
              <a:spcAft>
                <a:spcPts val="1412"/>
              </a:spcAft>
              <a:buSzPct val="100000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Helvetic"/>
              </a:rPr>
              <a:t>Can be done locally by “edge flipping” diagonals across quadrilaterals</a:t>
            </a:r>
            <a:endParaRPr b="0" lang="en-US" sz="2800" spc="-1" strike="noStrike">
              <a:solidFill>
                <a:srgbClr val="000000"/>
              </a:solidFill>
              <a:latin typeface="Helvetic"/>
            </a:endParaRPr>
          </a:p>
        </p:txBody>
      </p:sp>
      <p:sp>
        <p:nvSpPr>
          <p:cNvPr id="197" name=""/>
          <p:cNvSpPr/>
          <p:nvPr/>
        </p:nvSpPr>
        <p:spPr>
          <a:xfrm>
            <a:off x="7091280" y="2238480"/>
            <a:ext cx="104760" cy="10476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178920" y="2489040"/>
            <a:ext cx="104760" cy="10476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515280" y="2849400"/>
            <a:ext cx="104760" cy="10476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631280" y="3425760"/>
            <a:ext cx="104760" cy="10476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6602400" y="2333520"/>
            <a:ext cx="495360" cy="525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615000" y="2948040"/>
            <a:ext cx="1017720" cy="4824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202520" y="2297160"/>
            <a:ext cx="1982880" cy="195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7737480" y="2595600"/>
            <a:ext cx="1447920" cy="8380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091280" y="4541760"/>
            <a:ext cx="104760" cy="10476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178920" y="4794120"/>
            <a:ext cx="104760" cy="10476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515280" y="5153040"/>
            <a:ext cx="104760" cy="10476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631280" y="5729400"/>
            <a:ext cx="104760" cy="10476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6602400" y="4636800"/>
            <a:ext cx="495360" cy="5252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615000" y="5253120"/>
            <a:ext cx="1017720" cy="4824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202520" y="4600440"/>
            <a:ext cx="1982880" cy="195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7737480" y="4898520"/>
            <a:ext cx="1447920" cy="8384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162920" y="4645080"/>
            <a:ext cx="509400" cy="10825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6615000" y="2543040"/>
            <a:ext cx="2570400" cy="3556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915320" y="3784680"/>
            <a:ext cx="1440" cy="53496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